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EC1-CDDF-4679-B0FD-4B63FE3D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4CE-2351-4B9A-89D2-67A49555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C55-DE9B-4A37-BF84-21875681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4EB-4D84-460E-9492-E2CD8284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F00-59E4-449A-8054-5CD6678C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835-5AEB-485C-9812-EB6F01AE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042-0D7F-45F8-B83C-81634538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D85-6BDB-48C9-B38E-FE2776D2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CFF-B5FF-42A1-ABA0-70243D3A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ADB-7FFE-4F01-9747-CCFA661A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BC0-183D-4CEB-B53C-AD132968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0E3-453D-4F63-BB7C-984A2A17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1E76-9541-450C-9975-4C6E2E941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ovk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3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62480" y="6461280"/>
            <a:ext cx="567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Část komunikační sítě popsané orientovaným graf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ovky2" descr=""/>
          <p:cNvPicPr/>
          <p:nvPr/>
        </p:nvPicPr>
        <p:blipFill>
          <a:blip r:embed="rId1"/>
          <a:stretch/>
        </p:blipFill>
        <p:spPr>
          <a:xfrm>
            <a:off x="0" y="1371600"/>
            <a:ext cx="8763120" cy="420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81200" y="6461280"/>
            <a:ext cx="43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unikační síť bez standardních vol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676520" y="380880"/>
          <a:ext cx="5805360" cy="609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80536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vzhled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6104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5:49:14Z</dcterms:created>
  <dc:creator>Honzíček Pavelka</dc:creator>
  <dc:description/>
  <dc:language>en-US</dc:language>
  <cp:lastModifiedBy>Jiri Vorisek</cp:lastModifiedBy>
  <dcterms:modified xsi:type="dcterms:W3CDTF">2000-03-25T13:03:32Z</dcterms:modified>
  <cp:revision>6</cp:revision>
  <dc:subject/>
  <dc:title>Bez nadpisu</dc:title>
</cp:coreProperties>
</file>