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9A8-72F2-451E-BACE-B9ECB67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357-224A-4A6C-8EF5-7B9DE7F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3B0-1A65-4E08-A847-5B7A0286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273-D77C-4A72-93E4-0574D283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69C-87D0-4146-9258-F2CC2584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413-2B83-49A8-A27D-6CB66C5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6AD-310B-4A4E-B3A0-CB55272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EBA-B7FA-45F6-9FB0-B156795B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210-D130-499F-B6F0-090F0544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88C-3F76-4171-8627-74D583D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DD9-8002-4D02-8CE8-980CC5C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707-58A1-4661-8A27-8CE3245D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B79-9549-44D7-B490-42D4A843B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DE        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TASTIC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ůjčování filmů na videokazetách a 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685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ce o zákazníko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8160" indent="-668160">
              <a:spcBef>
                <a:spcPts val="799"/>
              </a:spcBef>
              <a:buClr>
                <a:srgbClr val="000000"/>
              </a:buClr>
              <a:buFont typeface="Web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dování profilu zákazní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8160" indent="-668160">
              <a:spcBef>
                <a:spcPts val="799"/>
              </a:spcBef>
              <a:buClr>
                <a:srgbClr val="000000"/>
              </a:buClr>
              <a:buFont typeface="Web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bídka titulů dle zaměření  zákazní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8160" indent="-668160">
              <a:spcBef>
                <a:spcPts val="799"/>
              </a:spcBef>
              <a:buClr>
                <a:srgbClr val="000000"/>
              </a:buClr>
              <a:buFont typeface="Web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již půjčených titu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8160" indent="-668160">
              <a:spcBef>
                <a:spcPts val="799"/>
              </a:spcBef>
              <a:buClr>
                <a:srgbClr val="000000"/>
              </a:buClr>
              <a:buFont typeface="Web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hodnocení nejlepšího kli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ém pro zákazní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nadná ovladatelnost progra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žnost nahlédnutí do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jištění stavu videokaz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pozornění na opakovanou výpůjč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větivé uživatelské rozhra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robnější informace můžete žádat na adre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ujcov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@email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ah této prezentace je zveřejněn 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ttp://jms.vse.cz/~xkecm01/it211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ěšíme se na vaše nabídky a doufáme v oboustranně výhodnou spoluprác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ěco o fir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me mladá prosperující firma, fungující na trhu již dva roky. Dosud jsme podnikali bez informačního systému. V zájmu vyrovnání se konkurenci a dosažení lepších obchodních výsledků jsme se rozhodli zavést nový informační systém, který nám umožní zvýšit efektivitu prá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ktura fir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časná 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rovozo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racovníků v provozov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administrativních pracovní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500 titul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zákazní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dodavate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doucí 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rovozov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ální množství pracovníků v provozov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000 titu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árůst klien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šíření dodavate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íle fir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šíření o 3 poboč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vedení 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ýšení počtu výpůjč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šíření klien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šíření sítě nabí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pokojování individuálních požadavků zákazní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wb00487_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wb00487_" descr=""/>
          <p:cNvPicPr/>
          <p:nvPr/>
        </p:nvPicPr>
        <p:blipFill>
          <a:blip r:embed="rId3"/>
          <a:stretch/>
        </p:blipFill>
        <p:spPr>
          <a:xfrm>
            <a:off x="57913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wb00487_" descr=""/>
          <p:cNvPicPr/>
          <p:nvPr/>
        </p:nvPicPr>
        <p:blipFill>
          <a:blip r:embed="rId4"/>
          <a:stretch/>
        </p:blipFill>
        <p:spPr>
          <a:xfrm>
            <a:off x="29718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wb00487_" descr=""/>
          <p:cNvPicPr/>
          <p:nvPr/>
        </p:nvPicPr>
        <p:blipFill>
          <a:blip r:embed="rId5"/>
          <a:stretch/>
        </p:blipFill>
        <p:spPr>
          <a:xfrm>
            <a:off x="1295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wb00487_" descr=""/>
          <p:cNvPicPr/>
          <p:nvPr/>
        </p:nvPicPr>
        <p:blipFill>
          <a:blip r:embed="rId6"/>
          <a:stretch/>
        </p:blipFill>
        <p:spPr>
          <a:xfrm>
            <a:off x="12952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wb00487_" descr=""/>
          <p:cNvPicPr/>
          <p:nvPr/>
        </p:nvPicPr>
        <p:blipFill>
          <a:blip r:embed="rId7"/>
          <a:stretch/>
        </p:blipFill>
        <p:spPr>
          <a:xfrm>
            <a:off x="12952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wb00487_" descr=""/>
          <p:cNvPicPr/>
          <p:nvPr/>
        </p:nvPicPr>
        <p:blipFill>
          <a:blip r:embed="rId8"/>
          <a:stretch/>
        </p:blipFill>
        <p:spPr>
          <a:xfrm>
            <a:off x="12952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wb00487_" descr=""/>
          <p:cNvPicPr/>
          <p:nvPr/>
        </p:nvPicPr>
        <p:blipFill>
          <a:blip r:embed="rId9"/>
          <a:stretch/>
        </p:blipFill>
        <p:spPr>
          <a:xfrm>
            <a:off x="12952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wb00487_" descr=""/>
          <p:cNvPicPr/>
          <p:nvPr/>
        </p:nvPicPr>
        <p:blipFill>
          <a:blip r:embed="rId10"/>
          <a:stretch/>
        </p:blipFill>
        <p:spPr>
          <a:xfrm>
            <a:off x="1295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ová evidence videoka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propojení jednotlivých poboč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nické spojení s dodavat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áze informací o zákazní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řístup pro klienty i zaměstnance do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b00482_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wb00482_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wb00482_" descr=""/>
          <p:cNvPicPr/>
          <p:nvPr/>
        </p:nvPicPr>
        <p:blipFill>
          <a:blip r:embed="rId4"/>
          <a:stretch/>
        </p:blipFill>
        <p:spPr>
          <a:xfrm>
            <a:off x="144792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wb00482_" descr=""/>
          <p:cNvPicPr/>
          <p:nvPr/>
        </p:nvPicPr>
        <p:blipFill>
          <a:blip r:embed="rId5"/>
          <a:stretch/>
        </p:blipFill>
        <p:spPr>
          <a:xfrm>
            <a:off x="1447920" y="3581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wb00482_" descr=""/>
          <p:cNvPicPr/>
          <p:nvPr/>
        </p:nvPicPr>
        <p:blipFill>
          <a:blip r:embed="rId6"/>
          <a:stretch/>
        </p:blipFill>
        <p:spPr>
          <a:xfrm>
            <a:off x="1447920" y="4114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dence videokazet a DV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ované polož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hyb videokaz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hodnocování poptávky po titul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čítání výpůjček zákazníkovi v rámci různých bonus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jení poboč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e výskytu videokazety v rámci poboč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ištění dodávky videokazety z jiné poboč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změn osobních údajů zákazní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wb00485_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wb00485_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wb00485_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ktronické spojení s dodavate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st objednávky elektronickou form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uální nabídka nových titu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 titu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hodnocení nejprodávanějších titu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živatelské požada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 hlediska zaměstnance provoz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nadné ovládání programového vybavení a vhodné uživatelské rozhra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rychlení výpůjč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ezporuchový chod progr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žnost obrátit se na řešitele s problé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0:53:34Z</dcterms:created>
  <dc:creator>Učebny</dc:creator>
  <dc:description/>
  <dc:language>en-US</dc:language>
  <cp:lastModifiedBy>Učebny</cp:lastModifiedBy>
  <dcterms:modified xsi:type="dcterms:W3CDTF">1999-10-05T09:56:19Z</dcterms:modified>
  <cp:revision>5</cp:revision>
  <dc:subject/>
  <dc:title>VIDE        FANTASTICA</dc:title>
</cp:coreProperties>
</file>