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F73-14F4-4625-9E54-EC9807AB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57C-EA7F-457E-8FA6-AA04C7B8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335-B4C6-44EB-BE6B-AEC0181B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B3F-5A98-4FDD-A167-0840E4E0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E35A-7A48-486F-B2CC-2F52A723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C83B-9E1B-444B-9BF9-41CE5A89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4632-4996-4E56-AD27-5D2810B9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AA8D-50B7-40B8-A5EE-A094108D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7C83-CA1F-42DF-95B6-2984D017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8B2F-F696-474C-A4B1-0ACE8729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DB6C-7A88-4F8F-8FDD-3A9CAD78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CC3-D80E-46C4-BF47-8F4FC452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D379-7CA0-4FE5-9083-D64AEA7F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07B7-FBF5-4ACE-8AE6-17A0931F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2399-C112-4C73-AA9F-E7C4E417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9AB5-68AF-4710-B2EF-68C1D555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16EE-7C2A-4062-AA46-E3D84814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297-A821-41EB-9FA7-E763F25F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F8E-5FC4-4CAD-A869-96D1F6F5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A30-E900-4ECD-935E-CE7DD65F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F22-F33F-49C0-840D-2E5B86A2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C03-C0D0-423C-B96F-F61D1903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89F-EDA7-41F9-A8C0-E4CE905B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2C8-F72A-4EE4-94DD-56F9B20D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655A-39ED-43B1-B3A6-542A5766BF6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F6E3-2D58-47A2-B51C-906E1FE3EE9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ávrh a vývoj IS/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 rot="21253800">
            <a:off x="2590560" y="1676520"/>
            <a:ext cx="4800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9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olvers  s.r.o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212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še zakázky posílejte na adres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pujcovna@email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uto prezentaci můžete nalézt na WWW adres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http://jms.vse.cz/~xkecm01/it211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ěšíme se na  spolupráci s vámi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pis fir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sme mladá firma působící již pět let v oblasti návrhu a vývoje IS/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Úspěšně vyvíjíme IS pro naše zákazníky z celé ČR, výjimečně působíme i  na zahraničních trzí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 oblasti IT jsme známí především díky efektivnosti naší práce, rychlosti a kvalitě řeš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uktura fir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47920" y="2666880"/>
          <a:ext cx="6586560" cy="24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666880"/>
                    <a:ext cx="658656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še zkušenosti s IS/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izace na mobilní komunikace -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-line propojení vzdálených lokal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dování velkokapacitních databází pro potřeby našich klien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adenství při volbě organizace firemní struk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bídka pro firmu FOURTOU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áš informační  systém by mohl zajist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vedení podnikové sí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řízení centrální databáze v ústředí, on-line přístup z poboč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provoznění WWW serveru pro objednávání ze sítě  Internet a prezentaci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ýhody našeho řešen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vedení přímé komunikace mezi pobočkami a centrálou pomocí jednotného IS odstraní duplicitu ukládaných dat a zároveň umožní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lépe obsazovat kapacit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dnotlivých zájez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alace WWW serveru s prezentací firmy a                        objednávkovým systéme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zvýš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zpochyby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klientelu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ásledně i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br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Times New Roman"/>
              </a:rPr>
              <a:t>Navrhované řešení pro firmu InterFernet.cz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vedení jednotného vnitropodnikového IS pro zlepšení komunikace mezi jednotlivými úse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řízení centrální databáze klientů pro potřeby marketingového od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řednosti tohoto návrh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otný  IS odstraní komunikační problémy v rámci podniku a zároveň bude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integrovat informa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e všech odděl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istence systému pro uchovávání dat o zákaznících povede ke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zvýšení efektiv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ři individuální práci se zákazník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íky automatizaci práce se výrazně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níží náklad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a administrativu a tí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vzroste i konkurenceschop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irmy na dynamickém trhu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formace  o vypracování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 14 dnů dodáme podrobný návrh řešení požadovaného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žadujeme 5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lohu pře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 zavedení IS poskytujeme zaškolení pracovníků zdar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bízíme i pozáruční serv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3:03:14Z</dcterms:created>
  <dc:creator>Učebny</dc:creator>
  <dc:description/>
  <dc:language>en-US</dc:language>
  <cp:lastModifiedBy>xkecm01</cp:lastModifiedBy>
  <dcterms:modified xsi:type="dcterms:W3CDTF">1999-10-08T12:28:35Z</dcterms:modified>
  <cp:revision>10</cp:revision>
  <dc:subject/>
  <dc:title>Solvers s.r.o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jms.vse.cz/~xkecm01/it211/</vt:lpwstr>
  </property>
  <property fmtid="{D5CDD505-2E9C-101B-9397-08002B2CF9AE}" pid="9" name="LinkColor">
    <vt:r8>16711782</vt:r8>
  </property>
  <property fmtid="{D5CDD505-2E9C-101B-9397-08002B2CF9AE}" pid="10" name="MailAddress">
    <vt:lpwstr>pujcovna@email.cz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xkecm01\Dokumenty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