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4A5-AA8A-475B-AC68-5F8F08A5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36C-9650-4473-B736-A1AD231C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68F-957A-4AE4-9037-8F6DE4C5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48B-15C4-4314-9887-29469EDC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262-DCF0-4FB3-9B78-55FF8117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998-791D-4FB9-9C36-172A5E1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0C5-7560-43B0-8F83-06774243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B10-83BE-486B-9822-7AE8A836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AB5F-7FB7-4B6D-8FF7-A38A21F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D16D-0227-4B6E-8A3E-ED76D31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02B7-F9CA-4C18-8063-4C31E9C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E30-F089-4881-A43F-0591B515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83F1-D3AD-4D76-9880-B232BB2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E1A5-D443-4D22-BC3D-3D131E4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502-F043-4C7A-BACD-BC848BF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FDD2-AEC9-4D40-9AE5-C324E116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539-6B9C-4ED6-A3CA-1BEFCFD1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F9B-4CF8-4FE1-87E0-FB33888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F0A-AB79-4788-9F95-30FE5E4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E2C-62FB-421F-AC5D-3C997D79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642-E9BA-4B22-8F9B-BDBCAA3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61D-F256-4F5F-8351-D27BFCC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42C-5A1A-4CDE-A857-8215352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638-FEEC-4E2C-8574-4E2A096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E8D-7428-44A0-9EE6-B8AD26C9D17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970A-0E48-462B-98CC-06DF29C3A6A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etruv@email.cz" TargetMode="External"/><Relationship Id="rId2" Type="http://schemas.openxmlformats.org/officeDocument/2006/relationships/hyperlink" Target="mailto:petruv@email.cz" TargetMode="External"/><Relationship Id="rId3" Type="http://schemas.openxmlformats.org/officeDocument/2006/relationships/hyperlink" Target="mailto:petruv@email.cz" TargetMode="External"/><Relationship Id="rId4" Type="http://schemas.openxmlformats.org/officeDocument/2006/relationships/hyperlink" Target="mailto:petruv@email.cz" TargetMode="External"/><Relationship Id="rId5" Type="http://schemas.openxmlformats.org/officeDocument/2006/relationships/hyperlink" Target="mailto:petruv@email.cz" TargetMode="External"/><Relationship Id="rId6" Type="http://schemas.openxmlformats.org/officeDocument/2006/relationships/hyperlink" Target="mailto:Michal.Kec@seznam.cz" TargetMode="External"/><Relationship Id="rId7" Type="http://schemas.openxmlformats.org/officeDocument/2006/relationships/hyperlink" Target="mailto:Michal.Kec@seznam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sorry.vse.cz/~xkecm01/p_links.php" TargetMode="External"/><Relationship Id="rId3" Type="http://schemas.openxmlformats.org/officeDocument/2006/relationships/hyperlink" Target="http://sorry.vse.cz/~xkecm01/p_links.php" TargetMode="External"/><Relationship Id="rId4" Type="http://schemas.openxmlformats.org/officeDocument/2006/relationships/hyperlink" Target="http://sorry.vse.cz/~xkecm01/p_links.php" TargetMode="External"/><Relationship Id="rId5" Type="http://schemas.openxmlformats.org/officeDocument/2006/relationships/hyperlink" Target="http://sorry.vse.cz/~xkecm01/p_links.php" TargetMode="External"/><Relationship Id="rId6" Type="http://schemas.openxmlformats.org/officeDocument/2006/relationships/hyperlink" Target="http://sorry.vse.cz/~xkecm01/p_links.php" TargetMode="External"/><Relationship Id="rId7" Type="http://schemas.openxmlformats.org/officeDocument/2006/relationships/hyperlink" Target="http://sorry.vse.cz/~xkecm01/p_links.php" TargetMode="External"/><Relationship Id="rId8" Type="http://schemas.openxmlformats.org/officeDocument/2006/relationships/hyperlink" Target="http://sorry.vse.cz/~xkecm01/p_links.php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Prezentace seminární práce na téma:</a:t>
            </a:r>
            <a:br>
              <a:rPr sz="40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nalýza stavu a vývoje B2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část 1: struktura seminární práce a její zdroj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572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Řízení informatiky a systémová integrace - IT5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dstavení tým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tr Rovn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1"/>
              </a:rPr>
              <a:t>XRovP01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2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3"/>
              </a:rPr>
              <a:t>vse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5"/>
              </a:rPr>
              <a:t>cz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l Kec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6"/>
              </a:rPr>
              <a:t>Michal.Kec@seznam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7"/>
              </a:rPr>
              <a:t>cz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pracovávané téma: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nalýza stavu a vývoje B2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ientace na trh se spotřebním zbož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rovnání různých technologických gener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vě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eská Republ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 mezi odvětví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ádaný vývoj v budouc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 prá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asnění pojmu B2C - co všechno se za ním skrý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m se ubírá B2C a jaká nás čeká budouc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e se B2C nejlépe uplat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95840" y="1981080"/>
            <a:ext cx="191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dpokládaná struktura prá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vod do problematiky B2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rický přehled a vývojové tren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ecifika vývoje v ČR a jeho příči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úspěšnější aplikace B2C v Č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znam zdrojů a shr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rovnání aplikace B2C v Č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le šíře sortimen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le použité techno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le ekonomických ukazatelů (obrat, počet zákazníků,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WOT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ttp://www.park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ttp://www.deloittece.co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 aplika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 B2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asopis Systémová integr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asopis C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asopis Computer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ěkujeme za Vaši pozornos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14012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85560" y="4495680"/>
            <a:ext cx="6592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to prezentace je k dispozici na Internetu na adr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2"/>
              </a:rPr>
              <a:t>http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Courier New"/>
                <a:hlinkClick r:id="rId3"/>
              </a:rPr>
              <a:t>://sorry.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Courier New"/>
                <a:hlinkClick r:id="rId4"/>
              </a:rPr>
              <a:t>vse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Courier New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Courier New"/>
                <a:hlinkClick r:id="rId6"/>
              </a:rPr>
              <a:t>cz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Courier New"/>
                <a:hlinkClick r:id="rId7"/>
              </a:rPr>
              <a:t>/~xkecm01/p_links.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Courier New"/>
                <a:hlinkClick r:id="rId8"/>
              </a:rPr>
              <a:t>ph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7:41:26Z</dcterms:created>
  <dc:creator>Michal Kec</dc:creator>
  <dc:description/>
  <dc:language>en-US</dc:language>
  <cp:lastModifiedBy>Michal Kec</cp:lastModifiedBy>
  <dcterms:modified xsi:type="dcterms:W3CDTF">2002-03-13T22:06:07Z</dcterms:modified>
  <cp:revision>5</cp:revision>
  <dc:subject/>
  <dc:title>Prezentace seminární práce na téma: Analýza stavu a vývoje B2C</dc:title>
</cp:coreProperties>
</file>