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61B-F03B-4AA7-87E8-17DD8355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1BB-0382-4621-9F8D-DAAEA396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A5E3-5199-4EA8-9643-C1B64B63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08C-3501-493F-9860-9906BAEC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5C0B-CA65-4ACE-8899-8F6D3BC9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24B6-E5FA-4E2F-ABD6-01314BDC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4C5A-9ECD-4356-A407-4F93D62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A4412-8B12-4EAE-A323-E8F30B9B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4063-941F-4222-A895-9D464DCE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5B8CA-3BE5-4CF4-B2FA-F131A22A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C47E-56D0-4DAD-8002-0BEC17E0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D92F-D713-4D1C-9B0B-2A717116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B98C-689E-4039-BB13-7196C5C3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5D9E-7551-4316-AEBD-DA67DCF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2A28-AD44-4B26-A4E7-30677C2D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E9DD-2931-44B5-BAFF-CD1DDDAA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120B-0FA1-45DA-A7A9-E190B8277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796-3917-4578-ADEB-4E8CAEC8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5C5D-4BE8-43ED-BC79-91DB26B0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FE93-1F06-46D8-991B-6789CD3F8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71B0-CDF4-4DE5-988E-6BC6991F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B244-652E-48F4-81C9-EED32EE4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914A-83A7-4EA4-8961-C124FBC3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1D7-D9FF-48B6-9186-82352E81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51A5-5A73-405F-B6EF-16E2815DDA4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50CB-7D8F-40C4-B878-4B0160FB0665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mailto:petruv@email.cz" TargetMode="External"/><Relationship Id="rId3" Type="http://schemas.openxmlformats.org/officeDocument/2006/relationships/hyperlink" Target="mailto:petruv@email.cz" TargetMode="External"/><Relationship Id="rId4" Type="http://schemas.openxmlformats.org/officeDocument/2006/relationships/hyperlink" Target="mailto:petruv@email.cz" TargetMode="External"/><Relationship Id="rId5" Type="http://schemas.openxmlformats.org/officeDocument/2006/relationships/hyperlink" Target="mailto:petruv@email.cz" TargetMode="External"/><Relationship Id="rId6" Type="http://schemas.openxmlformats.org/officeDocument/2006/relationships/hyperlink" Target="mailto:petruv@email.cz" TargetMode="External"/><Relationship Id="rId7" Type="http://schemas.openxmlformats.org/officeDocument/2006/relationships/hyperlink" Target="mailto:Michal.Kec@seznam.cz" TargetMode="External"/><Relationship Id="rId8" Type="http://schemas.openxmlformats.org/officeDocument/2006/relationships/hyperlink" Target="mailto:Michal.Kec@seznam.cz" TargetMode="Externa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66"/>
                </a:solidFill>
                <a:latin typeface="Times New Roman"/>
              </a:rPr>
              <a:t>Prezentace seminární práce na téma: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nalýza stavu a vývoje B2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(část 2: nejzajímavější výsledky práce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45720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Times New Roman"/>
              </a:rPr>
              <a:t>Řízení informatiky a systémová integrace - IT58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Nejdůležitější kritérium při výběru obchod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80880" y="2048040"/>
          <a:ext cx="8382240" cy="43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48040"/>
                    <a:ext cx="838224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Jaký druh platby upřednostnít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1976400"/>
          <a:ext cx="8534520" cy="488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76400"/>
                    <a:ext cx="853452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8600" y="3395520"/>
            <a:ext cx="1609560" cy="34624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Jaký typ obchodu budete preferovat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84320" y="1600200"/>
          <a:ext cx="8059680" cy="4683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4320" y="1600200"/>
                    <a:ext cx="8059680" cy="46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ásady úspěch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ěco navíc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dnoduchost a přívětivost nákup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ůvěryhodno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iroké možnosti platb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dod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5050"/>
              </a:buClr>
              <a:buSzPct val="1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ižší ce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724280" y="4038480"/>
          <a:ext cx="396252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4038480"/>
                    <a:ext cx="39625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zdro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ttp://www.park.c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ttp://www.deloittece.com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WW aplika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 B2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asopis Systémová integr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borné časopis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lastní šetření mezi studen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etr Stuchlík, Martin Dvořáček – Marketing na Internet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iří Sedláček – Internet II Komerční využit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943600" y="14479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 prezent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85560" y="4876920"/>
            <a:ext cx="6592320" cy="14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Tato prezentace je k dispozici na Internetu na adre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66ff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3366ff"/>
                </a:solidFill>
                <a:latin typeface="Courier New"/>
              </a:rPr>
              <a:t>://sorry.vse.cz/~xkecm01/p_links.ph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9900"/>
                </a:solidFill>
                <a:latin typeface="Times New Roman"/>
              </a:rPr>
              <a:t>Na stejné adrese bude i plné znění seminární prác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57600" y="342864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ěkujeme za Vaši pozornost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228600" y="1371600"/>
          <a:ext cx="50497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0497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966000" y="4191120"/>
            <a:ext cx="217800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dstavení tým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etr Rovný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2"/>
              </a:rPr>
              <a:t>XRovP01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3"/>
              </a:rPr>
              <a:t>@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4"/>
              </a:rPr>
              <a:t>vse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5"/>
              </a:rPr>
              <a:t>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6"/>
              </a:rPr>
              <a:t>cz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Michal Kec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lt;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7"/>
              </a:rPr>
              <a:t>Michal.Kec@seznam.</a:t>
            </a:r>
            <a:r>
              <a:rPr b="0" lang="cs-CZ" sz="2000" spc="-1" strike="noStrike" u="sng">
                <a:solidFill>
                  <a:srgbClr val="3366ff"/>
                </a:solidFill>
                <a:uFillTx/>
                <a:latin typeface="Courier New"/>
                <a:hlinkClick r:id="rId8"/>
              </a:rPr>
              <a:t>cz</a:t>
            </a:r>
            <a:r>
              <a:rPr b="0" lang="cs-CZ" sz="2800" spc="-1" strike="noStrike">
                <a:solidFill>
                  <a:srgbClr val="ffffff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Využití Internetu pro obcho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net jako distribuční kaná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nform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zábava, erot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hud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net jen jako místo nákup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Možnost zasílat výrobek na jinou adres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Dárková služb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časnost dodáv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Vývojové trendy technologi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atické HTML jako jednoduchý „obchod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chod jako dynamická webová apl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lastní obchod bez nám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Obchod „v podnájmu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pecifika vývoje v Č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ysoká cena za připoje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dostatečná rychl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Internet: doména mužů a mladých lid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ízké povědomí, absence propag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Nedůvěryhodnost, nepřehledn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obří a špatní hráči B2C v ČR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1. kolo: leten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00cc00"/>
                </a:solidFill>
                <a:latin typeface="Wingdings"/>
                <a:ea typeface="Wingdings"/>
              </a:rPr>
              <a:t>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Fractal s.r.o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www.fractal.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5050"/>
                </a:solidFill>
                <a:latin typeface="Wingdings"/>
                <a:ea typeface="Wingdings"/>
              </a:rPr>
              <a:t>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LETENKY.CZ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www.letenky.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obří a špatní hráči B2C v ČR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2. kolo: elektronik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00cc00"/>
                </a:solidFill>
                <a:latin typeface="Wingdings"/>
                <a:ea typeface="Wingdings"/>
              </a:rPr>
              <a:t>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K.D. Marketing s.r.o.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www.obchodnidum.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5050"/>
                </a:solidFill>
                <a:latin typeface="Wingdings"/>
                <a:ea typeface="Wingdings"/>
              </a:rPr>
              <a:t>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udio video elektro AV Elektroobchod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avelektro.inshop.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obří a špatní hráči B2C v ČR</a:t>
            </a:r>
            <a:br>
              <a:rPr sz="4400"/>
            </a:b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3. kolo: hudební nosič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00cc00"/>
                </a:solidFill>
                <a:latin typeface="Wingdings"/>
                <a:ea typeface="Wingdings"/>
              </a:rPr>
              <a:t>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lbumCity.com Inc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www.albumcity.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ff5050"/>
                </a:solidFill>
                <a:latin typeface="Wingdings"/>
                <a:ea typeface="Wingdings"/>
              </a:rPr>
              <a:t>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vět hudby  „U Slunce“</a:t>
            </a:r>
            <a:br>
              <a:rPr sz="3200"/>
            </a:b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(www.uslunce.cz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nketa provedená mezi student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638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v k 7.5.200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sloveno cca 2000 studentů VŠ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cc66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dpověď od 281 z n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809880" y="3276720"/>
          <a:ext cx="4800600" cy="296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276720"/>
                    <a:ext cx="4800600" cy="29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17:01:54Z</dcterms:created>
  <dc:creator>Michal Kec</dc:creator>
  <dc:description/>
  <dc:language>en-US</dc:language>
  <cp:lastModifiedBy>Michal Kec</cp:lastModifiedBy>
  <dcterms:modified xsi:type="dcterms:W3CDTF">2002-05-12T20:37:00Z</dcterms:modified>
  <cp:revision>13</cp:revision>
  <dc:subject/>
  <dc:title>Prezentace seminární práce na téma: Analýza stavu a vývoje B2C</dc:title>
</cp:coreProperties>
</file>