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198-FA14-4FDF-A8D2-B0A9B916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DB1-924A-4227-9DD0-F0FF1DB9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347C-3B25-4F85-A4EE-4762D896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FA2-F07B-453B-BF69-B613814A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A69C-7B55-484C-8A58-BA8C483D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E38F-058F-4229-91D5-9AB5C9A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4A1-DC28-4521-A5B8-9FE08E79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EAD3-3BCC-45CE-9968-7D7650C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5799-FF00-441F-A82A-A3229255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8F1D-A315-49C1-BC13-245F52A5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C9A3-0E33-42B3-B0A9-6DB1916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092-410A-4A41-AA96-876F3987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DBB-39C2-4D67-88FC-4F0958B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9B8A-F9ED-47A7-B316-C123068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9EEF-62E1-44CF-8361-A8D7F97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006F-4F8E-4A63-B571-B09C5277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F9B3-8851-4ACB-A6E7-1D933B19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10E-E407-4308-B779-11193814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B58-4EE8-4A72-AD9F-412F103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AD6-8C70-4F8D-8E9F-AC18730F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FA0-C309-48C4-8058-6ACF8C0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534-271A-4B2A-9907-1D01C78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DDB-3719-4682-9DAB-907A075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BCE-3947-4B76-82EF-D0934ED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B51-2373-4797-B7AB-367FA24E7A4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2F0-6ADB-48EB-9C86-1C64F31E392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Telekomunikační trh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v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České republ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3057480"/>
            <a:ext cx="3353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ční studie div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FMP inf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LIATEL, a.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TELEF" descr=""/>
          <p:cNvPicPr/>
          <p:nvPr/>
        </p:nvPicPr>
        <p:blipFill>
          <a:blip r:embed="rId1"/>
          <a:stretch/>
        </p:blipFill>
        <p:spPr>
          <a:xfrm>
            <a:off x="5181480" y="30574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enciální konkuren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Český Mobil, a.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ž v těchto dnech by měl startovat svou síť mobilních telefo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able P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větší operátor kabel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yní poskytuje lokálně telefonní služ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enciální konkuren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České Radiokomunikace, a.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vozují multifunkční datovou síť schopnou podporovat telekomunikační služ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Contactel, s.r.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současné době působí v oblasti poskytování datových služ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ce se stát alternativním operát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lší inform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robnější informace můžete nalézt na firemních stránkách: </a:t>
            </a:r>
            <a:r>
              <a:rPr b="0" lang="cs-CZ" sz="2300" spc="-1" strike="noStrike" u="sng">
                <a:solidFill>
                  <a:srgbClr val="99ccff"/>
                </a:solidFill>
                <a:uFillTx/>
                <a:latin typeface="Courier New"/>
              </a:rPr>
              <a:t>http</a:t>
            </a:r>
            <a:r>
              <a:rPr b="0" lang="en-US" sz="2300" spc="-1" strike="noStrike" u="sng">
                <a:solidFill>
                  <a:srgbClr val="99ccff"/>
                </a:solidFill>
                <a:uFillTx/>
                <a:latin typeface="Courier New"/>
              </a:rPr>
              <a:t>://www.aliatel.cz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a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to prezentace je na: </a:t>
            </a:r>
            <a:r>
              <a:rPr b="0" lang="cs-CZ" sz="2200" spc="-1" strike="noStrike" u="sng">
                <a:solidFill>
                  <a:srgbClr val="99ccff"/>
                </a:solidFill>
                <a:uFillTx/>
                <a:latin typeface="Courier New"/>
              </a:rPr>
              <a:t>http</a:t>
            </a:r>
            <a:r>
              <a:rPr b="0" lang="en-US" sz="2200" spc="-1" strike="noStrike" u="sng">
                <a:solidFill>
                  <a:srgbClr val="99ccff"/>
                </a:solidFill>
                <a:uFillTx/>
                <a:latin typeface="Courier New"/>
              </a:rPr>
              <a:t>://sorry.vse.cz/~xkecm01/izi212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plné znění informační studie je ke stažení </a:t>
            </a:r>
            <a:r>
              <a:rPr b="0" lang="en-US" sz="2200" spc="-1" strike="noStrike" u="sng">
                <a:solidFill>
                  <a:srgbClr val="99ccff"/>
                </a:solidFill>
                <a:uFillTx/>
                <a:latin typeface="Courier New"/>
              </a:rPr>
              <a:t>http://sorry.vse.cz/~xkecm01/sw/studie2.zi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íle této prezent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ovat vedení společnosti a marketingové od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asnit současnou situaci na trhu a nastínit možný vývoj v této obla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hodnotit možnosti firmy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Aliat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ři vstupu do odvě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ávající operátoř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Pevné telekomunikační sí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Český Telecom, a.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Mobilní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RadioMobil, a.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EuroTel Praha, s.r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58920" y="3911760"/>
            <a:ext cx="8594640" cy="2879640"/>
            <a:chOff x="358920" y="3911760"/>
            <a:chExt cx="8594640" cy="2879640"/>
          </a:xfrm>
        </p:grpSpPr>
        <p:graphicFrame>
          <p:nvGraphicFramePr>
            <p:cNvPr id="108" name=""/>
            <p:cNvGraphicFramePr/>
            <p:nvPr/>
          </p:nvGraphicFramePr>
          <p:xfrm>
            <a:off x="5715000" y="3911760"/>
            <a:ext cx="3238560" cy="28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911760"/>
                      <a:ext cx="323856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358920" y="4497480"/>
              <a:ext cx="502920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Times New Roman"/>
                </a:rPr>
                <a:t>Vlastnící společnosti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ond Národního Majetku (51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lSource (27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statní (22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Český Telecom, a.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TELECOM" descr=""/>
          <p:cNvPicPr/>
          <p:nvPr/>
        </p:nvPicPr>
        <p:blipFill>
          <a:blip r:embed="rId3"/>
          <a:stretch/>
        </p:blipFill>
        <p:spPr>
          <a:xfrm>
            <a:off x="7197840" y="358920"/>
            <a:ext cx="1485720" cy="84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85760" y="1619280"/>
          <a:ext cx="6918480" cy="2486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760" y="1619280"/>
                    <a:ext cx="6918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358920" y="4038480"/>
            <a:ext cx="8340480" cy="2625840"/>
            <a:chOff x="358920" y="4038480"/>
            <a:chExt cx="8340480" cy="2625840"/>
          </a:xfrm>
        </p:grpSpPr>
        <p:graphicFrame>
          <p:nvGraphicFramePr>
            <p:cNvPr id="116" name=""/>
            <p:cNvGraphicFramePr/>
            <p:nvPr/>
          </p:nvGraphicFramePr>
          <p:xfrm>
            <a:off x="5334120" y="4038480"/>
            <a:ext cx="3365280" cy="262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4038480"/>
                      <a:ext cx="3365280" cy="262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358920" y="4497480"/>
              <a:ext cx="441936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Times New Roman"/>
                </a:rPr>
                <a:t>Vlastnící společnosti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Český Telecom (51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tlantic West B.V. (49 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uroTel Praha, s.r.o.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ET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923840" cy="9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9280" y="1619280"/>
          <a:ext cx="6481800" cy="310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619280"/>
                    <a:ext cx="648180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58920" y="3809880"/>
            <a:ext cx="8429400" cy="2876760"/>
            <a:chOff x="358920" y="3809880"/>
            <a:chExt cx="8429400" cy="2876760"/>
          </a:xfrm>
        </p:grpSpPr>
        <p:graphicFrame>
          <p:nvGraphicFramePr>
            <p:cNvPr id="124" name=""/>
            <p:cNvGraphicFramePr/>
            <p:nvPr/>
          </p:nvGraphicFramePr>
          <p:xfrm>
            <a:off x="5334120" y="3809880"/>
            <a:ext cx="3454200" cy="287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3809880"/>
                      <a:ext cx="3454200" cy="287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>
              <a:off x="358920" y="4495680"/>
              <a:ext cx="419076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Times New Roman"/>
                </a:rPr>
                <a:t>Vlastnící společnosti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České Radiokomunikace (51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Mobil (49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RadioMobil, a.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PAEGAS1" descr=""/>
          <p:cNvPicPr/>
          <p:nvPr/>
        </p:nvPicPr>
        <p:blipFill>
          <a:blip r:embed="rId3"/>
          <a:stretch/>
        </p:blipFill>
        <p:spPr>
          <a:xfrm>
            <a:off x="7315200" y="304920"/>
            <a:ext cx="1219320" cy="104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179280" y="1619280"/>
          <a:ext cx="6865920" cy="293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1619280"/>
                    <a:ext cx="686592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ývoj: Technolog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lasové 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bilní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elitní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telefo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ývoj: Liberalizace trh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9900"/>
                </a:solidFill>
                <a:latin typeface="Times New Roman"/>
              </a:rPr>
              <a:t>Prodej státních podíl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ve společnostec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é Radiokomunikace, a.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ý Telecom, a.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9900"/>
                </a:solidFill>
                <a:latin typeface="Times New Roman"/>
              </a:rPr>
              <a:t>Zrušení smluvního monopolu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na poskytování hlasových služeb pro společnost Telecom, a.s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9900"/>
                </a:solidFill>
                <a:latin typeface="Times New Roman"/>
              </a:rPr>
              <a:t>Vypsání výběrového řízení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na národního operátor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liatel, a.s. jako poskytovatel hlasových služe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yní poskytování pouze datových služ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né technologické zá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-how v oblasti telekomunik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nční zá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1:38:32Z</dcterms:created>
  <dc:creator>Učebny</dc:creator>
  <dc:description/>
  <dc:language>en-US</dc:language>
  <cp:lastModifiedBy>Učebny</cp:lastModifiedBy>
  <dcterms:modified xsi:type="dcterms:W3CDTF">2000-01-10T13:39:41Z</dcterms:modified>
  <cp:revision>11</cp:revision>
  <dc:subject/>
  <dc:title>Telekomunikační trh v České republice</dc:title>
</cp:coreProperties>
</file>