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Redukovaná prezentace" id="0">
      <p:sldLst>
        <p:sld r:id="rId3"/>
        <p:sld r:id="rId8"/>
        <p:sld r:id="rId11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257-951F-4260-B6FB-81C6ADB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446-BD7D-42DF-BEC4-BE8377C6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873-53EC-47D0-83D6-BED17FD6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F2A-B5DC-4A9E-814D-4C75F9C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ADE-D067-449F-A454-A89CB872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5CE-ED53-4B13-A1B1-7F8DA02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ECE-BC79-4479-9D75-2355B87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D88-08D9-4D0A-9AC1-0ADB2C3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A94-7AAF-4496-965C-2C249CB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5CB-BB06-4CC3-BA06-1E89168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880-9F74-4C6D-BB7F-BA773E0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E98-FF78-401F-BE08-446D0AE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B0F19B-CE90-4250-9363-80ECD18AB9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F85D17-C100-4285-917E-F2AB84BFD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icrosoft PowerPoin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inky verz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le nápově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fld id="{C856EED2-9A13-473F-A175-DE15D78A8CEE}" type="datetime2"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Thursday, July 30, 20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91440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S Office 20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141960"/>
            <a:ext cx="213372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ičná prezen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kc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marL="3987720" indent="0">
              <a:spcBef>
                <a:spcPts val="499"/>
              </a:spcBef>
              <a:buNone/>
              <a:tabLst>
                <a:tab algn="l" pos="0"/>
                <a:tab algn="l" pos="2540160"/>
                <a:tab algn="l" pos="3987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lastní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í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7720" indent="0">
              <a:spcBef>
                <a:spcPts val="499"/>
              </a:spcBef>
              <a:buNone/>
              <a:tabLst>
                <a:tab algn="l" pos="0"/>
                <a:tab algn="l" pos="2540160"/>
                <a:tab algn="l" pos="3987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l K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 nejdří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končit úko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D05-5E77-40D7-8F48-7507881B14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4F415-CB17-47E6-B323-52205BE865FB}" type="datetime1">
              <a:rPr lang="en-US"/>
              <a:t>07/30/2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ouhrnný sníme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Usnadnění použi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Kresby a graf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Předvádění prezent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Struktura sk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Rozsah kapitol sk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MS Office 2000 Pre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cs-CZ" sz="3200" spc="-1" strike="noStrike" u="sng">
                <a:solidFill>
                  <a:srgbClr val="000066"/>
                </a:solidFill>
                <a:uFillTx/>
                <a:latin typeface="Times New Roman"/>
              </a:rPr>
              <a:t> Microsoft Offi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45B-7B7B-469E-864B-799D88C985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91391-8F34-44DB-B5E1-407AEE7576DB}" type="datetime1">
              <a:rPr lang="en-US"/>
              <a:t>07/30/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Usnadnění použití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chránky lze uložit až 12 objekt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brazení pouze nejpoužívanějších příkaz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epínání mezi otevřenými dokumenty pomocí hlavního panelu Wind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stní nastavení sady Office - profi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stní slovník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stní šablon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znamy pro automatické formá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znamy pro automatické oprav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6BC-B0C6-4717-92F9-2A2297849C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384CE-C834-485D-A7BB-F339AB59D50C}" type="datetime1">
              <a:rPr lang="en-US"/>
              <a:t>07/30/26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Kresby a grafika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á galerie klip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ší automatické t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dné použití grafiky na WWW stránká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pora sken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ované obráz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95840" y="1981080"/>
            <a:ext cx="19130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9C5-60F3-4101-A858-F9776367E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B14B5-9E66-4608-8DA0-A490E184942B}" type="datetime1">
              <a:rPr lang="en-US"/>
              <a:t>07/30/26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ředvádění prezentací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ůvodce projekt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avení a obnova rozlišení obrazov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lepšená podpora přenosných počítač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ce spořiče obrazov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sílání prezent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lánování a předvedení prezen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ánování a řízení schůzky v režimu on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lánování přímo v PowerPointu nebo nepřímo v Outloo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A9A-1F26-4403-82FE-EF21FC4FCA2D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6901E-E6E9-47C1-A93E-E56B451A1211}" type="datetime1">
              <a:rPr lang="en-US"/>
              <a:t>07/30/26</a:t>
            </a:fld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truktura skrip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13000" y="2046240"/>
          <a:ext cx="628632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3000" y="2046240"/>
                    <a:ext cx="628632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927-8A83-4A8D-9BF9-1EB03D785A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C82EA-44C4-48BA-8EDB-D2A7A0961D3C}" type="datetime1">
              <a:rPr lang="en-US"/>
              <a:t>07/30/26</a:t>
            </a:fld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ozsah kapitol skrip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0D9-1913-45AB-B84B-7261CDC21A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C53D-84A1-4FF9-AA27-7325E93C5E12}" type="datetime1">
              <a:rPr lang="en-US"/>
              <a:t>07/30/26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S Office 2000 Premium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93720" y="2711520"/>
          <a:ext cx="775512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711520"/>
                    <a:ext cx="7755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C4F-1F32-4DDB-9DB6-744945B944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7E5F4-39BE-42BC-B58E-1A0A675E19EE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icrosoft Office 2000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438280"/>
            <a:ext cx="152424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342900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ront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58128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49568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88620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426708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Photo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486400"/>
            <a:ext cx="152424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58128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486400"/>
            <a:ext cx="152424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Publ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352680"/>
            <a:ext cx="41911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133720"/>
            <a:ext cx="3809880" cy="30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828800"/>
            <a:ext cx="6553080" cy="472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458200" cy="495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4382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Small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172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Profes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Times New Roman CE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7A0-B179-4301-9589-D3930003B5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14FD4-DEA0-428F-B725-EFE0102523A3}" type="datetime1">
              <a:rPr lang="en-US"/>
              <a:t>07/30/26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6T14:30:11Z</dcterms:created>
  <dc:creator>Michal Kec</dc:creator>
  <dc:description/>
  <dc:language>en-US</dc:language>
  <cp:lastModifiedBy>Petra Kohutová</cp:lastModifiedBy>
  <dcterms:modified xsi:type="dcterms:W3CDTF">2001-03-08T21:01:51Z</dcterms:modified>
  <cp:revision>24</cp:revision>
  <dc:subject>PM353</dc:subject>
  <dc:title>Microsoft PowerPoint</dc:title>
</cp:coreProperties>
</file>