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Usnadnění použit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"/>
          <p:cNvSpPr txBox="1"/>
          <p:nvPr/>
        </p:nvSpPr>
        <p:spPr>
          <a:xfrm>
            <a:off x="685800" y="17524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0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Do schránky lze uložit až 12 objektů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0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Zobrazení pouze nejpoužívanějších příkazů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0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Přepínání mezi otevřenými dokumenty pomocí hlavního panelu Window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0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Vlastní nastavení sady Office - profil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0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Vlastní slovníky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0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Vlastní šablony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0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Seznamy pro automatické formáty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0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Seznamy pro automatické oprav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Kresby a grafik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0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Nová galerie klipů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0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Další automatické tva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0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Snadné použití grafiky na WWW stránkác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0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Podpora skener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0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Animované obrázk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l Kec</dc:creator>
  <dc:description/>
  <dc:language>en-US</dc:language>
  <cp:lastModifiedBy>Michal Kec</cp:lastModifiedBy>
  <cp:revision>0</cp:revision>
  <dc:subject/>
  <dc:title>Usnadnìní použití</dc:title>
</cp:coreProperties>
</file>