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2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6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-35280" y="1519200"/>
            <a:ext cx="9177840" cy="5337720"/>
            <a:chOff x="-35280" y="1519200"/>
            <a:chExt cx="9177840" cy="533772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0880" cy="4146840"/>
            </a:xfrm>
            <a:custGeom>
              <a:avLst/>
              <a:gdLst/>
              <a:ahLst/>
              <a:rect l="0" t="0" r="r" b="b"/>
              <a:pathLst>
                <a:path w="16308" h="11519">
                  <a:moveTo>
                    <a:pt x="6719" y="11515"/>
                  </a:moveTo>
                  <a:lnTo>
                    <a:pt x="16308" y="11519"/>
                  </a:lnTo>
                  <a:lnTo>
                    <a:pt x="16308" y="9829"/>
                  </a:lnTo>
                  <a:lnTo>
                    <a:pt x="0" y="0"/>
                  </a:lnTo>
                  <a:lnTo>
                    <a:pt x="709" y="521"/>
                  </a:lnTo>
                  <a:lnTo>
                    <a:pt x="1291" y="969"/>
                  </a:lnTo>
                  <a:lnTo>
                    <a:pt x="1947" y="1533"/>
                  </a:lnTo>
                  <a:lnTo>
                    <a:pt x="2582" y="2127"/>
                  </a:lnTo>
                  <a:lnTo>
                    <a:pt x="3513" y="3139"/>
                  </a:lnTo>
                  <a:lnTo>
                    <a:pt x="4338" y="4213"/>
                  </a:lnTo>
                  <a:lnTo>
                    <a:pt x="4938" y="5152"/>
                  </a:lnTo>
                  <a:lnTo>
                    <a:pt x="5460" y="6123"/>
                  </a:lnTo>
                  <a:lnTo>
                    <a:pt x="5873" y="7093"/>
                  </a:lnTo>
                  <a:lnTo>
                    <a:pt x="6176" y="7979"/>
                  </a:lnTo>
                  <a:lnTo>
                    <a:pt x="6381" y="8730"/>
                  </a:lnTo>
                  <a:lnTo>
                    <a:pt x="6571" y="9659"/>
                  </a:lnTo>
                  <a:lnTo>
                    <a:pt x="6666" y="10472"/>
                  </a:lnTo>
                  <a:lnTo>
                    <a:pt x="6719" y="1151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35280" y="1519200"/>
              <a:ext cx="5725080" cy="5337720"/>
            </a:xfrm>
            <a:custGeom>
              <a:avLst/>
              <a:gdLst/>
              <a:ahLst/>
              <a:rect l="0" t="0" r="r" b="b"/>
              <a:pathLst>
                <a:path fill="none" w="15903" h="14827">
                  <a:moveTo>
                    <a:pt x="15903" y="14827"/>
                  </a:moveTo>
                  <a:lnTo>
                    <a:pt x="15903" y="14827"/>
                  </a:lnTo>
                  <a:cubicBezTo>
                    <a:pt x="15903" y="12195"/>
                    <a:pt x="15039" y="9610"/>
                    <a:pt x="13400" y="7330"/>
                  </a:cubicBezTo>
                  <a:cubicBezTo>
                    <a:pt x="11760" y="5051"/>
                    <a:pt x="9401" y="3158"/>
                    <a:pt x="6561" y="1842"/>
                  </a:cubicBezTo>
                  <a:cubicBezTo>
                    <a:pt x="4537" y="904"/>
                    <a:pt x="2311" y="279"/>
                    <a:pt x="0" y="0"/>
                  </a:cubicBezTo>
                </a:path>
              </a:pathLst>
            </a:custGeom>
            <a:ln w="12600">
              <a:solidFill>
                <a:srgbClr val="3366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9384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 CE"/>
                <a:ea typeface="Arial CE"/>
              </a:rPr>
              <a:t>Cestovka s.r.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Váš partner na ces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 CE"/>
                <a:ea typeface="Arial CE"/>
              </a:rPr>
              <a:t>Kdo j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estovní kancelář s osmiletou tradi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pecializace na tuzemské poznávací zájez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výhodné zájezdy do zámo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ndividuální přístup k zákazní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0033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možnost dovolené „na mí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 CE"/>
                <a:ea typeface="Arial CE"/>
              </a:rPr>
              <a:t>Kde nás najd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 CE"/>
                <a:ea typeface="Arial CE"/>
              </a:rPr>
              <a:t>Naše výsl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9625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 CE"/>
                <a:ea typeface="Arial CE"/>
              </a:rPr>
              <a:t>Cíle našich zákazní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 CE"/>
                <a:ea typeface="Arial CE"/>
              </a:rPr>
              <a:t>Druhy zájez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 CE"/>
                <a:ea typeface="Arial CE"/>
              </a:rPr>
              <a:t>Nabídka z našeho katalo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avštivte Pra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znávací zájezd spojený s návštěvou Pražského h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ejoblíbenější zájezd našich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v ceně zájezdu zahrnuta návštěva mnoha kulturních 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9999"/>
                </a:solidFill>
                <a:latin typeface="Arial CE"/>
                <a:ea typeface="Arial CE"/>
              </a:rPr>
              <a:t>Akce  „Jaro 2001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7920" y="609480"/>
            <a:ext cx="25146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f0033"/>
                </a:solidFill>
                <a:latin typeface="Times New Roman CE"/>
                <a:ea typeface="Times New Roman CE"/>
              </a:rPr>
              <a:t>Akc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3848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Times New Roman CE"/>
                <a:ea typeface="Times New Roman CE"/>
              </a:rPr>
              <a:t>Využijte naší cenové akce, která zahrn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66ccff"/>
                </a:solidFill>
                <a:latin typeface="Times New Roman CE"/>
                <a:ea typeface="Times New Roman CE"/>
              </a:rPr>
              <a:t>plnou penzi za cenu polop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66ccff"/>
                </a:solidFill>
                <a:latin typeface="Times New Roman CE"/>
                <a:ea typeface="Times New Roman CE"/>
              </a:rPr>
              <a:t>jedno dítě zdarm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66ccff"/>
                </a:solidFill>
                <a:latin typeface="Times New Roman CE"/>
                <a:ea typeface="Times New Roman CE"/>
              </a:rPr>
              <a:t>výhodné cestovní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66ccff"/>
                </a:solidFill>
                <a:latin typeface="Times New Roman CE"/>
                <a:ea typeface="Times New Roman CE"/>
              </a:rPr>
              <a:t>při objednání do 15.5. platíte jen 80% cen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66ccff"/>
                </a:solidFill>
                <a:latin typeface="Times New Roman CE"/>
                <a:ea typeface="Times New Roman CE"/>
              </a:rPr>
              <a:t>malý dárek od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9999"/>
                </a:solidFill>
                <a:latin typeface="Arial CE"/>
                <a:ea typeface="Arial CE"/>
              </a:rPr>
              <a:t>Navštivte ná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66ccff"/>
                </a:solidFill>
                <a:latin typeface="Times New Roman CE"/>
                <a:ea typeface="Times New Roman CE"/>
              </a:rPr>
              <a:t>v naší centrále v Pr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66ccff"/>
                </a:solidFill>
                <a:latin typeface="Times New Roman CE"/>
                <a:ea typeface="Times New Roman CE"/>
              </a:rPr>
              <a:t>na některé z pobo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66ccff"/>
                </a:solidFill>
                <a:latin typeface="Times New Roman CE"/>
                <a:ea typeface="Times New Roman CE"/>
              </a:rPr>
              <a:t>na veletrhu cestovního ruchu v Br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66ccff"/>
                </a:solidFill>
                <a:latin typeface="Times New Roman CE"/>
                <a:ea typeface="Times New Roman CE"/>
              </a:rPr>
              <a:t>na Internetu na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 CE"/>
                <a:ea typeface="Times New Roman CE"/>
              </a:rPr>
              <a:t>www.cestovka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5410080"/>
            <a:ext cx="609840" cy="838440"/>
          </a:xfrm>
          <a:custGeom>
            <a:avLst/>
            <a:gdLst/>
            <a:ahLst/>
            <a:rect l="0" t="0" r="r" b="b"/>
            <a:pathLst>
              <a:path w="1694" h="2329">
                <a:moveTo>
                  <a:pt x="0" y="775"/>
                </a:moveTo>
                <a:lnTo>
                  <a:pt x="0" y="1551"/>
                </a:lnTo>
                <a:lnTo>
                  <a:pt x="1186" y="1551"/>
                </a:lnTo>
                <a:lnTo>
                  <a:pt x="1186" y="2329"/>
                </a:lnTo>
                <a:lnTo>
                  <a:pt x="1694" y="1165"/>
                </a:lnTo>
                <a:lnTo>
                  <a:pt x="1186" y="0"/>
                </a:lnTo>
                <a:lnTo>
                  <a:pt x="1186" y="775"/>
                </a:lnTo>
                <a:lnTo>
                  <a:pt x="0" y="775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66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l Kec</dc:creator>
  <dc:description>Semestrální práce z pøedmìtu Manažerská informatika 3 - èást Power Point</dc:description>
  <dc:language>en-US</dc:language>
  <cp:lastModifiedBy>Michal Kec</cp:lastModifiedBy>
  <cp:revision>0</cp:revision>
  <dc:subject>PM353</dc:subject>
  <dc:title>Cestovka s.r.o.</dc:title>
</cp:coreProperties>
</file>