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8C7D-5434-4323-A31E-BAF81192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A353-7B3C-42F3-92A2-40C399CF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6D5C-8137-458F-A332-B9B7815A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52B-1F11-4192-9A65-FD5CD3E95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AA2-F7E1-4A70-BA87-EF533463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FE4-B16A-4A8E-89AB-C8FD52E6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3C64-8801-4618-BBC9-67F3F712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1427-9BE5-4C72-8B6A-B93EE315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414-1F23-436B-99F7-034528C7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4DA-7D6C-4D33-BBD3-A0ECFC50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6449-8BFB-44F2-ADF0-CAB322F1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8C4-9C14-4798-8490-F942FC5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41FD-87C9-4AC5-870F-F9AEF9C7C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ekulární struktura v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íl plynů ve vzdu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% dusí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% kyslí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é množství vodní pá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ácné plyny (argon, ne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 uhličit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lovodíkové znečišťova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dýchají potápěč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reační potápě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ačený vzd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ionál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ální směsi známé jako Nitr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yslíkem obohacený vzd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lastnosti ply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sí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barvý plyn bez chuti a zápa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fyziologické stránce jej lidské tělo nepouží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-li vdechován pod tlakem, může být příčinou narkózy a dekompresní nem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yslí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barvý plyn bez zápachu a ch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 součástí chemických reakcí v těle při výrobě tepelné a chemické ene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lastnosti ply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id uhličit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zbarvý plyn bez chuti a zápa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avní součást vydechovaného vzduc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muluje mozek k uvedení dýchání do pohy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xid uhelnat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ovatý bezbarvý ply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bavuje krev schopnosti absorbovat kyslí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niká důsledkem nedokonalého spalování uhlovodí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6:57:43Z</dcterms:created>
  <dc:creator>Jan Pivoňka</dc:creator>
  <dc:description/>
  <dc:language>en-US</dc:language>
  <cp:lastModifiedBy>Jan Pivoňka</cp:lastModifiedBy>
  <dcterms:modified xsi:type="dcterms:W3CDTF">2001-03-18T17:39:27Z</dcterms:modified>
  <cp:revision>5</cp:revision>
  <dc:subject/>
  <dc:title>Molekulární struktura vody</dc:title>
</cp:coreProperties>
</file>