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  <p:custShowLst>
    <p:custShow name="Vlastní prezentace 1" id="0">
      <p:sldLst>
        <p:sld r:id="rId3"/>
        <p:sld r:id="rId8"/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custShow id="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2C44-A601-4145-9971-FB1F4E89C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A682-FE81-4534-89E7-D163CAE6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1BE6-B5DD-4073-9C52-BE68FEDD0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D64E-F82F-4C2F-971A-2E9C1A22D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EAE5-2A45-4AB1-8DB5-94BEF716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6084-323A-4DEA-BBB3-15CEA9BB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C0ED-F5DC-4FD0-BBC8-F5BD4728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643D-3C1B-44A6-913B-947E4A7A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18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A542-581F-465C-B2EB-E27EEEF1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3F01-342F-4AED-91DC-39D08A6CB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02E7-5A14-49C6-A11C-74FE555B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5E8D-1576-42DA-937C-2741143A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1962-6E1D-4CF8-A7FA-93C05CA00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TN_Delfín" descr=""/>
          <p:cNvPicPr/>
          <p:nvPr/>
        </p:nvPicPr>
        <p:blipFill>
          <a:blip r:embed="rId2"/>
          <a:stretch/>
        </p:blipFill>
        <p:spPr>
          <a:xfrm>
            <a:off x="0" y="0"/>
            <a:ext cx="1600200" cy="1143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oleObject" Target="../embeddings/oleObject1.bin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 d</a:t>
            </a:r>
            <a:r>
              <a:rPr b="0" lang="cs-CZ" sz="4000" spc="-1" strike="noStrike">
                <a:solidFill>
                  <a:srgbClr val="000000"/>
                </a:solidFill>
                <a:latin typeface="Comic Sans MS"/>
              </a:rPr>
              <a:t>ýchán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133720" y="838080"/>
            <a:ext cx="4343400" cy="2667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53753" dir="2700000" blurRad="0" rotWithShape="0">
                    <a:srgbClr val="000099"/>
                  </a:outerShdw>
                </a:effectLst>
                <a:latin typeface="Impact"/>
              </a:rPr>
              <a:t>Potápění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53753" dir="27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lekulární struktura vo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200400" y="2819520"/>
            <a:ext cx="2819160" cy="3504600"/>
            <a:chOff x="3200400" y="2819520"/>
            <a:chExt cx="2819160" cy="3504600"/>
          </a:xfrm>
        </p:grpSpPr>
        <p:sp>
          <p:nvSpPr>
            <p:cNvPr id="47" name=""/>
            <p:cNvSpPr/>
            <p:nvPr/>
          </p:nvSpPr>
          <p:spPr>
            <a:xfrm>
              <a:off x="3200400" y="3429000"/>
              <a:ext cx="1066680" cy="106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429000" y="4114800"/>
              <a:ext cx="1523880" cy="1523520"/>
            </a:xfrm>
            <a:prstGeom prst="ellipse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47960" y="4038480"/>
              <a:ext cx="1067040" cy="106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5715000"/>
              <a:ext cx="838080" cy="609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19923" y="-15525"/>
                  </a:moveTo>
                  <a:lnTo>
                    <a:pt x="-1964" y="40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om 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76560" y="2819520"/>
              <a:ext cx="91440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22200" y="31613"/>
                  </a:moveTo>
                  <a:lnTo>
                    <a:pt x="-1800" y="400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va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tomy 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4800600" y="2971800"/>
              <a:ext cx="304560" cy="11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díl plynů ve vzduch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8 %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  <a:hlinkClick r:id="rId1" action="ppaction://hlinksldjump"/>
              </a:rPr>
              <a:t>dusí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 %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  <a:hlinkClick r:id="rId2" action="ppaction://hlinksldjump"/>
              </a:rPr>
              <a:t>kyslí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é množství vodní pá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zácné plyny (argon, ne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  <a:hlinkClick r:id="rId3" action="ppaction://hlinksldjump"/>
              </a:rPr>
              <a:t>oxid uhličit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hlovodíkové znečišťovate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762120" y="3200400"/>
          <a:ext cx="3921120" cy="2476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120" y="3200400"/>
                    <a:ext cx="392112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dýchají potápěč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kreační potápěč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lačený vzd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esionálov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ální směsi známé jako Nitr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yslíkem obohacený vzd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lastnosti plyn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sí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zbarvý plyn bez chuti a zápach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 fyziologické stránce jej lidské tělo nepoužív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-li vdechován pod tlakem, může být příčinou narkózy a dekompresní nemo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yslí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zbarvý plyn bez zápachu a chu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 součástí chemických reakcí v těle při výrobě tepelné a chemické energ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xid uhličit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zbarvý plyn bez chuti a zápach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lavní součást vydechovaného vzduch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imuluje mozek k uvedení dýchání do pohyb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xid uhelnat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dovatý bezbarvý ply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bavuje krev schopnosti absorbovat kyslí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zniká důsledkem nedokonalého spalování uhlovodík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rodní záko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harlesův zákon: Má-li tlak konstantní hodnotu, je objem plynu přímo úměrný jeho absolutní teplot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 tohoto důvodu by nikdy neměl potápěč nechávat plné lahve na přímém slunci nebo v blízkosti tepelných zdrojů delší dobu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" action="ppaction://hlinksldjump"/>
          </p:cNvPr>
          <p:cNvSpPr/>
          <p:nvPr/>
        </p:nvSpPr>
        <p:spPr>
          <a:xfrm>
            <a:off x="457200" y="579132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5045040"/>
            <a:ext cx="4572000" cy="18082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dea: Protože je zdrojový wordovský dokument styly formátován ve formě osnovy, můžeme ho vložit přímo jako osnov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stup: Vložit, Snímky z osnovy. Vybrat požadovaný dokument a potvrd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rodní záko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oyleův zákon: Objem plynu je nepřímo úměrný absolutnímu tlaku, zatímco hustota je přímo úměrná atmosférickému tlaku, při zachování konstantní teplo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 je třeba, aby mechanismus dýchacího přístroje byl schopen redukovat vyšší tlak v lahvi na nižší v závislosti na hloubce, ve které se potápěč nachází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1" action="ppaction://hlinksldjump"/>
          </p:cNvPr>
          <p:cNvSpPr/>
          <p:nvPr/>
        </p:nvSpPr>
        <p:spPr>
          <a:xfrm>
            <a:off x="6094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8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ožky ak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87720" indent="0">
              <a:spcBef>
                <a:spcPts val="499"/>
              </a:spcBef>
              <a:buNone/>
              <a:tabLst>
                <a:tab algn="l" pos="0"/>
                <a:tab algn="l" pos="2540160"/>
                <a:tab algn="l" pos="3987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Vlastník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Termí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op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987720" indent="0">
              <a:spcBef>
                <a:spcPts val="499"/>
              </a:spcBef>
              <a:buNone/>
              <a:tabLst>
                <a:tab algn="l" pos="0"/>
                <a:tab algn="l" pos="2540160"/>
                <a:tab algn="l" pos="3987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ntiše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týd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jisti ostatní vzácné ply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8T16:57:43Z</dcterms:created>
  <dc:creator>Jan Pivoňka</dc:creator>
  <dc:description/>
  <dc:language>en-US</dc:language>
  <cp:lastModifiedBy>noname</cp:lastModifiedBy>
  <dcterms:modified xsi:type="dcterms:W3CDTF">2001-03-23T11:24:46Z</dcterms:modified>
  <cp:revision>18</cp:revision>
  <dc:subject/>
  <dc:title>Molekulární struktura vody</dc:title>
</cp:coreProperties>
</file>