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B03-C5F7-4A69-A1EC-8640AEFB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CA0-D72B-42AE-8805-13477385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863-EC70-4FC3-8DC3-5EFF3A8B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6B5-E06F-422A-A0E9-818DB36C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04D6-42BD-4F21-B49B-DA4BDB3F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0EE-52AA-43D2-B86E-BB762D2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9F7-5EAF-4D38-8091-FEA29550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7F0-8FBD-4A8F-B4EB-C0FCAE0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BAE-78FC-4791-8660-6AFB28C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2B9D-B998-4741-AF36-6659811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6428-80C9-4827-AEE6-9E67FF5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DDC-3CCF-4A84-A447-A34BA7F5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B420-4093-4443-B1D8-A1A0C71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B4D8-F831-4E4C-9004-5495418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A0B3-F142-4DDF-8248-2EC641B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3829-51B3-4C45-B1D1-06CEF81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2E3C-2D01-4225-878C-0E229CB1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630-333D-4C66-A37B-779D9832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55C-DFED-4831-816A-1C83D074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B5B-5A1A-4D8A-B999-E727C04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343-2A2F-46B4-8DF3-4C80C2DA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9BF-59D8-4114-B970-D8B2315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B39-25EB-43B8-B54A-CA7AC8E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68C-F08F-489B-A3A7-9E44533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155D-3352-4CE9-911B-18E0466D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0970-BB94-4A87-966D-CF32B495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3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výdaj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 Podstata, struktura a klasifikace veřejných výdaj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 Faktory ovlivňující dynamiku veřejných výdaj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 Analýza efektivnosti veřejných výdajů a veřejných výdajových programů (projek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208160" y="1165320"/>
            <a:ext cx="4254480" cy="2684160"/>
            <a:chOff x="1208160" y="1165320"/>
            <a:chExt cx="4254480" cy="2684160"/>
          </a:xfrm>
        </p:grpSpPr>
        <p:sp>
          <p:nvSpPr>
            <p:cNvPr id="145" name=""/>
            <p:cNvSpPr/>
            <p:nvPr/>
          </p:nvSpPr>
          <p:spPr>
            <a:xfrm>
              <a:off x="1208160" y="2176560"/>
              <a:ext cx="865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5000" y="1165320"/>
              <a:ext cx="304344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V.V.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- V.V.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V.V.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73400" y="2425680"/>
              <a:ext cx="308916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HNP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- HNP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br>
                <a:rPr sz="3200"/>
              </a:b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HNP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1760" y="2425680"/>
              <a:ext cx="326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2360" y="1801800"/>
              <a:ext cx="2351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0800" y="3071880"/>
              <a:ext cx="242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67120" y="5437080"/>
            <a:ext cx="29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2880" y="5295960"/>
            <a:ext cx="5754600" cy="1456200"/>
            <a:chOff x="542880" y="5295960"/>
            <a:chExt cx="5754600" cy="1456200"/>
          </a:xfrm>
        </p:grpSpPr>
        <p:sp>
          <p:nvSpPr>
            <p:cNvPr id="153" name=""/>
            <p:cNvSpPr/>
            <p:nvPr/>
          </p:nvSpPr>
          <p:spPr>
            <a:xfrm>
              <a:off x="542880" y="5415120"/>
              <a:ext cx="2336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arginální skl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0040" y="5295960"/>
              <a:ext cx="3187440" cy="14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V.V.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- V.V.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HNP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- HNP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95800" y="5951520"/>
              <a:ext cx="281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3960" y="5662440"/>
              <a:ext cx="473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6440" y="9828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4440" y="2641680"/>
          <a:ext cx="581004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641680"/>
                    <a:ext cx="58100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6800" y="793800"/>
            <a:ext cx="58294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 údajů následující tabulky vypočítejte elasticitu veřejných výdajů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Faktory růstu V.V.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ěkké rozpočtové omeze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mografické fak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flační tendence, vyšší nákladovost služe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echnologické změ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ahové efekty, válečné cí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litické a sociální vliv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ruktura ČR podle věkových skupin a pohlaví v roce 1930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3760" y="2997360"/>
            <a:ext cx="6056280" cy="5913360"/>
            <a:chOff x="293760" y="2997360"/>
            <a:chExt cx="6056280" cy="5913360"/>
          </a:xfrm>
        </p:grpSpPr>
        <p:sp>
          <p:nvSpPr>
            <p:cNvPr id="165" name=""/>
            <p:cNvSpPr/>
            <p:nvPr/>
          </p:nvSpPr>
          <p:spPr>
            <a:xfrm>
              <a:off x="312840" y="3003480"/>
              <a:ext cx="6027480" cy="555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76680" y="2997360"/>
              <a:ext cx="0" cy="556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1000" y="3003480"/>
              <a:ext cx="0" cy="556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280" y="8190000"/>
              <a:ext cx="603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4280" y="787572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760" y="757728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280" y="72914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4280" y="7005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70716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4280" y="643428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7800" y="614844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4280" y="5862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4280" y="55706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4280" y="5291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800" y="5005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4280" y="4719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4280" y="44276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280" y="4148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040" y="3862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880" y="3576600"/>
              <a:ext cx="601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3030480"/>
              <a:ext cx="55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5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7520" y="3300480"/>
              <a:ext cx="63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-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8040" y="3578400"/>
              <a:ext cx="63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-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2200" y="386244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-7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800" y="41450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5-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7800" y="47181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5-5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7800" y="501480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-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7800" y="528948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5-4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7800" y="5583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-4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760" y="587052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5-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800" y="61545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-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7800" y="6429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-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2200" y="672768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-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760" y="700740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-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7800" y="730872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-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200" y="759780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7800" y="789768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48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90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028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1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6268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744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6832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4956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304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1132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9256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688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30920" y="8190000"/>
              <a:ext cx="564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80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3196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702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8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92480" y="8543880"/>
              <a:ext cx="277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ce (v tisícíc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9280" y="7961400"/>
              <a:ext cx="1728720" cy="1411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9280" y="7658280"/>
              <a:ext cx="192420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9280" y="7370640"/>
              <a:ext cx="1192320" cy="125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9280" y="7080120"/>
              <a:ext cx="1863720" cy="1368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9280" y="6781680"/>
              <a:ext cx="2035080" cy="152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89280" y="6508800"/>
              <a:ext cx="1913040" cy="1299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9280" y="6227640"/>
              <a:ext cx="1619280" cy="1224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89280" y="5937120"/>
              <a:ext cx="1278000" cy="1368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89280" y="5651640"/>
              <a:ext cx="1143000" cy="1299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89280" y="5365800"/>
              <a:ext cx="1057320" cy="1270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89280" y="5073480"/>
              <a:ext cx="960480" cy="1429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9280" y="4792680"/>
              <a:ext cx="86220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89280" y="4502160"/>
              <a:ext cx="703440" cy="1317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89280" y="4229280"/>
              <a:ext cx="507960" cy="1220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1040" y="331488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7520" y="4433760"/>
              <a:ext cx="64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-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95760" y="3949560"/>
              <a:ext cx="355680" cy="1159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95760" y="3657600"/>
              <a:ext cx="20952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01880" y="3384720"/>
              <a:ext cx="68400" cy="1141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01880" y="3094200"/>
              <a:ext cx="27000" cy="1332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36880" y="7961400"/>
              <a:ext cx="1616040" cy="1411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57240" y="7658280"/>
              <a:ext cx="1795680" cy="1234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3160" y="7370640"/>
              <a:ext cx="1139760" cy="1270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1360" y="7080120"/>
              <a:ext cx="1771560" cy="1368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3520" y="6781680"/>
              <a:ext cx="1949400" cy="152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85960" y="6508800"/>
              <a:ext cx="1866960" cy="1317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28880" y="6227640"/>
              <a:ext cx="1724040" cy="125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79800" y="5937120"/>
              <a:ext cx="1473120" cy="1396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70240" y="5651640"/>
              <a:ext cx="1282680" cy="134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65280" y="5365800"/>
              <a:ext cx="1187640" cy="1299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5600" y="5073480"/>
              <a:ext cx="1057320" cy="1429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14760" y="4792680"/>
              <a:ext cx="938160" cy="1238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70280" y="4502160"/>
              <a:ext cx="782640" cy="1332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0720" y="4229280"/>
              <a:ext cx="592200" cy="1220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14800" y="3949560"/>
              <a:ext cx="438120" cy="1159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4080" y="3657600"/>
              <a:ext cx="258840" cy="1206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9600" y="3384720"/>
              <a:ext cx="103320" cy="1173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6160" y="3094200"/>
              <a:ext cx="360" cy="1317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82960" y="3156120"/>
              <a:ext cx="1374840" cy="796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ž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že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70520" y="3357720"/>
              <a:ext cx="379440" cy="1634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70520" y="3624120"/>
              <a:ext cx="379440" cy="1638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ruktura ČR podle věkových skupin a pohlaví v roce 1990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3760" y="2997360"/>
            <a:ext cx="6056280" cy="5913360"/>
            <a:chOff x="293760" y="2997360"/>
            <a:chExt cx="6056280" cy="5913360"/>
          </a:xfrm>
        </p:grpSpPr>
        <p:sp>
          <p:nvSpPr>
            <p:cNvPr id="264" name=""/>
            <p:cNvSpPr/>
            <p:nvPr/>
          </p:nvSpPr>
          <p:spPr>
            <a:xfrm>
              <a:off x="312840" y="3003480"/>
              <a:ext cx="6027480" cy="555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76680" y="2997360"/>
              <a:ext cx="0" cy="556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000" y="3003480"/>
              <a:ext cx="0" cy="556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280" y="8190000"/>
              <a:ext cx="603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4280" y="787572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760" y="757728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280" y="72914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4280" y="7005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7800" y="670716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4280" y="643428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7800" y="614844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280" y="5862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4280" y="55706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4280" y="5291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7800" y="5005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4280" y="4719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4280" y="44276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4280" y="4148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1040" y="3862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6880" y="3576600"/>
              <a:ext cx="601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5280" y="3030480"/>
              <a:ext cx="55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5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7520" y="3300480"/>
              <a:ext cx="63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-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8040" y="3578400"/>
              <a:ext cx="63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-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2200" y="386244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-7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7800" y="41450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5-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7800" y="47181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5-5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7800" y="501480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-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7800" y="528948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5-4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7800" y="5583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-4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760" y="587052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5-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800" y="61545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-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7800" y="6429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-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200" y="672768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-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760" y="700740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-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7800" y="730872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-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200" y="759780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800" y="789768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6728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48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90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028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1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6268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8744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832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956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04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1132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9256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688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30920" y="8190000"/>
              <a:ext cx="564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80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3196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702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08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92480" y="8543880"/>
              <a:ext cx="277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ce (v tisícíc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89280" y="7961400"/>
              <a:ext cx="1228680" cy="1350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89280" y="7658280"/>
              <a:ext cx="133848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89280" y="7370640"/>
              <a:ext cx="1644840" cy="125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89280" y="7080120"/>
              <a:ext cx="1644840" cy="1317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9280" y="6781680"/>
              <a:ext cx="1301760" cy="1494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89280" y="6508800"/>
              <a:ext cx="1301760" cy="1299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89280" y="6227640"/>
              <a:ext cx="131436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89280" y="5937120"/>
              <a:ext cx="1497240" cy="1350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9280" y="5651640"/>
              <a:ext cx="1569960" cy="134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89280" y="5365800"/>
              <a:ext cx="1241640" cy="1299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89280" y="5073480"/>
              <a:ext cx="924120" cy="1414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89280" y="4792680"/>
              <a:ext cx="887400" cy="1191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89280" y="4502160"/>
              <a:ext cx="874800" cy="1285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89280" y="4229280"/>
              <a:ext cx="78912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1040" y="331488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7520" y="4433760"/>
              <a:ext cx="64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-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95760" y="3949560"/>
              <a:ext cx="355680" cy="1159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3657600"/>
              <a:ext cx="34272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01880" y="3384720"/>
              <a:ext cx="166680" cy="1126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01880" y="3094200"/>
              <a:ext cx="24120" cy="1317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89040" y="7961400"/>
              <a:ext cx="1163880" cy="1396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17760" y="7658280"/>
              <a:ext cx="1235160" cy="1206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08160" y="7370640"/>
              <a:ext cx="1544760" cy="125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84400" y="7080120"/>
              <a:ext cx="1568520" cy="1350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17760" y="6781680"/>
              <a:ext cx="1235160" cy="152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5160" y="6508800"/>
              <a:ext cx="1247760" cy="1317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94000" y="6227640"/>
              <a:ext cx="1258920" cy="125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43080" y="5937120"/>
              <a:ext cx="1509840" cy="1350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71800" y="5651640"/>
              <a:ext cx="1581120" cy="134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94000" y="5365800"/>
              <a:ext cx="1258920" cy="1299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55720" y="5073480"/>
              <a:ext cx="997200" cy="1429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31960" y="4792680"/>
              <a:ext cx="1020960" cy="1191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60680" y="4502160"/>
              <a:ext cx="1092240" cy="1317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8080" y="4229280"/>
              <a:ext cx="1104840" cy="1220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84480" y="3949560"/>
              <a:ext cx="568440" cy="1159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76480" y="3657600"/>
              <a:ext cx="676440" cy="1206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51160" y="3384720"/>
              <a:ext cx="401760" cy="1141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78320" y="3094200"/>
              <a:ext cx="174600" cy="1332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82960" y="3156120"/>
              <a:ext cx="1374840" cy="796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ž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že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70520" y="3357720"/>
              <a:ext cx="379440" cy="1634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70520" y="3624120"/>
              <a:ext cx="379440" cy="1638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ruktura ČR podle věkových skupin a pohlaví v roce 2030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3760" y="2997360"/>
            <a:ext cx="6056280" cy="5913360"/>
            <a:chOff x="293760" y="2997360"/>
            <a:chExt cx="6056280" cy="5913360"/>
          </a:xfrm>
        </p:grpSpPr>
        <p:sp>
          <p:nvSpPr>
            <p:cNvPr id="363" name=""/>
            <p:cNvSpPr/>
            <p:nvPr/>
          </p:nvSpPr>
          <p:spPr>
            <a:xfrm>
              <a:off x="312840" y="3003480"/>
              <a:ext cx="6027480" cy="555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6680" y="2997360"/>
              <a:ext cx="0" cy="556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000" y="3003480"/>
              <a:ext cx="0" cy="556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4280" y="8190000"/>
              <a:ext cx="603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4280" y="787572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760" y="757728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4280" y="72914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4280" y="7005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7800" y="670716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4280" y="643428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7800" y="614844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4280" y="5862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4280" y="55706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4280" y="5291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7800" y="5005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4280" y="471960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280" y="442764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" y="4148280"/>
              <a:ext cx="60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1040" y="3862440"/>
              <a:ext cx="603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880" y="3576600"/>
              <a:ext cx="601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5280" y="3030480"/>
              <a:ext cx="55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5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8440" y="3300480"/>
              <a:ext cx="654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-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8040" y="3578400"/>
              <a:ext cx="63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-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2200" y="386244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-7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7800" y="41450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5-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7800" y="47181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5-5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800" y="501480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-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7800" y="528948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5-4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7800" y="5583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-4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3760" y="5870520"/>
              <a:ext cx="68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5-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7800" y="61545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-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7800" y="642924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-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2200" y="672768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-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760" y="7007400"/>
              <a:ext cx="674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-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800" y="730872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-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200" y="759780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800" y="7897680"/>
              <a:ext cx="67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6728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48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290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028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116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6268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87440" y="2997360"/>
              <a:ext cx="0" cy="5195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6832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49560" y="2997360"/>
              <a:ext cx="0" cy="5189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3044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11320" y="3003480"/>
              <a:ext cx="0" cy="518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2560" y="3003480"/>
              <a:ext cx="0" cy="518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688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0920" y="8190000"/>
              <a:ext cx="564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0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3196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020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8080" y="819000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2480" y="8543880"/>
              <a:ext cx="277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ce (v tisícíc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89280" y="7961400"/>
              <a:ext cx="916200" cy="1364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89280" y="7658280"/>
              <a:ext cx="93996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9280" y="7370640"/>
              <a:ext cx="1025640" cy="1224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9280" y="7080120"/>
              <a:ext cx="1098720" cy="1317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9280" y="6781680"/>
              <a:ext cx="1147680" cy="1461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89280" y="6508800"/>
              <a:ext cx="1122480" cy="1285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89280" y="6227640"/>
              <a:ext cx="1085760" cy="1224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89280" y="5937120"/>
              <a:ext cx="1197000" cy="1382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89280" y="5651640"/>
              <a:ext cx="1220760" cy="13176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89280" y="5365800"/>
              <a:ext cx="1270080" cy="1270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89280" y="5073480"/>
              <a:ext cx="1550880" cy="1400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89280" y="4792680"/>
              <a:ext cx="1489320" cy="1224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9280" y="4502160"/>
              <a:ext cx="1082880" cy="13032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89280" y="4229280"/>
              <a:ext cx="976320" cy="1234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1040" y="3314880"/>
              <a:ext cx="60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7520" y="4433760"/>
              <a:ext cx="64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-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95760" y="3949560"/>
              <a:ext cx="782640" cy="1144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95760" y="3657600"/>
              <a:ext cx="696960" cy="12060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1880" y="3384720"/>
              <a:ext cx="385920" cy="107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01880" y="3094200"/>
              <a:ext cx="214560" cy="1346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6040" y="7961400"/>
              <a:ext cx="866880" cy="1350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74880" y="7658280"/>
              <a:ext cx="878040" cy="1206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03600" y="7370640"/>
              <a:ext cx="949320" cy="1224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08200" y="7080120"/>
              <a:ext cx="1044720" cy="1335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84440" y="6781680"/>
              <a:ext cx="1068480" cy="1461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71840" y="6508800"/>
              <a:ext cx="1081080" cy="1299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19360" y="6227640"/>
              <a:ext cx="1033560" cy="1224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48080" y="5937120"/>
              <a:ext cx="1104840" cy="1368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23960" y="5651640"/>
              <a:ext cx="1128960" cy="1346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5280" y="5365800"/>
              <a:ext cx="1187640" cy="1270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55680" y="5073480"/>
              <a:ext cx="1497240" cy="14148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79800" y="4792680"/>
              <a:ext cx="1473120" cy="1191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9040" y="4502160"/>
              <a:ext cx="1163880" cy="13176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48080" y="4229280"/>
              <a:ext cx="1104840" cy="1220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1960" y="3949560"/>
              <a:ext cx="1020960" cy="11592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19360" y="3657600"/>
              <a:ext cx="1033560" cy="1224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7680" y="3384720"/>
              <a:ext cx="795240" cy="1094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89440" y="3094200"/>
              <a:ext cx="663480" cy="13644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82960" y="3156120"/>
              <a:ext cx="1374840" cy="796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ž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že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70520" y="3357720"/>
              <a:ext cx="379440" cy="16344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70520" y="3624120"/>
              <a:ext cx="379440" cy="163800"/>
            </a:xfrm>
            <a:prstGeom prst="rect">
              <a:avLst/>
            </a:prstGeom>
            <a:solidFill>
              <a:srgbClr val="a5002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6440" y="-13104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77840" y="2482920"/>
          <a:ext cx="6619680" cy="63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482920"/>
                    <a:ext cx="6619680" cy="63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33200" y="285840"/>
            <a:ext cx="664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zkum ve Velké Británii v r. 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celkový počet respondentů - 9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2 otázk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Na co vynakládá vláda prostředk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Jaké jsou hlavní zdroje státních příjmů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120" y="130320"/>
            <a:ext cx="6823080" cy="9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řadí položek SR (podle výše výdajů) ve skutečnosti a podle odhadu studentů:</a:t>
            </a:r>
            <a:endParaRPr b="1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7960" y="1077840"/>
          <a:ext cx="6512040" cy="824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077840"/>
                    <a:ext cx="6512040" cy="82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rahový efek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3920" y="2481120"/>
            <a:ext cx="6375240" cy="4827240"/>
            <a:chOff x="223920" y="2481120"/>
            <a:chExt cx="6375240" cy="4827240"/>
          </a:xfrm>
        </p:grpSpPr>
        <p:grpSp>
          <p:nvGrpSpPr>
            <p:cNvPr id="469" name=""/>
            <p:cNvGrpSpPr/>
            <p:nvPr/>
          </p:nvGrpSpPr>
          <p:grpSpPr>
            <a:xfrm>
              <a:off x="1582560" y="2654280"/>
              <a:ext cx="4221360" cy="3591000"/>
              <a:chOff x="1582560" y="2654280"/>
              <a:chExt cx="4221360" cy="3591000"/>
            </a:xfrm>
          </p:grpSpPr>
          <p:sp>
            <p:nvSpPr>
              <p:cNvPr id="470" name=""/>
              <p:cNvSpPr/>
              <p:nvPr/>
            </p:nvSpPr>
            <p:spPr>
              <a:xfrm>
                <a:off x="1598760" y="2654280"/>
                <a:ext cx="0" cy="357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82560" y="6240600"/>
                <a:ext cx="4221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2016000" y="4732200"/>
                <a:ext cx="86220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2881440" y="3576240"/>
                <a:ext cx="261612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2879640" y="4081320"/>
                <a:ext cx="0" cy="64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74960" y="4714920"/>
                <a:ext cx="0" cy="153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43280" y="3919680"/>
                <a:ext cx="0" cy="232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223920" y="2481120"/>
              <a:ext cx="12970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átní výdaj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90640" y="6362640"/>
              <a:ext cx="14418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álka kr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13360" y="6377040"/>
              <a:ext cx="152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78160" y="2597040"/>
              <a:ext cx="24210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ývoj státních výdaj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4040" y="7645320"/>
            <a:ext cx="31273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. T. Peac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. Wis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440" y="4896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760" y="4559400"/>
            <a:ext cx="927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5160" y="2401920"/>
            <a:ext cx="6316560" cy="4544640"/>
            <a:chOff x="65160" y="2401920"/>
            <a:chExt cx="6316560" cy="4544640"/>
          </a:xfrm>
        </p:grpSpPr>
        <p:sp>
          <p:nvSpPr>
            <p:cNvPr id="485" name=""/>
            <p:cNvSpPr/>
            <p:nvPr/>
          </p:nvSpPr>
          <p:spPr>
            <a:xfrm>
              <a:off x="5457960" y="6286680"/>
              <a:ext cx="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46640" y="6286680"/>
              <a:ext cx="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33880" y="6286680"/>
              <a:ext cx="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2560" y="6286680"/>
              <a:ext cx="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600" y="6458040"/>
              <a:ext cx="1004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 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30280" y="6458040"/>
              <a:ext cx="13622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55920" y="6458040"/>
              <a:ext cx="1612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0 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5000" y="6458040"/>
              <a:ext cx="14032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2 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14920" y="6458040"/>
              <a:ext cx="148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4 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2680" y="2879640"/>
              <a:ext cx="0" cy="348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98640" y="6365880"/>
              <a:ext cx="513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7640" y="5562720"/>
              <a:ext cx="1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25560" y="4029120"/>
              <a:ext cx="1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17640" y="3267000"/>
              <a:ext cx="1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25560" y="4791240"/>
              <a:ext cx="1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7600" y="6137280"/>
              <a:ext cx="7304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160" y="3059280"/>
              <a:ext cx="8985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4280" y="2401920"/>
              <a:ext cx="72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27240" y="430992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3520" y="4300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9280" y="3427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9880" y="59007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32160" y="46530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56160" y="569124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32120" y="523224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73520" y="49197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93960" y="4086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8840" y="4662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2840" y="5759280"/>
              <a:ext cx="1047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03880" y="504504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50760" y="3897360"/>
              <a:ext cx="103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46320" y="3898800"/>
              <a:ext cx="98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90800" y="4641840"/>
              <a:ext cx="104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.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84640" y="3686040"/>
              <a:ext cx="1014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2200" y="4262400"/>
              <a:ext cx="11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L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06600" y="482292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10040" y="4253040"/>
              <a:ext cx="122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83000" y="2995560"/>
              <a:ext cx="166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ŠVÉ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05400" y="5373720"/>
              <a:ext cx="10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68720" y="4633920"/>
              <a:ext cx="141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87520" y="5568840"/>
              <a:ext cx="97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A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16240" y="5302080"/>
              <a:ext cx="113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U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Hlavní otázky v souvislosti s vymezením podstaty veřejných výdajů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3057120"/>
            <a:ext cx="5829120" cy="507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Co zahrnují (podstata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Na co by měly být vynaloženy (účel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Jaký by měl být jejich objem (kolik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Z jakých zdrojů je krýt (z čeho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Jaké jsou důsledky těchto veřejných výdajů (efekty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át blahobytu 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(welfare state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řejné a starobní důcho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razové a invalidní pojišt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jištění v nezaměstna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mocenské pojišt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ravinové program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dinné přídav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ůchodové podpory určitým skupinám obyvatelst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4440" y="6030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Welfare stat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1971720"/>
            <a:ext cx="5829120" cy="667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. von Bismar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. E. Gladst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. Roosevel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1858 - 1919)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1901 - 1909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. W. Wils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1856 - 1924)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1913 - 1921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. Roosevel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1882 - 1945)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1933 - 1945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. B. Johns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1908 - 1973)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1963 - 1964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1960 vládní program ‚Válka proti bídě‘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Efektivnos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čelno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fficas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283824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ospodárno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770120" y="1954080"/>
            <a:ext cx="3332160" cy="582840"/>
            <a:chOff x="1770120" y="1954080"/>
            <a:chExt cx="3332160" cy="582840"/>
          </a:xfrm>
        </p:grpSpPr>
        <p:sp>
          <p:nvSpPr>
            <p:cNvPr id="535" name=""/>
            <p:cNvSpPr/>
            <p:nvPr/>
          </p:nvSpPr>
          <p:spPr>
            <a:xfrm flipH="1">
              <a:off x="1770120" y="1960560"/>
              <a:ext cx="167328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9000" y="1954080"/>
              <a:ext cx="167328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402000" y="1928880"/>
            <a:ext cx="54000" cy="52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4440" y="4568760"/>
            <a:ext cx="58291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účelnost x hospodá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TE ELEPHANTS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K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9680" y="2221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nalýza výdajových programů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3200" y="1773360"/>
            <a:ext cx="6591600" cy="698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. identifikace potřeby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stanovení cí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. identifikace selhání trhu a redistribučního cí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. nalezení alternativních možností (tj. určení varia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4. rozbor variant distribučních dopadů z pohledu efektiv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5. rozbor vztahů mezi efektivností a spravedlností (na základě bodu 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6. zhodnocení variant z pohledu naplnění zadaných cíl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7. společensko-politické souvislost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14440" y="5450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14440" y="1154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 1., 2. zodpovězení otázek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oč?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jaký cíl?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 3. jaké řešení? jakého charakter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tátní regulac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tátní produkc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tátní dotační a daňová politik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4440" y="46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14440" y="603360"/>
            <a:ext cx="5829120" cy="18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„COSTS - BENEFIT“ 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„COSTS - EFFECTIVENESS“ 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111320" y="2400480"/>
                <a:ext cx="3948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 =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463680" y="4068720"/>
            <a:ext cx="598788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V = současná hodnot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ástky B splatné v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le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 = úroková saz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velikost užitku období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6716880"/>
            <a:ext cx="6858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případě, že B je konstantní,  plat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851040" y="7448400"/>
                <a:ext cx="3276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 *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n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14440" y="626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93600" y="676440"/>
          <a:ext cx="6807240" cy="55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676440"/>
                    <a:ext cx="680724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2" name=""/>
          <p:cNvGrpSpPr/>
          <p:nvPr/>
        </p:nvGrpSpPr>
        <p:grpSpPr>
          <a:xfrm>
            <a:off x="644400" y="6197760"/>
            <a:ext cx="3360960" cy="1159200"/>
            <a:chOff x="644400" y="6197760"/>
            <a:chExt cx="3360960" cy="1159200"/>
          </a:xfrm>
        </p:grpSpPr>
        <p:sp>
          <p:nvSpPr>
            <p:cNvPr id="553" name=""/>
            <p:cNvSpPr/>
            <p:nvPr/>
          </p:nvSpPr>
          <p:spPr>
            <a:xfrm>
              <a:off x="1481040" y="6777000"/>
              <a:ext cx="24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87720" y="6303960"/>
              <a:ext cx="0" cy="88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4400" y="6488280"/>
              <a:ext cx="677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25760" y="6197760"/>
              <a:ext cx="49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03360" y="6197760"/>
              <a:ext cx="419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8720" y="619776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03480" y="6303960"/>
              <a:ext cx="0" cy="89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67000" y="6777000"/>
              <a:ext cx="779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 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28680" y="6777000"/>
              <a:ext cx="952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 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67120" y="6777000"/>
              <a:ext cx="1038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5 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14440" y="7429680"/>
            <a:ext cx="4111560" cy="1554840"/>
            <a:chOff x="514440" y="7429680"/>
            <a:chExt cx="4111560" cy="1554840"/>
          </a:xfrm>
        </p:grpSpPr>
        <p:sp>
          <p:nvSpPr>
            <p:cNvPr id="564" name=""/>
            <p:cNvSpPr/>
            <p:nvPr/>
          </p:nvSpPr>
          <p:spPr>
            <a:xfrm>
              <a:off x="514440" y="7429680"/>
              <a:ext cx="85068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%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54120" y="8205840"/>
              <a:ext cx="307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70120" y="7626240"/>
              <a:ext cx="2293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 X,Y,Z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68520" y="8205840"/>
              <a:ext cx="2827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; X než Y,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9840" y="8218440"/>
              <a:ext cx="392040" cy="511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4440" y="5673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19240" y="1352520"/>
          <a:ext cx="714996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352520"/>
                    <a:ext cx="71499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4440" y="3553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ý sektor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Smíšená ekonomika (Mixed econ.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existence P. S. a V. 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uralita vlastnictv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át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oukrom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unicipál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pod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voukanálová koordin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rhe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úloha ce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átními zásah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aňová opatře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ýdajová opatře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regulační opatření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principy VF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. nenávrat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. neekvival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. nedobrovolnost (vynuc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5601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064880"/>
            <a:ext cx="5829120" cy="70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ublic expendi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ntral government expendi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ýdaje mimorozpočtových fond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x expendi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1760" y="58896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1455840"/>
            <a:ext cx="5829120" cy="66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 = T + T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 G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 Ci, k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 - daňové příjm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- nedaňové příjmy (dávky, cla, pokuty apod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- mezinárodní dary, pomoc vlády nižším stupňům státní správ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i - kapitálové příjmy rozpočtu (převody od stavu „stock“ do stavu „flow“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14440" y="4896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360" y="1036800"/>
            <a:ext cx="6361200" cy="70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-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- (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- (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11200" y="-21708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90360" y="826920"/>
          <a:ext cx="6805800" cy="63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826920"/>
                    <a:ext cx="68058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0" y="185760"/>
            <a:ext cx="685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kční klasifikace veřejných výdaj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480" y="6950160"/>
            <a:ext cx="65815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ysvětlení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Státní správa + základní výzkum + pomoc do zahranič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Veřejné osvětlení, odpadky, v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Ekonom. záležitosti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ubvence a dotace některým odvětví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11200" y="250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ládní transakce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11200" y="1585440"/>
            <a:ext cx="5829120" cy="23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příjm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lat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nesplatitelné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platiteln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návratné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návratn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ěžné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apitálov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1200" y="390996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Ek. klasifikace výdajů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1200" y="5214960"/>
            <a:ext cx="58291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běž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a zboží a služb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úrokové platb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ubv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ransfe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 kapitál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6440" y="5760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85840" y="852480"/>
          <a:ext cx="6543720" cy="619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852480"/>
                    <a:ext cx="654372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360360" y="160200"/>
            <a:ext cx="610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ůst výdajů v zemích OE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560" y="6727680"/>
            <a:ext cx="67752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* Povšimněte si, že zde uvedené výdaje se týkají HDP, a nikoli HNP a nejsou tudíž přesně srovnatelné s podíly použitými na předchozích stránká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ramen: viz The Role of the Public Sector, OECD, jaro 1985, s. 2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47200" y="299520"/>
            <a:ext cx="582948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ětšinové pravidlo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89080" y="5907240"/>
            <a:ext cx="5844960" cy="2046600"/>
            <a:chOff x="289080" y="5907240"/>
            <a:chExt cx="5844960" cy="2046600"/>
          </a:xfrm>
        </p:grpSpPr>
        <p:sp>
          <p:nvSpPr>
            <p:cNvPr id="596" name=""/>
            <p:cNvSpPr/>
            <p:nvPr/>
          </p:nvSpPr>
          <p:spPr>
            <a:xfrm>
              <a:off x="289080" y="5907240"/>
              <a:ext cx="5844960" cy="20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ohy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L - paretooptimáln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M      neefektivní 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N       nespravedliv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kvalifikovaná větši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1720" y="6697800"/>
              <a:ext cx="3938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-1855800" y="990360"/>
            <a:ext cx="7746840" cy="7079760"/>
            <a:chOff x="-1855800" y="990360"/>
            <a:chExt cx="7746840" cy="7079760"/>
          </a:xfrm>
        </p:grpSpPr>
        <p:sp>
          <p:nvSpPr>
            <p:cNvPr id="599" name=""/>
            <p:cNvSpPr/>
            <p:nvPr/>
          </p:nvSpPr>
          <p:spPr>
            <a:xfrm>
              <a:off x="2089080" y="397836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81120" y="3584520"/>
              <a:ext cx="39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57480" y="44226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43280" y="4118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43280" y="3352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43200" y="5108400"/>
              <a:ext cx="3147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ůchod A (většin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-811080" y="2484000"/>
              <a:ext cx="3506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ůchod B (menšin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19040" y="137484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20840" y="5032440"/>
              <a:ext cx="380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1855800" y="1974960"/>
              <a:ext cx="6387840" cy="609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0"/>
                  </a:moveTo>
                  <a:arcTo wR="10800" hR="10800" stAng="-5408543" swAng="54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0"/>
                  </a:moveTo>
                  <a:arcTo wR="10800" hR="10800" stAng="-5408543" swAng="540854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14640" y="20606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130480" y="3508200"/>
              <a:ext cx="636480" cy="4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30480" y="4011480"/>
              <a:ext cx="63504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30480" y="3994200"/>
              <a:ext cx="554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41560" y="3092400"/>
              <a:ext cx="347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3240" y="3975120"/>
              <a:ext cx="374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08240" y="4378320"/>
              <a:ext cx="31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657080" y="4010040"/>
              <a:ext cx="447480" cy="325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46040" y="4265640"/>
              <a:ext cx="317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936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946160"/>
            <a:ext cx="2838240" cy="618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 V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60440" y="979200"/>
            <a:ext cx="4083120" cy="71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ádní výdaje (G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ujídající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y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neujídající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57280" y="1238040"/>
            <a:ext cx="684360" cy="1903680"/>
            <a:chOff x="1457280" y="1238040"/>
            <a:chExt cx="684360" cy="1903680"/>
          </a:xfrm>
        </p:grpSpPr>
        <p:sp>
          <p:nvSpPr>
            <p:cNvPr id="91" name=""/>
            <p:cNvSpPr/>
            <p:nvPr/>
          </p:nvSpPr>
          <p:spPr>
            <a:xfrm flipV="1">
              <a:off x="1457280" y="1238040"/>
              <a:ext cx="684360" cy="9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57280" y="2190600"/>
              <a:ext cx="684360" cy="9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706400" y="923760"/>
            <a:ext cx="3919680" cy="6013800"/>
            <a:chOff x="1706400" y="923760"/>
            <a:chExt cx="3919680" cy="6013800"/>
          </a:xfrm>
        </p:grpSpPr>
        <p:sp>
          <p:nvSpPr>
            <p:cNvPr id="94" name=""/>
            <p:cNvSpPr/>
            <p:nvPr/>
          </p:nvSpPr>
          <p:spPr>
            <a:xfrm>
              <a:off x="2239920" y="923760"/>
              <a:ext cx="2265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+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9880" y="2043000"/>
              <a:ext cx="144000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.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39880" y="4138560"/>
              <a:ext cx="144000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.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144468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48000" y="4686120"/>
              <a:ext cx="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8720" y="2584440"/>
              <a:ext cx="0" cy="15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73360" y="2598840"/>
              <a:ext cx="0" cy="15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214720" y="5334120"/>
              <a:ext cx="2500200" cy="1603440"/>
              <a:chOff x="2214720" y="5334120"/>
              <a:chExt cx="2500200" cy="1603440"/>
            </a:xfrm>
          </p:grpSpPr>
          <p:sp>
            <p:nvSpPr>
              <p:cNvPr id="102" name=""/>
              <p:cNvSpPr/>
              <p:nvPr/>
            </p:nvSpPr>
            <p:spPr>
              <a:xfrm>
                <a:off x="2658960" y="5334120"/>
                <a:ext cx="1427400" cy="519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14720" y="6359400"/>
                <a:ext cx="115704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71760" y="6359400"/>
                <a:ext cx="134316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343080" indent="-343080"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851200" y="5873760"/>
                <a:ext cx="496800" cy="49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48000" y="5880240"/>
                <a:ext cx="496800" cy="49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06400" y="2881440"/>
              <a:ext cx="13780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 (daně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56080" y="2881440"/>
              <a:ext cx="207000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transfer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1960" y="7545240"/>
            <a:ext cx="44434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-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čisté da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5238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993600"/>
            <a:ext cx="5829120" cy="713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C + I + G + N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V. = G +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 =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90360"/>
            <a:ext cx="571500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íjmový (důchodový) efekt V.V.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195840"/>
            <a:ext cx="6376320" cy="5959080"/>
            <a:chOff x="0" y="195840"/>
            <a:chExt cx="6376320" cy="5959080"/>
          </a:xfrm>
        </p:grpSpPr>
        <p:sp>
          <p:nvSpPr>
            <p:cNvPr id="114" name=""/>
            <p:cNvSpPr/>
            <p:nvPr/>
          </p:nvSpPr>
          <p:spPr>
            <a:xfrm>
              <a:off x="1440000" y="2416320"/>
              <a:ext cx="3168360" cy="31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57280" y="1724040"/>
              <a:ext cx="0" cy="386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52600" y="5595840"/>
              <a:ext cx="408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49800" y="5635800"/>
              <a:ext cx="1861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atek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1463760"/>
              <a:ext cx="146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atek 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0000" y="3411360"/>
              <a:ext cx="2178000" cy="217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2136960" y="443520"/>
              <a:ext cx="4140720" cy="498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92" y="79"/>
                  </a:moveTo>
                  <a:arcTo wR="10800" hR="10800" stAng="-5817279" swAng="6073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9492" y="79"/>
                  </a:moveTo>
                  <a:arcTo wR="10800" hR="10800" stAng="-5817279" swAng="607369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2738520" y="195840"/>
              <a:ext cx="3637800" cy="47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98" y="23"/>
                  </a:moveTo>
                  <a:arcTo wR="10800" hR="10800" stAng="-5177782" swAng="5412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98" y="23"/>
                  </a:moveTo>
                  <a:arcTo wR="10800" hR="10800" stAng="-5177782" swAng="5412840"/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3000" y="4541760"/>
              <a:ext cx="633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9080" y="5072040"/>
              <a:ext cx="533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8360" y="2068560"/>
              <a:ext cx="860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2120" y="3052800"/>
              <a:ext cx="860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90440" y="5970600"/>
            <a:ext cx="65912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- rozpočtové omezení před V.V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- rozpočtové omezení po V.V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- indiferenční křivk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Příjmový efek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posun rozpočtového omezení o velikosti příslušné dotace, tj. je zachován poměr spotřeby statků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: Y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: Y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konsta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440" y="222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bstituční efekt V.V.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8640" y="-555480"/>
            <a:ext cx="7046280" cy="6738480"/>
            <a:chOff x="458640" y="-555480"/>
            <a:chExt cx="7046280" cy="6738480"/>
          </a:xfrm>
        </p:grpSpPr>
        <p:sp>
          <p:nvSpPr>
            <p:cNvPr id="129" name=""/>
            <p:cNvSpPr/>
            <p:nvPr/>
          </p:nvSpPr>
          <p:spPr>
            <a:xfrm>
              <a:off x="1963800" y="2127240"/>
              <a:ext cx="573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360" y="1766880"/>
              <a:ext cx="523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1120" y="1782720"/>
              <a:ext cx="0" cy="386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6440" y="5654520"/>
              <a:ext cx="40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30760" y="5694480"/>
              <a:ext cx="18352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tatek 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8640" y="1522440"/>
              <a:ext cx="14464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tatek 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1400" y="3348000"/>
              <a:ext cx="1817640" cy="230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55800" y="3362400"/>
              <a:ext cx="3448080" cy="22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-276120"/>
              <a:ext cx="4933080" cy="55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1840" y="-555480"/>
              <a:ext cx="4933080" cy="55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5040" y="5184720"/>
              <a:ext cx="1030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54280" y="5178600"/>
              <a:ext cx="884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000" y="6583320"/>
            <a:ext cx="626256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- rozpočtové omezení před V.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- rozpočtové omezení po V.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- indiferenční křiv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Různé přístupy k V.V.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2219040"/>
            <a:ext cx="5829120" cy="40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kové v.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dílčí v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ouhodobý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krátkodobý vývo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lutní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relativ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běžných cenách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ve stálých cená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KVF</cp:lastModifiedBy>
  <cp:lastPrinted>1998-10-20T10:07:47Z</cp:lastPrinted>
  <dcterms:modified xsi:type="dcterms:W3CDTF">1998-11-02T12:32:40Z</dcterms:modified>
  <cp:revision>62</cp:revision>
  <dc:subject/>
  <dc:title>No Slide Title</dc:title>
</cp:coreProperties>
</file>