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Hobbes, T.: Leviathan (165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09480" y="2743200"/>
            <a:ext cx="556272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akový svět popsal velký filozof 17. století Thomas Hobbes jako svět „kde není místa pro píli, neboť přináší nejisté ovoce; kde neexistuje obdělávání půdy, dovednost navigace, žádné umění; kde panuje neustálý strach z násilné smrti a kde člověku je souzen osamělý, nuzný, ošklivý, surový a krátký život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923760" y="1521000"/>
            <a:ext cx="5675400" cy="4443120"/>
            <a:chOff x="923760" y="1521000"/>
            <a:chExt cx="5675400" cy="4443120"/>
          </a:xfrm>
        </p:grpSpPr>
        <p:sp>
          <p:nvSpPr>
            <p:cNvPr id="196" name=""/>
            <p:cNvSpPr/>
            <p:nvPr/>
          </p:nvSpPr>
          <p:spPr>
            <a:xfrm>
              <a:off x="1973160" y="3463920"/>
              <a:ext cx="1154160" cy="1090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127320" y="2293920"/>
              <a:ext cx="1165320" cy="2273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923760" y="1521000"/>
              <a:ext cx="5675400" cy="4443120"/>
              <a:chOff x="923760" y="1521000"/>
              <a:chExt cx="5675400" cy="4443120"/>
            </a:xfrm>
          </p:grpSpPr>
          <p:sp>
            <p:nvSpPr>
              <p:cNvPr id="199" name=""/>
              <p:cNvSpPr/>
              <p:nvPr/>
            </p:nvSpPr>
            <p:spPr>
              <a:xfrm>
                <a:off x="1973160" y="2319480"/>
                <a:ext cx="2268720" cy="2260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1973160" y="2293920"/>
                <a:ext cx="1154160" cy="2273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custDash>
                  <a:ds d="198592" sp="198592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127320" y="2293920"/>
                <a:ext cx="1139760" cy="1170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custDash>
                  <a:ds d="198592" sp="198592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923760" y="1521000"/>
                <a:ext cx="5675400" cy="4443120"/>
                <a:chOff x="923760" y="1521000"/>
                <a:chExt cx="5675400" cy="44431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923760" y="1521000"/>
                  <a:ext cx="4410360" cy="3886200"/>
                  <a:chOff x="923760" y="1521000"/>
                  <a:chExt cx="4410360" cy="3886200"/>
                </a:xfrm>
              </p:grpSpPr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923760" y="1521000"/>
                    <a:ext cx="4410360" cy="3886200"/>
                    <a:chOff x="923760" y="1521000"/>
                    <a:chExt cx="4410360" cy="388620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936720" y="1521000"/>
                      <a:ext cx="0" cy="38862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flipV="1">
                      <a:off x="923760" y="5394240"/>
                      <a:ext cx="4410360" cy="129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1817640" y="2166840"/>
                    <a:ext cx="2602080" cy="2540160"/>
                    <a:chOff x="1817640" y="2166840"/>
                    <a:chExt cx="2602080" cy="254016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2962440" y="3330720"/>
                      <a:ext cx="281160" cy="266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2556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1817640" y="3330720"/>
                      <a:ext cx="282600" cy="266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2556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113360" y="3330720"/>
                      <a:ext cx="282600" cy="266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2556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2962440" y="2166840"/>
                      <a:ext cx="281160" cy="266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2556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2962440" y="4440240"/>
                      <a:ext cx="281160" cy="266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2556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138560" y="2179800"/>
                      <a:ext cx="281160" cy="266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2556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1817640" y="2179800"/>
                      <a:ext cx="282600" cy="266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2556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1830240" y="4440240"/>
                      <a:ext cx="281160" cy="266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2556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100400" y="4440240"/>
                      <a:ext cx="279360" cy="266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2556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7" name=""/>
                <p:cNvSpPr txBox="1"/>
                <p:nvPr/>
              </p:nvSpPr>
              <p:spPr>
                <a:xfrm>
                  <a:off x="1701720" y="5494320"/>
                  <a:ext cx="4874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 CE"/>
                      <a:ea typeface="Times New Roman CE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 txBox="1"/>
                <p:nvPr/>
              </p:nvSpPr>
              <p:spPr>
                <a:xfrm>
                  <a:off x="2871720" y="5481720"/>
                  <a:ext cx="4618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 CE"/>
                      <a:ea typeface="Times New Roman CE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 txBox="1"/>
                <p:nvPr/>
              </p:nvSpPr>
              <p:spPr>
                <a:xfrm>
                  <a:off x="3997440" y="5506920"/>
                  <a:ext cx="6397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 CE"/>
                      <a:ea typeface="Times New Roman CE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 txBox="1"/>
                <p:nvPr/>
              </p:nvSpPr>
              <p:spPr>
                <a:xfrm>
                  <a:off x="5253120" y="5418000"/>
                  <a:ext cx="603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 CE"/>
                      <a:ea typeface="Times New Roman CE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 txBox="1"/>
                <p:nvPr/>
              </p:nvSpPr>
              <p:spPr>
                <a:xfrm>
                  <a:off x="4586400" y="2077920"/>
                  <a:ext cx="18334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 CE"/>
                      <a:ea typeface="Times New Roman CE"/>
                    </a:rPr>
                    <a:t>(2) volič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 txBox="1"/>
                <p:nvPr/>
              </p:nvSpPr>
              <p:spPr>
                <a:xfrm>
                  <a:off x="4637160" y="3235320"/>
                  <a:ext cx="17064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 CE"/>
                      <a:ea typeface="Times New Roman CE"/>
                    </a:rPr>
                    <a:t>(3) volič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 txBox="1"/>
                <p:nvPr/>
              </p:nvSpPr>
              <p:spPr>
                <a:xfrm>
                  <a:off x="4662360" y="4351320"/>
                  <a:ext cx="19368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 CE"/>
                      <a:ea typeface="Times New Roman CE"/>
                    </a:rPr>
                    <a:t>(1) volič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4" name=""/>
          <p:cNvSpPr txBox="1"/>
          <p:nvPr/>
        </p:nvSpPr>
        <p:spPr>
          <a:xfrm>
            <a:off x="439560" y="1582560"/>
            <a:ext cx="403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Arr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14440" y="26416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ákon nemožnost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ARROWOVA VĚ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existuje žádná hlasovací metoda na principu většinového pravidla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terá nezávisí na jednacím pořádku, zaručuje efektivnost, respektuje individ. prefere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J. A. de Condorc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42880" y="2295360"/>
            <a:ext cx="5829480" cy="14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18. stole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„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lasovací“ parad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55480" y="4343400"/>
            <a:ext cx="580536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K. Arr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55480" y="5530680"/>
            <a:ext cx="580536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heorem nemož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og -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42880" y="2347920"/>
            <a:ext cx="582948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zájmové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42880" y="3138480"/>
            <a:ext cx="5829480" cy="589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užití tří  mechanismů sí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skytování informací volič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skytování informací politik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římá či nepřímá podplácení politi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ltruističtí poli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oučasný politický systém vede k neefektivnosti, preference soukromých záj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utnost kontr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5920" y="345960"/>
            <a:ext cx="6602400" cy="2043360"/>
            <a:chOff x="115920" y="345960"/>
            <a:chExt cx="6602400" cy="2043360"/>
          </a:xfrm>
        </p:grpSpPr>
        <p:sp>
          <p:nvSpPr>
            <p:cNvPr id="234" name=""/>
            <p:cNvSpPr/>
            <p:nvPr/>
          </p:nvSpPr>
          <p:spPr>
            <a:xfrm flipV="1">
              <a:off x="496800" y="1143000"/>
              <a:ext cx="3902040" cy="11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254160" y="345960"/>
              <a:ext cx="168588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2 stran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4560840" y="806400"/>
              <a:ext cx="215748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 = veřejné výdaj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115920" y="1870200"/>
              <a:ext cx="49863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M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➔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preferuje volič mediá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04760" y="1096920"/>
              <a:ext cx="0" cy="150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76520" y="1098720"/>
              <a:ext cx="0" cy="150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57280" y="1096920"/>
              <a:ext cx="0" cy="150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48040" y="1098720"/>
              <a:ext cx="0" cy="150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46600" y="1098720"/>
              <a:ext cx="0" cy="150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1407960" y="1212840"/>
              <a:ext cx="566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2681280" y="1262160"/>
              <a:ext cx="566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2103480" y="1262160"/>
              <a:ext cx="566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3581280" y="1238400"/>
              <a:ext cx="566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762120" y="1214280"/>
              <a:ext cx="681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Novodobé dějiny fiskální doktrin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14440" y="2898720"/>
            <a:ext cx="582948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) období klasických finan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 30. let 20. stol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) období moderních finan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d 30. let 20. stol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eynesián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oklas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oc. f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514440" y="812880"/>
            <a:ext cx="58294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Tři faktory změn v pojetí veřejných výdaj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41360" y="3336840"/>
            <a:ext cx="582948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měny ekonomické a sociální struktury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měny v chápání úlohy st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měny ve fiskální politice vlá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514440" y="843120"/>
            <a:ext cx="283860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. Raš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inistr finan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918-19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922-19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505320" y="843120"/>
            <a:ext cx="2838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. Engliš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inistr finan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920-19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925-19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uvernér ČN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929-19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01760" y="5210280"/>
            <a:ext cx="606420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* teleologická hospodářská teo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ákon č. 95/1948 Sb. o rozpočtovém provizor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ákon č. 433/1919 o státním rozpočtu Československé republiky (schválen v červnu 19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-434880" y="2662200"/>
            <a:ext cx="6584760" cy="4084560"/>
            <a:chOff x="-434880" y="2662200"/>
            <a:chExt cx="6584760" cy="4084560"/>
          </a:xfrm>
        </p:grpSpPr>
        <p:sp>
          <p:nvSpPr>
            <p:cNvPr id="256" name=""/>
            <p:cNvSpPr txBox="1"/>
            <p:nvPr/>
          </p:nvSpPr>
          <p:spPr>
            <a:xfrm>
              <a:off x="3025800" y="628956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ůchod skupiny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-434880" y="2662200"/>
              <a:ext cx="5594400" cy="3349800"/>
              <a:chOff x="-434880" y="2662200"/>
              <a:chExt cx="5594400" cy="3349800"/>
            </a:xfrm>
          </p:grpSpPr>
          <p:sp>
            <p:nvSpPr>
              <p:cNvPr id="258" name=""/>
              <p:cNvSpPr/>
              <p:nvPr/>
            </p:nvSpPr>
            <p:spPr>
              <a:xfrm>
                <a:off x="1359000" y="6012000"/>
                <a:ext cx="3800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357200" y="2662200"/>
                <a:ext cx="0" cy="3349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369440" y="3209760"/>
                <a:ext cx="3201480" cy="2792880"/>
              </a:xfrm>
              <a:custGeom>
                <a:avLst/>
                <a:gdLst/>
                <a:ahLst/>
                <a:rect l="0" t="0" r="r" b="b"/>
                <a:pathLst>
                  <a:path fill="none" w="8893" h="7758">
                    <a:moveTo>
                      <a:pt x="8893" y="7758"/>
                    </a:moveTo>
                    <a:lnTo>
                      <a:pt x="8893" y="7758"/>
                    </a:lnTo>
                    <a:lnTo>
                      <a:pt x="8893" y="7758"/>
                    </a:lnTo>
                    <a:cubicBezTo>
                      <a:pt x="8893" y="6396"/>
                      <a:pt x="8483" y="5058"/>
                      <a:pt x="7704" y="3879"/>
                    </a:cubicBezTo>
                    <a:cubicBezTo>
                      <a:pt x="6925" y="2700"/>
                      <a:pt x="5805" y="1720"/>
                      <a:pt x="4456" y="1039"/>
                    </a:cubicBezTo>
                    <a:cubicBezTo>
                      <a:pt x="3107" y="358"/>
                      <a:pt x="1577" y="0"/>
                      <a:pt x="19" y="0"/>
                    </a:cubicBezTo>
                    <a:cubicBezTo>
                      <a:pt x="13" y="0"/>
                      <a:pt x="6" y="0"/>
                      <a:pt x="0" y="0"/>
                    </a:cubicBez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-434880" y="3538440"/>
                <a:ext cx="27432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Důchod skupiny 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1182600" y="2058840"/>
            <a:ext cx="4345200" cy="3637440"/>
            <a:chOff x="1182600" y="2058840"/>
            <a:chExt cx="4345200" cy="3637440"/>
          </a:xfrm>
        </p:grpSpPr>
        <p:sp>
          <p:nvSpPr>
            <p:cNvPr id="263" name=""/>
            <p:cNvSpPr/>
            <p:nvPr/>
          </p:nvSpPr>
          <p:spPr>
            <a:xfrm>
              <a:off x="1214280" y="2058840"/>
              <a:ext cx="0" cy="36356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82600" y="5694480"/>
              <a:ext cx="434520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08160" y="2550960"/>
              <a:ext cx="3351600" cy="3145320"/>
            </a:xfrm>
            <a:custGeom>
              <a:avLst/>
              <a:gdLst/>
              <a:ahLst/>
              <a:rect l="0" t="0" r="r" b="b"/>
              <a:pathLst>
                <a:path fill="none" w="9310" h="8737">
                  <a:moveTo>
                    <a:pt x="9310" y="8737"/>
                  </a:moveTo>
                  <a:lnTo>
                    <a:pt x="9310" y="8737"/>
                  </a:lnTo>
                  <a:lnTo>
                    <a:pt x="9310" y="8737"/>
                  </a:lnTo>
                  <a:cubicBezTo>
                    <a:pt x="9310" y="7203"/>
                    <a:pt x="8880" y="5697"/>
                    <a:pt x="8063" y="4368"/>
                  </a:cubicBezTo>
                  <a:cubicBezTo>
                    <a:pt x="7246" y="3040"/>
                    <a:pt x="6070" y="1937"/>
                    <a:pt x="4655" y="1171"/>
                  </a:cubicBezTo>
                  <a:cubicBezTo>
                    <a:pt x="3240" y="404"/>
                    <a:pt x="1634" y="0"/>
                    <a:pt x="0" y="0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08160" y="3951360"/>
              <a:ext cx="277344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397183" sp="397183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32280" y="3952800"/>
              <a:ext cx="0" cy="173052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397183" sp="397183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28800" y="6338880"/>
            <a:ext cx="3046320" cy="21891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344840" y="3432240"/>
            <a:ext cx="1154160" cy="6112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579600" y="2400480"/>
            <a:ext cx="504720" cy="5414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579600" y="3771720"/>
            <a:ext cx="504720" cy="5414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3678120" y="5894280"/>
            <a:ext cx="360360" cy="417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4287960" y="5867280"/>
            <a:ext cx="369720" cy="461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7"/>
          <a:stretch/>
        </p:blipFill>
        <p:spPr>
          <a:xfrm>
            <a:off x="5076720" y="5748480"/>
            <a:ext cx="324000" cy="3459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838080" y="579132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Tři výsledky kolektivní a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984400" y="62308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ůchod skupiny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-476280" y="2454120"/>
            <a:ext cx="6088680" cy="3498840"/>
            <a:chOff x="-476280" y="2454120"/>
            <a:chExt cx="6088680" cy="3498840"/>
          </a:xfrm>
        </p:grpSpPr>
        <p:grpSp>
          <p:nvGrpSpPr>
            <p:cNvPr id="279" name=""/>
            <p:cNvGrpSpPr/>
            <p:nvPr/>
          </p:nvGrpSpPr>
          <p:grpSpPr>
            <a:xfrm>
              <a:off x="-476280" y="2603520"/>
              <a:ext cx="5594400" cy="3349440"/>
              <a:chOff x="-476280" y="2603520"/>
              <a:chExt cx="5594400" cy="3349440"/>
            </a:xfrm>
          </p:grpSpPr>
          <p:sp>
            <p:nvSpPr>
              <p:cNvPr id="280" name=""/>
              <p:cNvSpPr/>
              <p:nvPr/>
            </p:nvSpPr>
            <p:spPr>
              <a:xfrm>
                <a:off x="1317600" y="5952960"/>
                <a:ext cx="3800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316160" y="2603520"/>
                <a:ext cx="0" cy="3349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328040" y="3151080"/>
                <a:ext cx="3201480" cy="2792880"/>
              </a:xfrm>
              <a:custGeom>
                <a:avLst/>
                <a:gdLst/>
                <a:ahLst/>
                <a:rect l="0" t="0" r="r" b="b"/>
                <a:pathLst>
                  <a:path fill="none" w="8893" h="7758">
                    <a:moveTo>
                      <a:pt x="8893" y="7758"/>
                    </a:moveTo>
                    <a:lnTo>
                      <a:pt x="8893" y="7758"/>
                    </a:lnTo>
                    <a:lnTo>
                      <a:pt x="8893" y="7758"/>
                    </a:lnTo>
                    <a:cubicBezTo>
                      <a:pt x="8893" y="6396"/>
                      <a:pt x="8483" y="5058"/>
                      <a:pt x="7704" y="3879"/>
                    </a:cubicBezTo>
                    <a:cubicBezTo>
                      <a:pt x="6925" y="2700"/>
                      <a:pt x="5805" y="1720"/>
                      <a:pt x="4456" y="1039"/>
                    </a:cubicBezTo>
                    <a:cubicBezTo>
                      <a:pt x="3107" y="358"/>
                      <a:pt x="1577" y="0"/>
                      <a:pt x="19" y="0"/>
                    </a:cubicBezTo>
                    <a:cubicBezTo>
                      <a:pt x="13" y="0"/>
                      <a:pt x="6" y="0"/>
                      <a:pt x="0" y="0"/>
                    </a:cubicBez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 txBox="1"/>
              <p:nvPr/>
            </p:nvSpPr>
            <p:spPr>
              <a:xfrm>
                <a:off x="-476280" y="3471840"/>
                <a:ext cx="27432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Důchod skupiny 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3214800" y="2454120"/>
              <a:ext cx="2397600" cy="1067040"/>
              <a:chOff x="3214800" y="2454120"/>
              <a:chExt cx="2397600" cy="1067040"/>
            </a:xfrm>
          </p:grpSpPr>
          <p:sp>
            <p:nvSpPr>
              <p:cNvPr id="285" name=""/>
              <p:cNvSpPr/>
              <p:nvPr/>
            </p:nvSpPr>
            <p:spPr>
              <a:xfrm>
                <a:off x="3214800" y="2454120"/>
                <a:ext cx="2397600" cy="1067040"/>
              </a:xfrm>
              <a:custGeom>
                <a:avLst/>
                <a:gdLst/>
                <a:ahLst/>
                <a:rect l="0" t="0" r="r" b="b"/>
                <a:pathLst>
                  <a:path fill="none" w="6660" h="2964">
                    <a:moveTo>
                      <a:pt x="1097" y="0"/>
                    </a:moveTo>
                    <a:lnTo>
                      <a:pt x="872" y="15"/>
                    </a:lnTo>
                    <a:lnTo>
                      <a:pt x="674" y="26"/>
                    </a:lnTo>
                    <a:lnTo>
                      <a:pt x="502" y="69"/>
                    </a:lnTo>
                    <a:lnTo>
                      <a:pt x="326" y="126"/>
                    </a:lnTo>
                    <a:lnTo>
                      <a:pt x="202" y="199"/>
                    </a:lnTo>
                    <a:lnTo>
                      <a:pt x="101" y="269"/>
                    </a:lnTo>
                    <a:lnTo>
                      <a:pt x="26" y="342"/>
                    </a:lnTo>
                    <a:lnTo>
                      <a:pt x="0" y="426"/>
                    </a:lnTo>
                    <a:lnTo>
                      <a:pt x="0" y="1511"/>
                    </a:lnTo>
                    <a:lnTo>
                      <a:pt x="0" y="2153"/>
                    </a:lnTo>
                    <a:lnTo>
                      <a:pt x="26" y="2237"/>
                    </a:lnTo>
                    <a:lnTo>
                      <a:pt x="101" y="2322"/>
                    </a:lnTo>
                    <a:lnTo>
                      <a:pt x="202" y="2395"/>
                    </a:lnTo>
                    <a:lnTo>
                      <a:pt x="326" y="2453"/>
                    </a:lnTo>
                    <a:lnTo>
                      <a:pt x="502" y="2506"/>
                    </a:lnTo>
                    <a:lnTo>
                      <a:pt x="674" y="2549"/>
                    </a:lnTo>
                    <a:lnTo>
                      <a:pt x="872" y="2564"/>
                    </a:lnTo>
                    <a:lnTo>
                      <a:pt x="1097" y="2579"/>
                    </a:lnTo>
                    <a:lnTo>
                      <a:pt x="202" y="2964"/>
                    </a:lnTo>
                    <a:lnTo>
                      <a:pt x="2768" y="2579"/>
                    </a:lnTo>
                    <a:lnTo>
                      <a:pt x="5536" y="2579"/>
                    </a:lnTo>
                    <a:lnTo>
                      <a:pt x="5761" y="2564"/>
                    </a:lnTo>
                    <a:lnTo>
                      <a:pt x="5986" y="2549"/>
                    </a:lnTo>
                    <a:lnTo>
                      <a:pt x="6162" y="2506"/>
                    </a:lnTo>
                    <a:lnTo>
                      <a:pt x="6334" y="2453"/>
                    </a:lnTo>
                    <a:lnTo>
                      <a:pt x="6462" y="2395"/>
                    </a:lnTo>
                    <a:lnTo>
                      <a:pt x="6585" y="2322"/>
                    </a:lnTo>
                    <a:lnTo>
                      <a:pt x="6634" y="2237"/>
                    </a:lnTo>
                    <a:lnTo>
                      <a:pt x="6660" y="2153"/>
                    </a:lnTo>
                    <a:lnTo>
                      <a:pt x="6660" y="1511"/>
                    </a:lnTo>
                    <a:lnTo>
                      <a:pt x="6660" y="426"/>
                    </a:lnTo>
                    <a:lnTo>
                      <a:pt x="6634" y="342"/>
                    </a:lnTo>
                    <a:lnTo>
                      <a:pt x="6585" y="269"/>
                    </a:lnTo>
                    <a:lnTo>
                      <a:pt x="6462" y="199"/>
                    </a:lnTo>
                    <a:lnTo>
                      <a:pt x="6334" y="126"/>
                    </a:lnTo>
                    <a:lnTo>
                      <a:pt x="6162" y="69"/>
                    </a:lnTo>
                    <a:lnTo>
                      <a:pt x="5986" y="26"/>
                    </a:lnTo>
                    <a:lnTo>
                      <a:pt x="5761" y="15"/>
                    </a:lnTo>
                    <a:lnTo>
                      <a:pt x="5536" y="0"/>
                    </a:lnTo>
                    <a:lnTo>
                      <a:pt x="2768" y="0"/>
                    </a:lnTo>
                    <a:lnTo>
                      <a:pt x="1097" y="0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>
                <a:off x="3400560" y="2548080"/>
                <a:ext cx="2025720" cy="92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Důchody dostupné </a:t>
                </a:r>
                <a:br>
                  <a:rPr sz="2200"/>
                </a:br>
                <a:r>
                  <a:rPr b="1" lang="en-US" sz="22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při kolekt. akci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1562040" y="3733920"/>
            <a:ext cx="2022480" cy="1957320"/>
            <a:chOff x="1562040" y="3733920"/>
            <a:chExt cx="2022480" cy="1957320"/>
          </a:xfrm>
        </p:grpSpPr>
        <p:grpSp>
          <p:nvGrpSpPr>
            <p:cNvPr id="288" name=""/>
            <p:cNvGrpSpPr/>
            <p:nvPr/>
          </p:nvGrpSpPr>
          <p:grpSpPr>
            <a:xfrm>
              <a:off x="2154240" y="4635360"/>
              <a:ext cx="530280" cy="473040"/>
              <a:chOff x="2154240" y="4635360"/>
              <a:chExt cx="530280" cy="473040"/>
            </a:xfrm>
          </p:grpSpPr>
          <p:sp>
            <p:nvSpPr>
              <p:cNvPr id="289" name=""/>
              <p:cNvSpPr/>
              <p:nvPr/>
            </p:nvSpPr>
            <p:spPr>
              <a:xfrm>
                <a:off x="2154240" y="4635360"/>
                <a:ext cx="530280" cy="473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>
                <a:off x="2251080" y="4646520"/>
                <a:ext cx="345960" cy="426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465280" y="3733920"/>
              <a:ext cx="530280" cy="474480"/>
              <a:chOff x="2465280" y="3733920"/>
              <a:chExt cx="530280" cy="474480"/>
            </a:xfrm>
          </p:grpSpPr>
          <p:sp>
            <p:nvSpPr>
              <p:cNvPr id="292" name=""/>
              <p:cNvSpPr/>
              <p:nvPr/>
            </p:nvSpPr>
            <p:spPr>
              <a:xfrm>
                <a:off x="2465280" y="3733920"/>
                <a:ext cx="530280" cy="473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2554200" y="3751200"/>
                <a:ext cx="4190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054240" y="5218200"/>
              <a:ext cx="530280" cy="473040"/>
              <a:chOff x="3054240" y="5218200"/>
              <a:chExt cx="530280" cy="473040"/>
            </a:xfrm>
          </p:grpSpPr>
          <p:sp>
            <p:nvSpPr>
              <p:cNvPr id="295" name=""/>
              <p:cNvSpPr/>
              <p:nvPr/>
            </p:nvSpPr>
            <p:spPr>
              <a:xfrm>
                <a:off x="3054240" y="5218200"/>
                <a:ext cx="530280" cy="473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3146400" y="5224320"/>
                <a:ext cx="404640" cy="426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562040" y="5170320"/>
              <a:ext cx="531720" cy="473040"/>
              <a:chOff x="1562040" y="5170320"/>
              <a:chExt cx="531720" cy="473040"/>
            </a:xfrm>
          </p:grpSpPr>
          <p:sp>
            <p:nvSpPr>
              <p:cNvPr id="298" name=""/>
              <p:cNvSpPr/>
              <p:nvPr/>
            </p:nvSpPr>
            <p:spPr>
              <a:xfrm>
                <a:off x="1562040" y="5170320"/>
                <a:ext cx="530280" cy="473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1589040" y="5194440"/>
                <a:ext cx="504720" cy="426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W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2671920" y="4965840"/>
              <a:ext cx="460080" cy="301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979640" y="4992840"/>
              <a:ext cx="214200" cy="199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482920" y="4199040"/>
              <a:ext cx="171360" cy="431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 txBox="1"/>
          <p:nvPr/>
        </p:nvSpPr>
        <p:spPr>
          <a:xfrm>
            <a:off x="490680" y="6680160"/>
            <a:ext cx="6032520" cy="21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egenda:</a:t>
            </a: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: </a:t>
            </a:r>
            <a:r>
              <a:rPr b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od laissez faire.</a:t>
            </a:r>
            <a:br>
              <a:rPr sz="1800"/>
            </a:br>
            <a:r>
              <a:rPr b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P: </a:t>
            </a:r>
            <a:r>
              <a:rPr b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aždý si polepší</a:t>
            </a:r>
            <a:r>
              <a:rPr b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W: </a:t>
            </a:r>
            <a:r>
              <a:rPr b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ládní selhání (každý si pohorší).</a:t>
            </a:r>
            <a:br>
              <a:rPr sz="1800"/>
            </a:br>
            <a:r>
              <a:rPr b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R: </a:t>
            </a:r>
            <a:r>
              <a:rPr b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fekt přerozdělení (odnětí zdrojů 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upině B a jejich postoupení skupině 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14440" y="828720"/>
            <a:ext cx="5829480" cy="72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orie veřejné vol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hodovací pravid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olební parad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rrowův teorem nemož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olič - medi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Teorie veřejné volby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(PUBLIC CHOI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80960" y="29224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chumpeter, J.: Capitalism, Socialism and Democracy (194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wns, A.: Economic Theory of Democracy (195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. Arrow, J. Buchanan, G. Tul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46040" y="262080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3880" y="682560"/>
            <a:ext cx="6207120" cy="4237560"/>
            <a:chOff x="353880" y="682560"/>
            <a:chExt cx="6207120" cy="4237560"/>
          </a:xfrm>
        </p:grpSpPr>
        <p:sp>
          <p:nvSpPr>
            <p:cNvPr id="83" name=""/>
            <p:cNvSpPr txBox="1"/>
            <p:nvPr/>
          </p:nvSpPr>
          <p:spPr>
            <a:xfrm>
              <a:off x="2784600" y="865080"/>
              <a:ext cx="1085760" cy="569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volič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4397400" y="866880"/>
              <a:ext cx="1565280" cy="99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ájmové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kupin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739800" y="1700280"/>
              <a:ext cx="1595520" cy="99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litická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hr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771480" y="2948040"/>
              <a:ext cx="1574640" cy="569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avid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2730600" y="2278080"/>
              <a:ext cx="1380960" cy="569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litic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4611600" y="2552760"/>
              <a:ext cx="1949400" cy="569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yrokraci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425520" y="3833640"/>
              <a:ext cx="1482840" cy="569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ákon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2376360" y="3813120"/>
              <a:ext cx="1461960" cy="99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volební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ysté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51240" y="1425600"/>
              <a:ext cx="0" cy="8730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25600" y="1892160"/>
              <a:ext cx="1025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0040" y="1851120"/>
              <a:ext cx="0" cy="7110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954000" y="3517920"/>
              <a:ext cx="598680" cy="325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42960" y="3508200"/>
              <a:ext cx="1554120" cy="314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70360" y="1139760"/>
              <a:ext cx="527040" cy="274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889440" y="1425600"/>
              <a:ext cx="519120" cy="852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71760" y="2836800"/>
              <a:ext cx="1829160" cy="600480"/>
            </a:xfrm>
            <a:custGeom>
              <a:avLst/>
              <a:gdLst/>
              <a:ahLst/>
              <a:rect l="0" t="0" r="r" b="b"/>
              <a:pathLst>
                <a:path fill="none" w="5081" h="1668">
                  <a:moveTo>
                    <a:pt x="0" y="0"/>
                  </a:moveTo>
                  <a:lnTo>
                    <a:pt x="0" y="1668"/>
                  </a:lnTo>
                  <a:lnTo>
                    <a:pt x="5081" y="1668"/>
                  </a:lnTo>
                  <a:lnTo>
                    <a:pt x="5081" y="763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22440" y="682560"/>
              <a:ext cx="3669120" cy="1027440"/>
            </a:xfrm>
            <a:custGeom>
              <a:avLst/>
              <a:gdLst/>
              <a:ahLst/>
              <a:rect l="0" t="0" r="r" b="b"/>
              <a:pathLst>
                <a:path fill="none" w="10192" h="2854">
                  <a:moveTo>
                    <a:pt x="0" y="2854"/>
                  </a:moveTo>
                  <a:lnTo>
                    <a:pt x="0" y="0"/>
                  </a:lnTo>
                  <a:lnTo>
                    <a:pt x="10192" y="30"/>
                  </a:lnTo>
                  <a:lnTo>
                    <a:pt x="10192" y="537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3880" y="2197080"/>
              <a:ext cx="5426280" cy="2723040"/>
            </a:xfrm>
            <a:custGeom>
              <a:avLst/>
              <a:gdLst/>
              <a:ahLst/>
              <a:rect l="0" t="0" r="r" b="b"/>
              <a:pathLst>
                <a:path fill="none" w="15073" h="7564">
                  <a:moveTo>
                    <a:pt x="1102" y="0"/>
                  </a:moveTo>
                  <a:lnTo>
                    <a:pt x="0" y="0"/>
                  </a:lnTo>
                  <a:lnTo>
                    <a:pt x="0" y="7564"/>
                  </a:lnTo>
                  <a:lnTo>
                    <a:pt x="15073" y="7564"/>
                  </a:lnTo>
                  <a:lnTo>
                    <a:pt x="15073" y="2541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2880" y="5396040"/>
            <a:ext cx="6370920" cy="2887560"/>
            <a:chOff x="272880" y="5396040"/>
            <a:chExt cx="6370920" cy="2887560"/>
          </a:xfrm>
        </p:grpSpPr>
        <p:sp>
          <p:nvSpPr>
            <p:cNvPr id="102" name=""/>
            <p:cNvSpPr txBox="1"/>
            <p:nvPr/>
          </p:nvSpPr>
          <p:spPr>
            <a:xfrm>
              <a:off x="272880" y="5396040"/>
              <a:ext cx="2235240" cy="99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olektivní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hodován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2727360" y="5397480"/>
              <a:ext cx="1473120" cy="99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veřejný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tate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4438800" y="5618160"/>
              <a:ext cx="2205000" cy="569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edělitelno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282600" y="6859440"/>
              <a:ext cx="6319800" cy="1424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hl. problém      Jak integrovat individ. preference voličů do kolektivního rozhodnut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00200" y="5913360"/>
              <a:ext cx="23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87880" y="5954760"/>
              <a:ext cx="263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41280" y="6391440"/>
              <a:ext cx="0" cy="477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09840" y="7174080"/>
              <a:ext cx="374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14440" y="431640"/>
            <a:ext cx="582948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Kolektivní a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-542880" y="1503360"/>
            <a:ext cx="6638760" cy="4229280"/>
            <a:chOff x="-542880" y="1503360"/>
            <a:chExt cx="6638760" cy="4229280"/>
          </a:xfrm>
        </p:grpSpPr>
        <p:grpSp>
          <p:nvGrpSpPr>
            <p:cNvPr id="112" name=""/>
            <p:cNvGrpSpPr/>
            <p:nvPr/>
          </p:nvGrpSpPr>
          <p:grpSpPr>
            <a:xfrm>
              <a:off x="-542880" y="1503360"/>
              <a:ext cx="6638760" cy="4229280"/>
              <a:chOff x="-542880" y="1503360"/>
              <a:chExt cx="6638760" cy="4229280"/>
            </a:xfrm>
          </p:grpSpPr>
          <p:sp>
            <p:nvSpPr>
              <p:cNvPr id="113" name=""/>
              <p:cNvSpPr txBox="1"/>
              <p:nvPr/>
            </p:nvSpPr>
            <p:spPr>
              <a:xfrm>
                <a:off x="2971800" y="5275440"/>
                <a:ext cx="31240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Důchod skupiny 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-542880" y="1503360"/>
                <a:ext cx="5648400" cy="3483000"/>
                <a:chOff x="-542880" y="1503360"/>
                <a:chExt cx="5648400" cy="34830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305000" y="4986360"/>
                  <a:ext cx="3800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303200" y="1503360"/>
                  <a:ext cx="0" cy="3483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315440" y="2071800"/>
                  <a:ext cx="3201480" cy="2905560"/>
                </a:xfrm>
                <a:custGeom>
                  <a:avLst/>
                  <a:gdLst/>
                  <a:ahLst/>
                  <a:rect l="0" t="0" r="r" b="b"/>
                  <a:pathLst>
                    <a:path fill="none" w="8893" h="8071">
                      <a:moveTo>
                        <a:pt x="8893" y="8071"/>
                      </a:moveTo>
                      <a:lnTo>
                        <a:pt x="8893" y="8071"/>
                      </a:lnTo>
                      <a:lnTo>
                        <a:pt x="8893" y="8071"/>
                      </a:lnTo>
                      <a:cubicBezTo>
                        <a:pt x="8893" y="6654"/>
                        <a:pt x="8483" y="5262"/>
                        <a:pt x="7704" y="4035"/>
                      </a:cubicBezTo>
                      <a:cubicBezTo>
                        <a:pt x="6925" y="2809"/>
                        <a:pt x="5805" y="1790"/>
                        <a:pt x="4456" y="1081"/>
                      </a:cubicBezTo>
                      <a:cubicBezTo>
                        <a:pt x="3107" y="373"/>
                        <a:pt x="1577" y="0"/>
                        <a:pt x="19" y="0"/>
                      </a:cubicBezTo>
                      <a:cubicBezTo>
                        <a:pt x="13" y="0"/>
                        <a:pt x="6" y="0"/>
                        <a:pt x="0" y="0"/>
                      </a:cubicBez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 txBox="1"/>
                <p:nvPr/>
              </p:nvSpPr>
              <p:spPr>
                <a:xfrm>
                  <a:off x="-542880" y="2422440"/>
                  <a:ext cx="2852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 CE"/>
                      <a:ea typeface="Times New Roman CE"/>
                    </a:rPr>
                    <a:t>Důchod skupiny 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" name=""/>
            <p:cNvGrpSpPr/>
            <p:nvPr/>
          </p:nvGrpSpPr>
          <p:grpSpPr>
            <a:xfrm>
              <a:off x="3352680" y="1936800"/>
              <a:ext cx="2679840" cy="945000"/>
              <a:chOff x="3352680" y="1936800"/>
              <a:chExt cx="2679840" cy="945000"/>
            </a:xfrm>
          </p:grpSpPr>
          <p:sp>
            <p:nvSpPr>
              <p:cNvPr id="120" name=""/>
              <p:cNvSpPr/>
              <p:nvPr/>
            </p:nvSpPr>
            <p:spPr>
              <a:xfrm>
                <a:off x="3352680" y="1936800"/>
                <a:ext cx="2667240" cy="945000"/>
              </a:xfrm>
              <a:custGeom>
                <a:avLst/>
                <a:gdLst/>
                <a:ahLst/>
                <a:rect l="0" t="0" r="r" b="b"/>
                <a:pathLst>
                  <a:path fill="none" w="7409" h="2625">
                    <a:moveTo>
                      <a:pt x="0" y="262"/>
                    </a:moveTo>
                    <a:lnTo>
                      <a:pt x="0" y="2101"/>
                    </a:lnTo>
                    <a:lnTo>
                      <a:pt x="740" y="2363"/>
                    </a:lnTo>
                    <a:lnTo>
                      <a:pt x="1481" y="2363"/>
                    </a:lnTo>
                    <a:lnTo>
                      <a:pt x="740" y="2625"/>
                    </a:lnTo>
                    <a:lnTo>
                      <a:pt x="2222" y="2363"/>
                    </a:lnTo>
                    <a:lnTo>
                      <a:pt x="6668" y="2363"/>
                    </a:lnTo>
                    <a:lnTo>
                      <a:pt x="7409" y="2101"/>
                    </a:lnTo>
                    <a:lnTo>
                      <a:pt x="7409" y="262"/>
                    </a:lnTo>
                    <a:lnTo>
                      <a:pt x="6668" y="0"/>
                    </a:lnTo>
                    <a:lnTo>
                      <a:pt x="740" y="0"/>
                    </a:lnTo>
                    <a:lnTo>
                      <a:pt x="0" y="26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3481560" y="1973160"/>
                <a:ext cx="255096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Důchody dostupné při kolekt. akci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1981080" y="3025800"/>
              <a:ext cx="457200" cy="457200"/>
              <a:chOff x="1981080" y="3025800"/>
              <a:chExt cx="457200" cy="457200"/>
            </a:xfrm>
          </p:grpSpPr>
          <p:sp>
            <p:nvSpPr>
              <p:cNvPr id="123" name=""/>
              <p:cNvSpPr txBox="1"/>
              <p:nvPr/>
            </p:nvSpPr>
            <p:spPr>
              <a:xfrm>
                <a:off x="2057400" y="3025800"/>
                <a:ext cx="3808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981080" y="3316320"/>
                <a:ext cx="76320" cy="73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 txBox="1"/>
            <p:nvPr/>
          </p:nvSpPr>
          <p:spPr>
            <a:xfrm>
              <a:off x="1523880" y="3822840"/>
              <a:ext cx="251460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ůchody dostupné bez kolektivní ak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 txBox="1"/>
          <p:nvPr/>
        </p:nvSpPr>
        <p:spPr>
          <a:xfrm>
            <a:off x="304920" y="5869080"/>
            <a:ext cx="6019920" cy="21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egend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od E: Výsledek čistého laissez fai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ři kolektivních akcích se 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můž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důchod 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každého zvyšovat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 tím, jak se společnost pohybuje z bodu E k hranici důchodových možností.</a:t>
            </a:r>
            <a:r>
              <a:rPr b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Kolektivní rozhodování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14440" y="26416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dnohlasná sh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ětšin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lurali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le počtu získaných bo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42880" y="477720"/>
            <a:ext cx="582948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Rozhodování konsens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-1152360" y="1866960"/>
            <a:ext cx="7427520" cy="4513320"/>
            <a:chOff x="-1152360" y="1866960"/>
            <a:chExt cx="7427520" cy="4513320"/>
          </a:xfrm>
        </p:grpSpPr>
        <p:sp>
          <p:nvSpPr>
            <p:cNvPr id="131" name=""/>
            <p:cNvSpPr/>
            <p:nvPr/>
          </p:nvSpPr>
          <p:spPr>
            <a:xfrm>
              <a:off x="4521240" y="4978440"/>
              <a:ext cx="16524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-1152360" y="1866960"/>
              <a:ext cx="7427520" cy="4513320"/>
              <a:chOff x="-1152360" y="1866960"/>
              <a:chExt cx="7427520" cy="4513320"/>
            </a:xfrm>
          </p:grpSpPr>
          <p:sp>
            <p:nvSpPr>
              <p:cNvPr id="133" name=""/>
              <p:cNvSpPr txBox="1"/>
              <p:nvPr/>
            </p:nvSpPr>
            <p:spPr>
              <a:xfrm>
                <a:off x="2314440" y="5923080"/>
                <a:ext cx="39607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Důchod skupiny A (většina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2535120" y="1866960"/>
                <a:ext cx="2727720" cy="865440"/>
                <a:chOff x="2535120" y="1866960"/>
                <a:chExt cx="2727720" cy="8654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2535120" y="1866960"/>
                  <a:ext cx="2727720" cy="865440"/>
                </a:xfrm>
                <a:custGeom>
                  <a:avLst/>
                  <a:gdLst/>
                  <a:ahLst/>
                  <a:rect l="0" t="0" r="r" b="b"/>
                  <a:pathLst>
                    <a:path fill="none" w="7577" h="2404">
                      <a:moveTo>
                        <a:pt x="1251" y="0"/>
                      </a:moveTo>
                      <a:lnTo>
                        <a:pt x="1013" y="9"/>
                      </a:lnTo>
                      <a:lnTo>
                        <a:pt x="780" y="22"/>
                      </a:lnTo>
                      <a:lnTo>
                        <a:pt x="546" y="54"/>
                      </a:lnTo>
                      <a:lnTo>
                        <a:pt x="365" y="86"/>
                      </a:lnTo>
                      <a:lnTo>
                        <a:pt x="207" y="137"/>
                      </a:lnTo>
                      <a:lnTo>
                        <a:pt x="105" y="182"/>
                      </a:lnTo>
                      <a:lnTo>
                        <a:pt x="26" y="246"/>
                      </a:lnTo>
                      <a:lnTo>
                        <a:pt x="0" y="297"/>
                      </a:lnTo>
                      <a:lnTo>
                        <a:pt x="0" y="1024"/>
                      </a:lnTo>
                      <a:lnTo>
                        <a:pt x="0" y="1453"/>
                      </a:lnTo>
                      <a:lnTo>
                        <a:pt x="26" y="1517"/>
                      </a:lnTo>
                      <a:lnTo>
                        <a:pt x="105" y="1572"/>
                      </a:lnTo>
                      <a:lnTo>
                        <a:pt x="207" y="1613"/>
                      </a:lnTo>
                      <a:lnTo>
                        <a:pt x="365" y="1668"/>
                      </a:lnTo>
                      <a:lnTo>
                        <a:pt x="546" y="1700"/>
                      </a:lnTo>
                      <a:lnTo>
                        <a:pt x="780" y="1732"/>
                      </a:lnTo>
                      <a:lnTo>
                        <a:pt x="1013" y="1741"/>
                      </a:lnTo>
                      <a:lnTo>
                        <a:pt x="1251" y="1751"/>
                      </a:lnTo>
                      <a:lnTo>
                        <a:pt x="753" y="2404"/>
                      </a:lnTo>
                      <a:lnTo>
                        <a:pt x="3152" y="1751"/>
                      </a:lnTo>
                      <a:lnTo>
                        <a:pt x="6304" y="1751"/>
                      </a:lnTo>
                      <a:lnTo>
                        <a:pt x="6564" y="1741"/>
                      </a:lnTo>
                      <a:lnTo>
                        <a:pt x="6797" y="1732"/>
                      </a:lnTo>
                      <a:lnTo>
                        <a:pt x="7004" y="1700"/>
                      </a:lnTo>
                      <a:lnTo>
                        <a:pt x="7212" y="1668"/>
                      </a:lnTo>
                      <a:lnTo>
                        <a:pt x="7370" y="1613"/>
                      </a:lnTo>
                      <a:lnTo>
                        <a:pt x="7472" y="1572"/>
                      </a:lnTo>
                      <a:lnTo>
                        <a:pt x="7551" y="1517"/>
                      </a:lnTo>
                      <a:lnTo>
                        <a:pt x="7577" y="1453"/>
                      </a:lnTo>
                      <a:lnTo>
                        <a:pt x="7577" y="1024"/>
                      </a:lnTo>
                      <a:lnTo>
                        <a:pt x="7577" y="297"/>
                      </a:lnTo>
                      <a:lnTo>
                        <a:pt x="7551" y="246"/>
                      </a:lnTo>
                      <a:lnTo>
                        <a:pt x="7472" y="182"/>
                      </a:lnTo>
                      <a:lnTo>
                        <a:pt x="7370" y="137"/>
                      </a:lnTo>
                      <a:lnTo>
                        <a:pt x="7212" y="86"/>
                      </a:lnTo>
                      <a:lnTo>
                        <a:pt x="7004" y="54"/>
                      </a:lnTo>
                      <a:lnTo>
                        <a:pt x="6797" y="22"/>
                      </a:lnTo>
                      <a:lnTo>
                        <a:pt x="6564" y="9"/>
                      </a:lnTo>
                      <a:lnTo>
                        <a:pt x="6304" y="0"/>
                      </a:lnTo>
                      <a:lnTo>
                        <a:pt x="3152" y="0"/>
                      </a:lnTo>
                      <a:lnTo>
                        <a:pt x="1251" y="0"/>
                      </a:ln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 txBox="1"/>
                <p:nvPr/>
              </p:nvSpPr>
              <p:spPr>
                <a:xfrm>
                  <a:off x="2733840" y="1954080"/>
                  <a:ext cx="2330280" cy="68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 CE"/>
                      <a:ea typeface="Times New Roman CE"/>
                    </a:rPr>
                    <a:t>Dostupné důchod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"/>
              <p:cNvSpPr txBox="1"/>
              <p:nvPr/>
            </p:nvSpPr>
            <p:spPr>
              <a:xfrm>
                <a:off x="3660840" y="2971800"/>
                <a:ext cx="517680" cy="51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E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1803240" y="2374920"/>
                <a:ext cx="3808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4813200" y="480060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-1152360" y="2293920"/>
                <a:ext cx="6437160" cy="3351240"/>
                <a:chOff x="-1152360" y="2293920"/>
                <a:chExt cx="6437160" cy="3351240"/>
              </a:xfrm>
            </p:grpSpPr>
            <p:grpSp>
              <p:nvGrpSpPr>
                <p:cNvPr id="141" name=""/>
                <p:cNvGrpSpPr/>
                <p:nvPr/>
              </p:nvGrpSpPr>
              <p:grpSpPr>
                <a:xfrm>
                  <a:off x="-1152360" y="2293920"/>
                  <a:ext cx="6437160" cy="3351240"/>
                  <a:chOff x="-1152360" y="2293920"/>
                  <a:chExt cx="6437160" cy="335124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1433520" y="5643720"/>
                    <a:ext cx="3851280" cy="1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56160" bIns="-56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1432080" y="2293920"/>
                    <a:ext cx="1440" cy="3349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 txBox="1"/>
                  <p:nvPr/>
                </p:nvSpPr>
                <p:spPr>
                  <a:xfrm>
                    <a:off x="-1152360" y="3706920"/>
                    <a:ext cx="404028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99"/>
                      </a:spcBef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 CE"/>
                        <a:ea typeface="Times New Roman CE"/>
                      </a:rPr>
                      <a:t>Důchod skupiny B (menšina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1443960" y="2840040"/>
                    <a:ext cx="3244320" cy="2793600"/>
                    <a:chOff x="1443960" y="2840040"/>
                    <a:chExt cx="3244320" cy="2793600"/>
                  </a:xfrm>
                </p:grpSpPr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1443960" y="2840040"/>
                      <a:ext cx="3244320" cy="2793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9012" h="7760">
                          <a:moveTo>
                            <a:pt x="9012" y="7760"/>
                          </a:moveTo>
                          <a:lnTo>
                            <a:pt x="9012" y="7760"/>
                          </a:lnTo>
                          <a:lnTo>
                            <a:pt x="9012" y="7760"/>
                          </a:lnTo>
                          <a:cubicBezTo>
                            <a:pt x="9012" y="6398"/>
                            <a:pt x="8597" y="5060"/>
                            <a:pt x="7807" y="3880"/>
                          </a:cubicBezTo>
                          <a:cubicBezTo>
                            <a:pt x="7018" y="2700"/>
                            <a:pt x="5883" y="1721"/>
                            <a:pt x="4516" y="1040"/>
                          </a:cubicBezTo>
                          <a:cubicBezTo>
                            <a:pt x="3149" y="359"/>
                            <a:pt x="1598" y="0"/>
                            <a:pt x="20" y="0"/>
                          </a:cubicBezTo>
                          <a:cubicBezTo>
                            <a:pt x="13" y="0"/>
                            <a:pt x="7" y="0"/>
                            <a:pt x="0" y="0"/>
                          </a:cubicBezTo>
                        </a:path>
                      </a:pathLst>
                    </a:custGeom>
                    <a:ln w="2556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1930320" y="2870280"/>
                      <a:ext cx="0" cy="193032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8" name=""/>
                    <p:cNvGrpSpPr/>
                    <p:nvPr/>
                  </p:nvGrpSpPr>
                  <p:grpSpPr>
                    <a:xfrm>
                      <a:off x="1663560" y="4800600"/>
                      <a:ext cx="533520" cy="482760"/>
                      <a:chOff x="1663560" y="4800600"/>
                      <a:chExt cx="533520" cy="482760"/>
                    </a:xfrm>
                  </p:grpSpPr>
                  <p:sp>
                    <p:nvSpPr>
                      <p:cNvPr id="149" name=""/>
                      <p:cNvSpPr/>
                      <p:nvPr/>
                    </p:nvSpPr>
                    <p:spPr>
                      <a:xfrm>
                        <a:off x="1663560" y="4800600"/>
                        <a:ext cx="533520" cy="482760"/>
                      </a:xfrm>
                      <a:prstGeom prst="ellipse">
                        <a:avLst/>
                      </a:pr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" name=""/>
                      <p:cNvSpPr txBox="1"/>
                      <p:nvPr/>
                    </p:nvSpPr>
                    <p:spPr>
                      <a:xfrm>
                        <a:off x="1736640" y="4822920"/>
                        <a:ext cx="387360" cy="457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479"/>
                          </a:spcBef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 CE"/>
                            <a:ea typeface="Times New Roman CE"/>
                          </a:rPr>
                          <a:t>E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197080" y="5067360"/>
                      <a:ext cx="2400480" cy="12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2" name=""/>
                <p:cNvSpPr/>
                <p:nvPr/>
              </p:nvSpPr>
              <p:spPr>
                <a:xfrm>
                  <a:off x="2324160" y="4356000"/>
                  <a:ext cx="190440" cy="19044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616120" y="3720960"/>
                  <a:ext cx="190440" cy="17784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301920" y="3352680"/>
                  <a:ext cx="190440" cy="1652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41400" y="2793960"/>
                  <a:ext cx="165240" cy="1652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2120760" y="4546440"/>
                  <a:ext cx="24156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2451240" y="3911760"/>
                  <a:ext cx="177840" cy="431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2793960" y="3505320"/>
                  <a:ext cx="482760" cy="241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9" name=""/>
          <p:cNvSpPr txBox="1"/>
          <p:nvPr/>
        </p:nvSpPr>
        <p:spPr>
          <a:xfrm>
            <a:off x="393840" y="6756480"/>
            <a:ext cx="612144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82760" indent="-482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ředpoklad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aždá osoba musí souhlasit s každým rozhodnut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ůsledek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kdo si nemůže pohoršit. Vyjdeme-li z E, musí všechny výsledky rozhodnutí ležet v oblasti EX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47560" y="301680"/>
            <a:ext cx="582948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Většinové pravid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45960" y="6032520"/>
            <a:ext cx="5845320" cy="26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egenda:</a:t>
            </a:r>
            <a:r>
              <a:rPr b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ětšinová skupin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bude hlasovat pro zlepšení vlastního důchod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př. EL -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fektivně a spravedlivě EL</a:t>
            </a:r>
            <a:r>
              <a:rPr b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          EN -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efektivně a nespravedlnost,</a:t>
            </a:r>
            <a:br>
              <a:rPr sz="1800"/>
            </a:br>
            <a:r>
              <a:rPr b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          EM -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dy bod M přináší skupině A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jvyšší důch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-1184400" y="1859040"/>
            <a:ext cx="6946920" cy="4189320"/>
            <a:chOff x="-1184400" y="1859040"/>
            <a:chExt cx="6946920" cy="4189320"/>
          </a:xfrm>
        </p:grpSpPr>
        <p:sp>
          <p:nvSpPr>
            <p:cNvPr id="163" name=""/>
            <p:cNvSpPr txBox="1"/>
            <p:nvPr/>
          </p:nvSpPr>
          <p:spPr>
            <a:xfrm>
              <a:off x="1486080" y="4170240"/>
              <a:ext cx="390600" cy="42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-1184400" y="1859040"/>
              <a:ext cx="6946920" cy="4189320"/>
              <a:chOff x="-1184400" y="1859040"/>
              <a:chExt cx="6946920" cy="418932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-1184400" y="1859040"/>
                <a:ext cx="6946920" cy="4189320"/>
                <a:chOff x="-1184400" y="1859040"/>
                <a:chExt cx="6946920" cy="418932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3235320" y="2225520"/>
                  <a:ext cx="1828800" cy="991080"/>
                  <a:chOff x="3235320" y="2225520"/>
                  <a:chExt cx="1828800" cy="99108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3235320" y="2225520"/>
                    <a:ext cx="1676880" cy="9910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4658" h="2753">
                        <a:moveTo>
                          <a:pt x="0" y="275"/>
                        </a:moveTo>
                        <a:lnTo>
                          <a:pt x="0" y="2203"/>
                        </a:lnTo>
                        <a:lnTo>
                          <a:pt x="465" y="2478"/>
                        </a:lnTo>
                        <a:lnTo>
                          <a:pt x="931" y="2478"/>
                        </a:lnTo>
                        <a:lnTo>
                          <a:pt x="465" y="2753"/>
                        </a:lnTo>
                        <a:lnTo>
                          <a:pt x="1398" y="2478"/>
                        </a:lnTo>
                        <a:lnTo>
                          <a:pt x="4192" y="2478"/>
                        </a:lnTo>
                        <a:lnTo>
                          <a:pt x="4658" y="2203"/>
                        </a:lnTo>
                        <a:lnTo>
                          <a:pt x="4658" y="275"/>
                        </a:lnTo>
                        <a:lnTo>
                          <a:pt x="4192" y="0"/>
                        </a:lnTo>
                        <a:lnTo>
                          <a:pt x="465" y="0"/>
                        </a:lnTo>
                        <a:lnTo>
                          <a:pt x="0" y="275"/>
                        </a:lnTo>
                      </a:path>
                    </a:pathLst>
                  </a:custGeom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 txBox="1"/>
                  <p:nvPr/>
                </p:nvSpPr>
                <p:spPr>
                  <a:xfrm>
                    <a:off x="3463920" y="2301840"/>
                    <a:ext cx="1600200" cy="76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99"/>
                      </a:spcBef>
                    </a:pPr>
                    <a:r>
                      <a:rPr b="1" lang="en-US" sz="2200" spc="-1" strike="noStrike">
                        <a:solidFill>
                          <a:srgbClr val="000000"/>
                        </a:solidFill>
                        <a:latin typeface="Times New Roman CE"/>
                        <a:ea typeface="Times New Roman CE"/>
                      </a:rPr>
                      <a:t>Dostupné důchody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" name=""/>
                <p:cNvSpPr/>
                <p:nvPr/>
              </p:nvSpPr>
              <p:spPr>
                <a:xfrm>
                  <a:off x="2022480" y="48988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708280" y="45943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708280" y="38322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2" name=""/>
                <p:cNvGrpSpPr/>
                <p:nvPr/>
              </p:nvGrpSpPr>
              <p:grpSpPr>
                <a:xfrm>
                  <a:off x="-1184400" y="1859040"/>
                  <a:ext cx="6946920" cy="4189320"/>
                  <a:chOff x="-1184400" y="1859040"/>
                  <a:chExt cx="6946920" cy="4189320"/>
                </a:xfrm>
              </p:grpSpPr>
              <p:sp>
                <p:nvSpPr>
                  <p:cNvPr id="173" name=""/>
                  <p:cNvSpPr txBox="1"/>
                  <p:nvPr/>
                </p:nvSpPr>
                <p:spPr>
                  <a:xfrm>
                    <a:off x="1876320" y="5591160"/>
                    <a:ext cx="38862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99"/>
                      </a:spcBef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 CE"/>
                        <a:ea typeface="Times New Roman CE"/>
                      </a:rPr>
                      <a:t>Důchod skupiny A (většina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 txBox="1"/>
                  <p:nvPr/>
                </p:nvSpPr>
                <p:spPr>
                  <a:xfrm>
                    <a:off x="-1184400" y="2959200"/>
                    <a:ext cx="403848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99"/>
                      </a:spcBef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 CE"/>
                        <a:ea typeface="Times New Roman CE"/>
                      </a:rPr>
                      <a:t>Důchod skupiny B (menšina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1190520" y="1859040"/>
                    <a:ext cx="3802320" cy="3655800"/>
                    <a:chOff x="1190520" y="1859040"/>
                    <a:chExt cx="3802320" cy="3655800"/>
                  </a:xfrm>
                </p:grpSpPr>
                <p:grpSp>
                  <p:nvGrpSpPr>
                    <p:cNvPr id="176" name=""/>
                    <p:cNvGrpSpPr/>
                    <p:nvPr/>
                  </p:nvGrpSpPr>
                  <p:grpSpPr>
                    <a:xfrm>
                      <a:off x="1190520" y="1859040"/>
                      <a:ext cx="3802320" cy="3655800"/>
                      <a:chOff x="1190520" y="1859040"/>
                      <a:chExt cx="3802320" cy="3655800"/>
                    </a:xfrm>
                  </p:grpSpPr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1190520" y="1859040"/>
                        <a:ext cx="3802320" cy="3655800"/>
                        <a:chOff x="1190520" y="1859040"/>
                        <a:chExt cx="3802320" cy="365580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>
                          <a:off x="1190520" y="1859040"/>
                          <a:ext cx="0" cy="365580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02600" rIns="102600" tIns="57600" bIns="57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1192320" y="5514840"/>
                          <a:ext cx="380052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02600" rIns="102600" tIns="-57600" bIns="-57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1202760" y="2457360"/>
                        <a:ext cx="3201480" cy="30484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8893" h="8468">
                            <a:moveTo>
                              <a:pt x="8893" y="8468"/>
                            </a:moveTo>
                            <a:lnTo>
                              <a:pt x="8893" y="8468"/>
                            </a:lnTo>
                            <a:lnTo>
                              <a:pt x="8893" y="8468"/>
                            </a:lnTo>
                            <a:cubicBezTo>
                              <a:pt x="8893" y="6982"/>
                              <a:pt x="8483" y="5521"/>
                              <a:pt x="7704" y="4234"/>
                            </a:cubicBezTo>
                            <a:cubicBezTo>
                              <a:pt x="6925" y="2947"/>
                              <a:pt x="5805" y="1878"/>
                              <a:pt x="4456" y="1134"/>
                            </a:cubicBezTo>
                            <a:cubicBezTo>
                              <a:pt x="3107" y="391"/>
                              <a:pt x="1577" y="0"/>
                              <a:pt x="19" y="0"/>
                            </a:cubicBezTo>
                            <a:cubicBezTo>
                              <a:pt x="13" y="0"/>
                              <a:pt x="6" y="0"/>
                              <a:pt x="0" y="0"/>
                            </a:cubicBezTo>
                          </a:path>
                        </a:pathLst>
                      </a:custGeom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1" name=""/>
                    <p:cNvGrpSpPr/>
                    <p:nvPr/>
                  </p:nvGrpSpPr>
                  <p:grpSpPr>
                    <a:xfrm>
                      <a:off x="1952640" y="2544840"/>
                      <a:ext cx="685800" cy="2970000"/>
                      <a:chOff x="1952640" y="2544840"/>
                      <a:chExt cx="685800" cy="2970000"/>
                    </a:xfrm>
                  </p:grpSpPr>
                  <p:grpSp>
                    <p:nvGrpSpPr>
                      <p:cNvPr id="182" name=""/>
                      <p:cNvGrpSpPr/>
                      <p:nvPr/>
                    </p:nvGrpSpPr>
                    <p:grpSpPr>
                      <a:xfrm>
                        <a:off x="1952640" y="2544840"/>
                        <a:ext cx="76320" cy="2970000"/>
                        <a:chOff x="1952640" y="2544840"/>
                        <a:chExt cx="76320" cy="2970000"/>
                      </a:xfrm>
                    </p:grpSpPr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>
                          <a:off x="1986120" y="2544840"/>
                          <a:ext cx="0" cy="2970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>
                          <a:off x="1952640" y="4448160"/>
                          <a:ext cx="76320" cy="7632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25200" bIns="25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85" name=""/>
                      <p:cNvGrpSpPr/>
                      <p:nvPr/>
                    </p:nvGrpSpPr>
                    <p:grpSpPr>
                      <a:xfrm>
                        <a:off x="2001960" y="3992400"/>
                        <a:ext cx="636480" cy="890640"/>
                        <a:chOff x="2001960" y="3992400"/>
                        <a:chExt cx="636480" cy="890640"/>
                      </a:xfrm>
                    </p:grpSpPr>
                    <p:grpSp>
                      <p:nvGrpSpPr>
                        <p:cNvPr id="186" name=""/>
                        <p:cNvGrpSpPr/>
                        <p:nvPr/>
                      </p:nvGrpSpPr>
                      <p:grpSpPr>
                        <a:xfrm>
                          <a:off x="2001960" y="3992400"/>
                          <a:ext cx="636480" cy="606600"/>
                          <a:chOff x="2001960" y="3992400"/>
                          <a:chExt cx="636480" cy="606600"/>
                        </a:xfrm>
                      </p:grpSpPr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 flipV="1">
                            <a:off x="2001960" y="3992400"/>
                            <a:ext cx="636480" cy="48744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round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102600" rIns="102600" tIns="57600" bIns="57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8" name=""/>
                          <p:cNvSpPr/>
                          <p:nvPr/>
                        </p:nvSpPr>
                        <p:spPr>
                          <a:xfrm>
                            <a:off x="2001960" y="4495680"/>
                            <a:ext cx="635040" cy="1033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round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102600" rIns="102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>
                          <a:off x="2001960" y="4478400"/>
                          <a:ext cx="55440" cy="40464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round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02600" rIns="102600" tIns="57600" bIns="57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sp>
            <p:nvSpPr>
              <p:cNvPr id="190" name=""/>
              <p:cNvSpPr txBox="1"/>
              <p:nvPr/>
            </p:nvSpPr>
            <p:spPr>
              <a:xfrm>
                <a:off x="2813040" y="3578400"/>
                <a:ext cx="347760" cy="426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L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 txBox="1"/>
              <p:nvPr/>
            </p:nvSpPr>
            <p:spPr>
              <a:xfrm>
                <a:off x="2844720" y="4459320"/>
                <a:ext cx="374760" cy="426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M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 txBox="1"/>
              <p:nvPr/>
            </p:nvSpPr>
            <p:spPr>
              <a:xfrm>
                <a:off x="2079720" y="4862520"/>
                <a:ext cx="316080" cy="426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N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514440" y="812880"/>
            <a:ext cx="582948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 CE"/>
                <a:ea typeface="Times New Roman CE"/>
              </a:rPr>
              <a:t>Kdo vítěz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14440" y="1787400"/>
            <a:ext cx="5829480" cy="63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x B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➔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vítěz A 2 hl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x C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➔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vítěz C 2 hl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 x C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➔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vítěz B 2 hl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&gt; B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 &gt; C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 &gt;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žnost zneužití při postupném hlasová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. kolo AxB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➔</a:t>
            </a: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2. kolo AxC    C vítě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2. kolo AxC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➔</a:t>
            </a: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2. kolo CxB    B vítě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3. kolo BxC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➔</a:t>
            </a: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2. kolo BxA     A vítě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lazar</dc:creator>
  <dc:description/>
  <dc:language>en-US</dc:language>
  <cp:lastModifiedBy>Klazar</cp:lastModifiedBy>
  <cp:revision>0</cp:revision>
  <dc:subject/>
  <dc:title>No Slide Title</dc:title>
</cp:coreProperties>
</file>