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6858000" cy="9144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B9A-5FE1-478D-81E8-F5B0504D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1A4-B0F1-4115-8F13-31183085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05CD-A7A8-4D4A-A435-E06AC557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CF7C-21E5-492B-9ED3-737333F6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D932-FADF-4435-BF5E-B87E25F8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7B12-74C8-43B1-BF52-0D906460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A1F5-02B0-4883-87B4-CD1A49F7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E599-1E6B-4B71-B1D9-5811FD9B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FF4C-22CD-4F7B-A3B1-F4E29726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0EAC-5CB8-4C1E-BCAD-809F3B15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7BC0-2250-4299-8177-423EB1DE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65B-9E6D-49EC-B1ED-A4633AC2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92EC-3175-48B6-92A9-031A83F4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F4E6-18F5-4CF6-B788-C7476D4A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A3F5-3210-4AEC-B7D0-85FC3E61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9EC5-A3B2-40AC-84AA-8C3BFD93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19AD-89F9-4DC0-81DD-F8F8064F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57D-3035-456D-AA5B-A4022CD7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300-3DD4-471F-8826-82A68C3D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4C5-B641-4DFE-8695-78BE559E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765-8FFF-4A17-9B34-3D520827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BACC-3297-402A-98A2-A656008C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26F9-7060-4608-A48A-1EB9388C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023-06CD-461F-A957-019C161F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0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52AC-D878-4644-82DC-A5830FF55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E72C-927F-4E74-8E26-6D7DD4A05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12. téma: </a:t>
            </a:r>
            <a:br>
              <a:rPr sz="3800"/>
            </a:b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Veřejný dluh</a:t>
            </a:r>
            <a:br>
              <a:rPr sz="3800"/>
            </a:b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1 Vymezení pojm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2 Příčiny růstu veřejného dluhu, typy rozpočtového deficit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3 Důsledky veřejného dluh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4 Veřejný dluh v ČR a v zahranič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14440" y="48960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2080" y="905040"/>
            <a:ext cx="6333840" cy="722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095720"/>
                <a:tab algn="l" pos="81914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ne 26. 3. 1998 ministr financí ČR sdělil, že státní dluh je 2x větší než se doposud uvádělo (tj. 2 x 170 mld. Kč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095720"/>
                <a:tab algn="l" pos="81914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jde o tzv. „transformační“ dluh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095720"/>
                <a:tab algn="l" pos="819144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Konsolidační banka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49,2 mld. Kč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095720"/>
                <a:tab algn="l" pos="819144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Česká finanční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12,1 mld. Kč</a:t>
            </a:r>
            <a:br>
              <a:rPr sz="2900"/>
            </a:b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(špatné úvěry od bank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095720"/>
                <a:tab algn="l" pos="819144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Česká inkasní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20,7 mld. Kč</a:t>
            </a:r>
            <a:br>
              <a:rPr sz="2900"/>
            </a:b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(ČSOB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726"/>
              </a:spcBef>
              <a:buNone/>
              <a:tabLst>
                <a:tab algn="l" pos="0"/>
                <a:tab algn="l" pos="4095720"/>
                <a:tab algn="l" pos="819144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82,0 mld. Kč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095720"/>
                <a:tab algn="l" pos="81914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e zhruba 170 mld. Kč by se státu mohlo (!) vrátit asi 62,4 mld. K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34040" y="6000840"/>
            <a:ext cx="2214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440" y="48960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2080" y="880560"/>
            <a:ext cx="6333840" cy="724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ůst podílu veřejného dluhu na HDP z 10 % na 20 %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ne 6. 5. 1998 nárůst o dalších 80 mld. Kč (celkem asi 417 mld. Kč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 varianty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minimální - 310 mld. Kč (19 %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maximální - 417 mld. Kč (26 %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 co státní garance na úvěr (až 450 mld. Kč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280" y="2678040"/>
          <a:ext cx="6627960" cy="340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678040"/>
                    <a:ext cx="6627960" cy="34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6600" y="84600"/>
            <a:ext cx="582948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33440" y="627120"/>
                <a:ext cx="6021360" cy="783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/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D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D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D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M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D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, kde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D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odl v roce 1</m:t>
                        </m:r>
                      </m:e>
                      <m:e/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D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*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/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D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rst podlu vlivem PD</m:t>
                        </m:r>
                      </m:e>
                      <m:e>
                        <m:f>
                          <m:num>
                            <m:r>
                              <m:t xml:space="preserve">DM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D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kom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vlivem emisnho kryt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deficitu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2909880" y="3086280"/>
            <a:ext cx="3376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odílu vlivem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ogenních faktor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09880" y="4467240"/>
            <a:ext cx="3867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álná úroková míra (r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o růstu HNP 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414520" y="3777840"/>
            <a:ext cx="436680" cy="970200"/>
            <a:chOff x="2414520" y="3777840"/>
            <a:chExt cx="436680" cy="970200"/>
          </a:xfrm>
        </p:grpSpPr>
        <p:sp>
          <p:nvSpPr>
            <p:cNvPr id="91" name=""/>
            <p:cNvSpPr/>
            <p:nvPr/>
          </p:nvSpPr>
          <p:spPr>
            <a:xfrm flipV="1">
              <a:off x="2419200" y="3777840"/>
              <a:ext cx="432000" cy="49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14520" y="4257720"/>
              <a:ext cx="432000" cy="49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Domácí dluhová past</a:t>
            </a:r>
            <a:br>
              <a:rPr sz="3800"/>
            </a:b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(domestic debt trap)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280" y="-283680"/>
            <a:ext cx="660744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5240" y="1415880"/>
          <a:ext cx="6678360" cy="714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415880"/>
                    <a:ext cx="6678360" cy="71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25280" y="271440"/>
            <a:ext cx="6623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odíl hrubého dluhu celkového vládního sektoru na HD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v %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6840" y="8383680"/>
            <a:ext cx="6621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54080" indent="-1054080">
              <a:spcBef>
                <a:spcPts val="1250"/>
              </a:spcBef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Pramen: OECD Economic Outlook 57, June 1995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Ministerstvo financí, Fond národního majet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2520" y="54720"/>
            <a:ext cx="582948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8120" y="6063840"/>
            <a:ext cx="6521760" cy="17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ouze 15 % českého dluhu v důsledku deficitu státního rozpočtu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Nízký podíl sekuritizace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200" y="733320"/>
            <a:ext cx="462924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K 1. 1. 1993 dluh vlády ČR -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z toh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vnitřní dlu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vnější dluh </a:t>
            </a:r>
            <a:br>
              <a:rPr sz="3000"/>
            </a:b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z toh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2 mld. K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luh přejatý </a:t>
            </a:r>
            <a:br>
              <a:rPr sz="3000"/>
            </a:b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z rozpočtu ČSF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48040" y="719280"/>
            <a:ext cx="27781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64 mld. K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91,2 mld. K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73 mld. K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50 mld. K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závazky ČSO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8760" y="776160"/>
            <a:ext cx="595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987560" y="3600360"/>
            <a:ext cx="2552760" cy="376200"/>
            <a:chOff x="1987560" y="3600360"/>
            <a:chExt cx="2552760" cy="376200"/>
          </a:xfrm>
        </p:grpSpPr>
        <p:sp>
          <p:nvSpPr>
            <p:cNvPr id="105" name=""/>
            <p:cNvSpPr/>
            <p:nvPr/>
          </p:nvSpPr>
          <p:spPr>
            <a:xfrm flipH="1">
              <a:off x="1987560" y="3600360"/>
              <a:ext cx="455760" cy="37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33600" y="3600360"/>
              <a:ext cx="2106720" cy="37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4440" y="50220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4440" y="738000"/>
            <a:ext cx="5829120" cy="774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ýdaje na státní (vládní) dluh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z výdajů na úhradu úroků státního dluhu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z výdajů na poplatky spojené s jeho objemem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 r. 1997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ůst domácích úrokových sazeb pod vlivem 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striktivních opatření ČNB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ůst státního dluhu pod vlivem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imořádné emise povodňových dluhopisů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chodku běžného rozpočtového hospodaření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4440" y="54684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4440" y="1142640"/>
            <a:ext cx="5829120" cy="69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+"/>
              <a:tabLst>
                <a:tab algn="l" pos="3238560"/>
                <a:tab algn="l" pos="6477120"/>
                <a:tab algn="l" pos="971568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luhová služba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v upraveném rozpočtu na r. 1997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 17,8 mld. K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+"/>
              <a:tabLst>
                <a:tab algn="l" pos="3238560"/>
                <a:tab algn="l" pos="6477120"/>
                <a:tab algn="l" pos="971568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luhová služba v r. 1998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 19,4 mld. K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+"/>
              <a:tabLst>
                <a:tab algn="l" pos="3238560"/>
                <a:tab algn="l" pos="6477120"/>
                <a:tab algn="l" pos="971568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ačátkem r. 1998 měl státní dluh být na úrovni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 180,6 mld. Kč (pokud by schodek za r. 1997 byl 14,9 mld. Kč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7960" y="312480"/>
            <a:ext cx="63820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Podíl státního dluhu na HDP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4440" y="1499760"/>
            <a:ext cx="5829120" cy="662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1238400"/>
                <a:tab algn="l" pos="2476440"/>
                <a:tab algn="l" pos="3714840"/>
                <a:tab algn="l" pos="4952880"/>
                <a:tab algn="l" pos="6191280"/>
                <a:tab algn="l" pos="7429680"/>
                <a:tab algn="l" pos="8667720"/>
                <a:tab algn="l" pos="990612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oncem r. 1997 -  10,9 %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1238400"/>
                <a:tab algn="l" pos="2476440"/>
                <a:tab algn="l" pos="3714840"/>
                <a:tab algn="l" pos="4952880"/>
                <a:tab algn="l" pos="6191280"/>
                <a:tab algn="l" pos="7429680"/>
                <a:tab algn="l" pos="8667720"/>
                <a:tab algn="l" pos="990612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oncem r. 1998 -    9,4 %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238400"/>
                <a:tab algn="l" pos="2476440"/>
                <a:tab algn="l" pos="3714840"/>
                <a:tab algn="l" pos="4952880"/>
                <a:tab algn="l" pos="6191280"/>
                <a:tab algn="l" pos="7429680"/>
                <a:tab algn="l" pos="8667720"/>
                <a:tab algn="l" pos="990612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d r. 1997 je vnitřní státní dluh plně sekuritizová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238400"/>
                <a:tab algn="l" pos="2476440"/>
                <a:tab algn="l" pos="3714840"/>
                <a:tab algn="l" pos="4952880"/>
                <a:tab algn="l" pos="6191280"/>
                <a:tab algn="l" pos="7429680"/>
                <a:tab algn="l" pos="8667720"/>
                <a:tab algn="l" pos="990612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 r. 1998 došlo k růstu sekuritizace zahraničního státního dluhu ze 78,3 % na 84,4 %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238400"/>
                <a:tab algn="l" pos="2476440"/>
                <a:tab algn="l" pos="3714840"/>
                <a:tab algn="l" pos="4952880"/>
                <a:tab algn="l" pos="6191280"/>
                <a:tab algn="l" pos="7429680"/>
                <a:tab algn="l" pos="8667720"/>
                <a:tab algn="l" pos="990612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e snížení zahraničního státního dluhu o 12,3 mld. K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238400"/>
                <a:tab algn="l" pos="2476440"/>
                <a:tab algn="l" pos="3714840"/>
                <a:tab algn="l" pos="4952880"/>
                <a:tab algn="l" pos="6191280"/>
                <a:tab algn="l" pos="7429680"/>
                <a:tab algn="l" pos="8667720"/>
                <a:tab algn="l" pos="990612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 růstu domácího státního dluhu o 4,2 mld. K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>Klazar</dc:creator>
  <dc:description/>
  <dc:language>en-US</dc:language>
  <cp:lastModifiedBy>KVF</cp:lastModifiedBy>
  <cp:lastPrinted>1998-11-10T10:49:00Z</cp:lastPrinted>
  <dcterms:modified xsi:type="dcterms:W3CDTF">1998-11-10T10:49:26Z</dcterms:modified>
  <cp:revision>53</cp:revision>
  <dc:subject/>
  <dc:title>No Slide Title</dc:title>
</cp:coreProperties>
</file>