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6858000" cy="9144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B420-AA9F-482C-B6EE-B4F0D0FF2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ABC0-EC38-4438-98EA-459ED3976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2D48-274B-402D-9FB4-8C46DF39B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DBC3-EA8F-4D88-A938-56E455C6C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3D3B5-B9BE-47BB-A266-6ADBFBE45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06D17-DCFF-44F2-A2AB-9D64F5377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59227-DAE4-46AE-911D-01AD1DD02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F3137-0455-49B0-8FC1-21446BF55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7F6E0-DA70-4BFF-ACFB-5FAB96760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3952F-C0AE-4D33-8A83-DB5709B45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C8F85-6DA2-4B80-953B-9D66C9A5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60A1-AFE8-4F77-8CEB-77EFF224C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2B895-8A08-4328-B3D1-BD9F819F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A0FD9-7E0D-4F18-B54B-D5B6673D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07425-8578-4563-AAC7-FF9E27886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B3479-8260-4CFA-89F9-8C3FBE59B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89AF6-25BF-497F-B60B-70A025B00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E625-FDA2-4B0F-BE70-C637C3F58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7FD1-E087-4BD7-9432-535C7D808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1C84-6E69-4637-AC23-239BE0256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A363-A005-421A-A447-6B896002F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2681-2A73-43CB-8BCA-762D252C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1160-2CFE-4A0D-B3CB-6EED71C3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42B1-9C4A-4D10-A4E3-A17D2134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Click to edit the title text format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59000"/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59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0E79A-CA3E-40CF-9742-0FDF7767AA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047760"/>
            <a:ext cx="57909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Click to edit the title text format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D2642-9999-49B0-9521-63465C0F5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4. téma: </a:t>
            </a:r>
            <a:br>
              <a:rPr sz="3800"/>
            </a:b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Příjmy veřejných rozpočtů, daně</a:t>
            </a:r>
            <a:br>
              <a:rPr sz="3800"/>
            </a:b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1 Vymezení pojmu, typologie veřejných příjmů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2 Základy daňové terminologi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3 Klasifikace daní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14440" y="126720"/>
            <a:ext cx="58291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třída 1 - Daňové příjmy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14440" y="1357200"/>
            <a:ext cx="5829120" cy="677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eskupení položek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11 - Daně z příjmu, zisku a kapitálových výnosů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odseskupení položek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111 - Daně z příjmů fyzických osob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112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oložky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1111 - DPFO ze samostatné výdělečné činnosti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1119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144360"/>
            <a:ext cx="5829480" cy="92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Veřejné příjmy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357120" y="882360"/>
            <a:ext cx="6429600" cy="8167320"/>
            <a:chOff x="357120" y="882360"/>
            <a:chExt cx="6429600" cy="8167320"/>
          </a:xfrm>
        </p:grpSpPr>
        <p:sp>
          <p:nvSpPr>
            <p:cNvPr id="147" name=""/>
            <p:cNvSpPr/>
            <p:nvPr/>
          </p:nvSpPr>
          <p:spPr>
            <a:xfrm>
              <a:off x="357120" y="1092240"/>
              <a:ext cx="1663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aňové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316240" y="1092240"/>
              <a:ext cx="1898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edaňové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181400" y="1092240"/>
              <a:ext cx="2605320" cy="26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- z podnikání</a:t>
              </a:r>
              <a:br>
                <a:rPr sz="2400"/>
              </a:b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- z veř. majetku</a:t>
              </a:r>
              <a:br>
                <a:rPr sz="2400"/>
              </a:b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- poplatky</a:t>
              </a:r>
              <a:br>
                <a:rPr sz="2400"/>
              </a:b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- dávky</a:t>
              </a:r>
              <a:br>
                <a:rPr sz="2400"/>
              </a:b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- příspěvky na soc. zabezp.</a:t>
              </a:r>
              <a:br>
                <a:rPr sz="2400"/>
              </a:b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- apod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60360" y="3699000"/>
              <a:ext cx="2251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římé daně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95160" y="4365720"/>
              <a:ext cx="2135520" cy="8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důchodové</a:t>
              </a:r>
              <a:br>
                <a:rPr sz="2600"/>
              </a:br>
              <a:r>
                <a:rPr b="1" lang="en-US" sz="2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majetkové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52560" y="3699000"/>
              <a:ext cx="26258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epřímé daně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324240" y="4365720"/>
              <a:ext cx="26827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90440" indent="-190440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univerzální </a:t>
              </a:r>
              <a:br>
                <a:rPr sz="2800"/>
              </a:b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(ad valorem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48040" y="5335560"/>
              <a:ext cx="2770200" cy="15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ZO, prodejní daně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PH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ovozn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324240" y="6910560"/>
              <a:ext cx="30337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90440" indent="-190440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elektivní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potřební daně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48040" y="7859880"/>
              <a:ext cx="218448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akcízy</a:t>
              </a:r>
              <a:br>
                <a:rPr sz="2400"/>
              </a:b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cla</a:t>
              </a:r>
              <a:br>
                <a:rPr sz="2400"/>
              </a:b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dovozní daně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177920" y="1644480"/>
              <a:ext cx="0" cy="1951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68560" y="3048120"/>
              <a:ext cx="2393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62200" y="3049560"/>
              <a:ext cx="0" cy="528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095640" y="4192560"/>
              <a:ext cx="0" cy="29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90480" y="419256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097080" y="4691160"/>
              <a:ext cx="141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97080" y="7191360"/>
              <a:ext cx="165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92280" y="4619520"/>
              <a:ext cx="141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2280" y="5024520"/>
              <a:ext cx="141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168560" y="1071720"/>
              <a:ext cx="2393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166840" y="882360"/>
              <a:ext cx="0" cy="18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177920" y="1073160"/>
              <a:ext cx="0" cy="9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562200" y="1073160"/>
              <a:ext cx="0" cy="9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Příjmy státního rozpočtu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71440" y="2001960"/>
            <a:ext cx="6353280" cy="5038200"/>
            <a:chOff x="271440" y="2001960"/>
            <a:chExt cx="6353280" cy="5038200"/>
          </a:xfrm>
        </p:grpSpPr>
        <p:sp>
          <p:nvSpPr>
            <p:cNvPr id="172" name=""/>
            <p:cNvSpPr/>
            <p:nvPr/>
          </p:nvSpPr>
          <p:spPr>
            <a:xfrm>
              <a:off x="285840" y="2944800"/>
              <a:ext cx="2611440" cy="488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NENÁVRATNÉ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94240" y="2944800"/>
              <a:ext cx="2130480" cy="488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NÁVRATNÉ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85840" y="3956040"/>
              <a:ext cx="2365200" cy="488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veřejné příjm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1440" y="5224320"/>
              <a:ext cx="1298520" cy="488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daňové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171880" y="5224320"/>
              <a:ext cx="1558800" cy="488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nedaňové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114720" y="3956040"/>
              <a:ext cx="1585800" cy="884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bankovní úvěr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98880" y="3956040"/>
              <a:ext cx="1725840" cy="884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z emise bondů, aj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85840" y="6551640"/>
              <a:ext cx="3292560" cy="488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BĚŽNÝ ROZPOČET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176720" y="5773680"/>
              <a:ext cx="2448000" cy="884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KAPITÁLOVÝ ROZPOČET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591000" y="2001960"/>
              <a:ext cx="0" cy="63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57360" y="2629080"/>
              <a:ext cx="4002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58800" y="2631960"/>
              <a:ext cx="0" cy="30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53000" y="2631960"/>
              <a:ext cx="0" cy="309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558800" y="3463920"/>
              <a:ext cx="0" cy="487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23960" y="4473720"/>
              <a:ext cx="0" cy="74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23960" y="5745240"/>
              <a:ext cx="0" cy="79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413080" y="4479840"/>
              <a:ext cx="0" cy="74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413080" y="5745240"/>
              <a:ext cx="0" cy="804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546880" y="3463920"/>
              <a:ext cx="0" cy="487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3871440" y="3637080"/>
              <a:ext cx="166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863880" y="3638520"/>
              <a:ext cx="0" cy="31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130640" y="4881600"/>
              <a:ext cx="0" cy="56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403880" y="4881600"/>
              <a:ext cx="0" cy="88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559480" y="4888080"/>
              <a:ext cx="0" cy="880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3735000" y="5446800"/>
              <a:ext cx="382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222720" y="5745240"/>
              <a:ext cx="0" cy="468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224160" y="6207120"/>
              <a:ext cx="951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14440" y="560160"/>
            <a:ext cx="582912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14440" y="1166400"/>
            <a:ext cx="5829120" cy="696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 Kdo musí daň platit? (subjekt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 Z čeho je daň vyměřená, co je jejím předmětem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) Jaké výše daň dosahuje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) Jak se daň vyměří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) Dokdy se musí daň zaplatit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77840"/>
            <a:ext cx="5829480" cy="106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Veřejné příjmy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24000" y="1486080"/>
            <a:ext cx="6210000" cy="765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daně (rozmanitých druhů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cla (dovozní / vývozní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odvod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dávk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 příspěvky (na různé účely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 poplatky (za různé protislužby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. příjmy z veřejného podnikání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. příjmy z podnikání s majetke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. pokut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. výnosy z emisí státních cenných papírů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1. úvěry od peněžních institucí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Kritéria členění veřejných příjmů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31920" y="2906640"/>
          <a:ext cx="6083280" cy="5359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920" y="2906640"/>
                    <a:ext cx="6083280" cy="53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Otázky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ojmy</a:t>
            </a: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3160" y="2641680"/>
            <a:ext cx="34732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do musí daň platit?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Z čeho je daň vyměřená?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aké výše daň dosahuje?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ak se daň vyměří?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kdy se musí daň zaplatit?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1320" y="2641680"/>
            <a:ext cx="301644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bjekt dan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) daňový poplatník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) plátce dan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ředmět daně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ýše daně, daňové sazby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ňový kalendář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0" y="0"/>
            <a:ext cx="6703920" cy="8787600"/>
            <a:chOff x="0" y="0"/>
            <a:chExt cx="6703920" cy="8787600"/>
          </a:xfrm>
        </p:grpSpPr>
        <p:grpSp>
          <p:nvGrpSpPr>
            <p:cNvPr id="92" name=""/>
            <p:cNvGrpSpPr/>
            <p:nvPr/>
          </p:nvGrpSpPr>
          <p:grpSpPr>
            <a:xfrm>
              <a:off x="0" y="0"/>
              <a:ext cx="6703920" cy="8787600"/>
              <a:chOff x="0" y="0"/>
              <a:chExt cx="6703920" cy="8787600"/>
            </a:xfrm>
          </p:grpSpPr>
          <p:sp>
            <p:nvSpPr>
              <p:cNvPr id="93" name=""/>
              <p:cNvSpPr/>
              <p:nvPr/>
            </p:nvSpPr>
            <p:spPr>
              <a:xfrm>
                <a:off x="15840" y="0"/>
                <a:ext cx="1633680" cy="762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předmět </a:t>
                </a:r>
                <a:br>
                  <a:rPr sz="2200"/>
                </a:br>
                <a:r>
                  <a:rPr b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daně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240" y="1219320"/>
                <a:ext cx="1644480" cy="427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základ daně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5" name=""/>
              <p:cNvGrpSpPr/>
              <p:nvPr/>
            </p:nvGrpSpPr>
            <p:grpSpPr>
              <a:xfrm>
                <a:off x="2295360" y="0"/>
                <a:ext cx="4303800" cy="2615400"/>
                <a:chOff x="2295360" y="0"/>
                <a:chExt cx="4303800" cy="261540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2295360" y="0"/>
                  <a:ext cx="4303800" cy="4125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31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100" spc="-1" strike="noStrike">
                      <a:solidFill>
                        <a:srgbClr val="000000"/>
                      </a:solidFill>
                      <a:latin typeface="Times New Roman"/>
                    </a:rPr>
                    <a:t>modifikace předmětu daně cestou:</a:t>
                  </a:r>
                  <a:endParaRPr b="0" lang="en-US" sz="2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2295360" y="463680"/>
                  <a:ext cx="4303800" cy="16473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marL="343080" indent="-343080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Times New Roman"/>
                    </a:rPr>
                    <a:t>a) zúžení předmětu daně</a:t>
                  </a:r>
                  <a:br>
                    <a:rPr sz="2200"/>
                  </a:b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-vyjmutím některých konkrétních druhů předmětů</a:t>
                  </a:r>
                  <a:br>
                    <a:rPr sz="2000"/>
                  </a:b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- osvobozením některých druhů předmětů od zdanění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2295360" y="2187720"/>
                  <a:ext cx="4299120" cy="427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marL="343080" indent="-343080"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Times New Roman"/>
                    </a:rPr>
                    <a:t>b) kvantifikace základu daně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" name=""/>
              <p:cNvSpPr/>
              <p:nvPr/>
            </p:nvSpPr>
            <p:spPr>
              <a:xfrm>
                <a:off x="250920" y="2957400"/>
                <a:ext cx="1644480" cy="762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upravený </a:t>
                </a:r>
                <a:br>
                  <a:rPr sz="2200"/>
                </a:br>
                <a:r>
                  <a:rPr b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základ daně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" name=""/>
              <p:cNvGrpSpPr/>
              <p:nvPr/>
            </p:nvGrpSpPr>
            <p:grpSpPr>
              <a:xfrm>
                <a:off x="2295360" y="2957400"/>
                <a:ext cx="4303800" cy="1243800"/>
                <a:chOff x="2295360" y="2957400"/>
                <a:chExt cx="4303800" cy="124380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2295360" y="2957400"/>
                  <a:ext cx="4294440" cy="427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marL="343080" indent="-343080"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Times New Roman"/>
                    </a:rPr>
                    <a:t>- odečtení odčitatelných položek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2295360" y="3438360"/>
                  <a:ext cx="4303800" cy="7628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marL="343080" indent="-343080"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Times New Roman"/>
                    </a:rPr>
                    <a:t>+ připočtení  připočitatelných položek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" name=""/>
              <p:cNvSpPr/>
              <p:nvPr/>
            </p:nvSpPr>
            <p:spPr>
              <a:xfrm>
                <a:off x="0" y="4724280"/>
                <a:ext cx="1644480" cy="427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marL="343080" indent="-343080" algn="ctr"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částka daně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40" y="8008920"/>
                <a:ext cx="1644480" cy="762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konečná částka daně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2292480" y="4726080"/>
                <a:ext cx="4306680" cy="3212280"/>
                <a:chOff x="2292480" y="4726080"/>
                <a:chExt cx="4306680" cy="321228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2292480" y="4726080"/>
                  <a:ext cx="4303440" cy="427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marL="343080" indent="-343080"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Times New Roman"/>
                    </a:rPr>
                    <a:t>násobení sazbou daně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2292480" y="5202360"/>
                  <a:ext cx="4306680" cy="10375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marL="343080" indent="-343080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Times New Roman"/>
                    </a:rPr>
                    <a:t>a) pevná (absolutní)</a:t>
                  </a:r>
                  <a:br>
                    <a:rPr sz="2200"/>
                  </a:b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. ze základu</a:t>
                  </a:r>
                  <a:br>
                    <a:rPr sz="2000"/>
                  </a:b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. ze subjektu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2292480" y="6321600"/>
                  <a:ext cx="4294080" cy="16167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marL="343080" indent="-343080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2200" spc="-1" strike="noStrike">
                      <a:solidFill>
                        <a:srgbClr val="000000"/>
                      </a:solidFill>
                      <a:latin typeface="Times New Roman"/>
                    </a:rPr>
                    <a:t>b) procentuální</a:t>
                  </a:r>
                  <a:br>
                    <a:rPr sz="2200"/>
                  </a:br>
                  <a:r>
                    <a:rPr b="1" lang="cs-CZ" sz="2000" spc="-1" strike="noStrike">
                      <a:solidFill>
                        <a:srgbClr val="000000"/>
                      </a:solidFill>
                      <a:latin typeface="Times New Roman"/>
                    </a:rPr>
                    <a:t>1. lineární</a:t>
                  </a:r>
                  <a:br>
                    <a:rPr sz="2000"/>
                  </a:br>
                  <a:r>
                    <a:rPr b="1" lang="cs-CZ" sz="2000" spc="-1" strike="noStrike">
                      <a:solidFill>
                        <a:srgbClr val="000000"/>
                      </a:solidFill>
                      <a:latin typeface="Times New Roman"/>
                    </a:rPr>
                    <a:t>2. progresivní</a:t>
                  </a:r>
                  <a:br>
                    <a:rPr sz="2000"/>
                  </a:br>
                  <a:r>
                    <a:rPr b="1" lang="cs-CZ" sz="2000" spc="-1" strike="noStrike">
                      <a:solidFill>
                        <a:srgbClr val="000000"/>
                      </a:solidFill>
                      <a:latin typeface="Times New Roman"/>
                    </a:rPr>
                    <a:t>    </a:t>
                  </a:r>
                  <a:r>
                    <a:rPr b="1" lang="cs-CZ" sz="1800" spc="-1" strike="noStrike">
                      <a:solidFill>
                        <a:srgbClr val="000000"/>
                      </a:solidFill>
                      <a:latin typeface="Times New Roman"/>
                    </a:rPr>
                    <a:t>i) stupňovitá</a:t>
                  </a:r>
                  <a:br>
                    <a:rPr sz="1800"/>
                  </a:br>
                  <a:r>
                    <a:rPr b="1" lang="cs-CZ" sz="1800" spc="-1" strike="noStrike">
                      <a:solidFill>
                        <a:srgbClr val="000000"/>
                      </a:solidFill>
                      <a:latin typeface="Times New Roman"/>
                    </a:rPr>
                    <a:t>    ii) klouzavá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" name=""/>
              <p:cNvSpPr/>
              <p:nvPr/>
            </p:nvSpPr>
            <p:spPr>
              <a:xfrm>
                <a:off x="2295360" y="8359920"/>
                <a:ext cx="4303800" cy="427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marL="343080" indent="-343080"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slevy na dani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676520" y="260280"/>
                <a:ext cx="608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22160" y="817560"/>
                <a:ext cx="0" cy="39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93720" y="1679400"/>
                <a:ext cx="0" cy="126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14240" y="3773520"/>
                <a:ext cx="1570320" cy="1119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1647360" y="5091120"/>
                <a:ext cx="636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93720" y="5192640"/>
                <a:ext cx="0" cy="2816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085760" y="5192640"/>
                <a:ext cx="1198800" cy="331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1657440" y="8624880"/>
                <a:ext cx="627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657440" y="1469880"/>
                <a:ext cx="627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31840" y="1679400"/>
                <a:ext cx="0" cy="112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3000" y="2800440"/>
                <a:ext cx="5560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6684480" y="2801880"/>
                <a:ext cx="9720" cy="218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6607080" y="4983120"/>
                <a:ext cx="77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1905120" y="3524400"/>
                <a:ext cx="37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1770120" y="307800"/>
              <a:ext cx="3603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770120" y="1496880"/>
              <a:ext cx="388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0760" y="1978200"/>
              <a:ext cx="6206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uď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600" y="1978200"/>
              <a:ext cx="6206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nebo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944720" y="3619440"/>
              <a:ext cx="4618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5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76240" y="4037040"/>
              <a:ext cx="432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6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770120" y="5135400"/>
              <a:ext cx="374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7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81120" y="6303960"/>
              <a:ext cx="388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8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70120" y="8321760"/>
              <a:ext cx="404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9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47280" y="645840"/>
            <a:ext cx="5829480" cy="100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Daň se vyměří: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14440" y="1757520"/>
            <a:ext cx="5829120" cy="33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 základě daňového přiznání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rážkou u zdroje příjmů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 základě daňového výměru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hodou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3200" y="4351320"/>
            <a:ext cx="578016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Daň se platí: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58720" y="5450040"/>
            <a:ext cx="5780160" cy="32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ednorázov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álohově a konečným vyrovnáním daňové povin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látka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Daně: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odle možnosti přesunu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přímé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nepřímé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odle platební schopnosti poplatníka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osobní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in rem“ (na věc)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14440" y="545760"/>
            <a:ext cx="582912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14440" y="1211040"/>
            <a:ext cx="5829120" cy="69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odle subjektu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daně placené fyzickou osobou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daně placené právnickou osobou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 ‘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zdanění domácností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splitting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odle objektu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důchodové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majetkové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spotřební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SzPct val="59000"/>
              <a:buFont typeface="Monotype Sort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universální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SzPct val="59000"/>
              <a:buFont typeface="Monotype Sort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selektivní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 ‘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daň z hlavy - pol tax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9680" y="-8280"/>
            <a:ext cx="582948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5240" y="894960"/>
            <a:ext cx="6527520" cy="723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dle přílohy č. 2 k tzv. rozpočtové skladbě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(viz opatření MF ČR č. j. 111/74 200/1997) rozlišujeme u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tzv. druhového třídění následující třídy veřejných příjmů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třída 1- Daňové příjmy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třída 2 - Nedaňové příjmy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třída 3 - Kapitálové příjmy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třídy 4 - Přijaté dotace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4T20:16:34Z</dcterms:created>
  <dc:creator>Klazar</dc:creator>
  <dc:description/>
  <dc:language>en-US</dc:language>
  <cp:lastModifiedBy>Petr Ježek</cp:lastModifiedBy>
  <cp:lastPrinted>1998-11-03T08:51:52Z</cp:lastPrinted>
  <dcterms:modified xsi:type="dcterms:W3CDTF">1999-03-17T08:39:28Z</dcterms:modified>
  <cp:revision>58</cp:revision>
  <dc:subject/>
  <dc:title>No Slide Title</dc:title>
</cp:coreProperties>
</file>