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14440" y="812880"/>
            <a:ext cx="5829480" cy="16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8. téma:</a:t>
            </a:r>
            <a:br>
              <a:rPr sz="3800"/>
            </a:b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Sociální zabezpečení 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444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8.1 Vymezení poj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8.2 Různé systémy sociálního zabezpe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8.3 Sociální zabezpečení v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14440" y="812880"/>
            <a:ext cx="5829480" cy="16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Základní modely financování sociálního zabezpečení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1444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ociální péče (adresn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átní sociální zabezpe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verzální dávk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ávky odvozované od předchozího příjm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SA - Pay roll ta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ociál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ém podnikového pojištění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šeobecné sociální pojištění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ay - as - you - go (Pay go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14440" y="812880"/>
            <a:ext cx="5829480" cy="16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Šest základních funkčních metod realizace sociálního zabezpeče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4440" y="3027240"/>
            <a:ext cx="582948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o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oukromé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nikové zaopat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ociál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átní zaopat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ociální pom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82520" y="322200"/>
            <a:ext cx="6521400" cy="16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Členění sociálních výdajů z veřejných rozpočtů (podle OECD)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8120" y="2190600"/>
            <a:ext cx="65214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eřejné výdaje na zdraví (zdravotní péče, nemocenská a invalidní důcho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ůchody starobní a pozůstalos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ýdaje na rodinu (např. rodinné dávky poskytované dětem apo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ýdaje na zaměstna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ociální pom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ýdaje na byd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zděl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ýdaje na podporu spo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Základní oblasti sociálního zabezpeče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1444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bezpečení ve stář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robní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ociální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zůstalostní důchod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bezpečení v nemoci a v invaliditě, vč. zdravotní pé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dinná politika - zejména podpora rodin s dět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ociální (resp. chudinská) pé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bezpečení v nezaměstna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lazar</dc:creator>
  <dc:description/>
  <dc:language>en-US</dc:language>
  <cp:lastModifiedBy>Klazar</cp:lastModifiedBy>
  <cp:revision>0</cp:revision>
  <dc:subject/>
  <dc:title>No Slide Title</dc:title>
</cp:coreProperties>
</file>