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14440" y="812880"/>
            <a:ext cx="5829480" cy="16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9. téma: </a:t>
            </a:r>
            <a:br>
              <a:rPr sz="3800"/>
            </a:b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Fiskální federalismu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444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9.1 Vymezení poj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9.2 Prostorové aspekty jednotlivých fiskálních fun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9.3 Problém decentralizace fiskálních fun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9.4 Situace v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60240" y="1608840"/>
            <a:ext cx="4025880" cy="5870520"/>
          </a:xfrm>
          <a:custGeom>
            <a:avLst/>
            <a:gdLst/>
            <a:ahLst/>
            <a:rect l="0" t="0" r="r" b="b"/>
            <a:pathLst>
              <a:path fill="none" w="11183" h="16307">
                <a:moveTo>
                  <a:pt x="0" y="16307"/>
                </a:moveTo>
                <a:lnTo>
                  <a:pt x="0" y="16307"/>
                </a:lnTo>
                <a:cubicBezTo>
                  <a:pt x="1697" y="15959"/>
                  <a:pt x="3332" y="15109"/>
                  <a:pt x="4815" y="13807"/>
                </a:cubicBezTo>
                <a:cubicBezTo>
                  <a:pt x="6813" y="12051"/>
                  <a:pt x="8473" y="9526"/>
                  <a:pt x="9626" y="6485"/>
                </a:cubicBezTo>
                <a:cubicBezTo>
                  <a:pt x="10388" y="4477"/>
                  <a:pt x="10915" y="2283"/>
                  <a:pt x="11183" y="0"/>
                </a:cubicBez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360" y="839880"/>
            <a:ext cx="6686640" cy="7122960"/>
            <a:chOff x="9360" y="839880"/>
            <a:chExt cx="6686640" cy="7122960"/>
          </a:xfrm>
        </p:grpSpPr>
        <p:sp>
          <p:nvSpPr>
            <p:cNvPr id="202" name=""/>
            <p:cNvSpPr/>
            <p:nvPr/>
          </p:nvSpPr>
          <p:spPr>
            <a:xfrm>
              <a:off x="1554120" y="1154160"/>
              <a:ext cx="0" cy="6319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52680" y="7473960"/>
              <a:ext cx="46591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77520" y="1605960"/>
              <a:ext cx="2445840" cy="5854320"/>
            </a:xfrm>
            <a:custGeom>
              <a:avLst/>
              <a:gdLst/>
              <a:ahLst/>
              <a:rect l="0" t="0" r="r" b="b"/>
              <a:pathLst>
                <a:path fill="none" w="6794" h="16262">
                  <a:moveTo>
                    <a:pt x="0" y="16262"/>
                  </a:moveTo>
                  <a:lnTo>
                    <a:pt x="0" y="16262"/>
                  </a:lnTo>
                  <a:cubicBezTo>
                    <a:pt x="431" y="15931"/>
                    <a:pt x="849" y="15551"/>
                    <a:pt x="1254" y="15124"/>
                  </a:cubicBezTo>
                  <a:cubicBezTo>
                    <a:pt x="2968" y="13320"/>
                    <a:pt x="4391" y="10724"/>
                    <a:pt x="5380" y="7598"/>
                  </a:cubicBezTo>
                  <a:cubicBezTo>
                    <a:pt x="6120" y="5259"/>
                    <a:pt x="6601" y="2677"/>
                    <a:pt x="6794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705120" y="2316240"/>
              <a:ext cx="0" cy="516240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971800" y="4716360"/>
              <a:ext cx="0" cy="276228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552680" y="4707000"/>
              <a:ext cx="141912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552680" y="2306520"/>
              <a:ext cx="216216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3905280" y="1373040"/>
              <a:ext cx="857160" cy="47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5315040" y="1430280"/>
              <a:ext cx="857160" cy="47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4809960" y="7432560"/>
              <a:ext cx="188604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čet oso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9360" y="839880"/>
              <a:ext cx="1571760" cy="88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áklady na osobu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162080" y="7288200"/>
              <a:ext cx="3618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1085760" y="2039760"/>
              <a:ext cx="3618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1057320" y="4478400"/>
              <a:ext cx="4381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2571840" y="742320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3295800" y="744372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43360" y="5602320"/>
              <a:ext cx="7632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66960" y="3544920"/>
              <a:ext cx="7632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4724280" y="533520"/>
            <a:ext cx="1924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. k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76280" y="8172360"/>
            <a:ext cx="419112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olba optimální velikosti pro danou úroveň služ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-2571840" y="839880"/>
            <a:ext cx="9267840" cy="10987560"/>
            <a:chOff x="-2571840" y="839880"/>
            <a:chExt cx="9267840" cy="10987560"/>
          </a:xfrm>
        </p:grpSpPr>
        <p:sp>
          <p:nvSpPr>
            <p:cNvPr id="223" name=""/>
            <p:cNvSpPr/>
            <p:nvPr/>
          </p:nvSpPr>
          <p:spPr>
            <a:xfrm>
              <a:off x="1560240" y="1608840"/>
              <a:ext cx="4025880" cy="5870520"/>
            </a:xfrm>
            <a:custGeom>
              <a:avLst/>
              <a:gdLst/>
              <a:ahLst/>
              <a:rect l="0" t="0" r="r" b="b"/>
              <a:pathLst>
                <a:path fill="none" w="11183" h="16307">
                  <a:moveTo>
                    <a:pt x="0" y="16307"/>
                  </a:moveTo>
                  <a:lnTo>
                    <a:pt x="0" y="16307"/>
                  </a:lnTo>
                  <a:cubicBezTo>
                    <a:pt x="1697" y="15959"/>
                    <a:pt x="3332" y="15109"/>
                    <a:pt x="4815" y="13807"/>
                  </a:cubicBezTo>
                  <a:cubicBezTo>
                    <a:pt x="6813" y="12051"/>
                    <a:pt x="8473" y="9526"/>
                    <a:pt x="9626" y="6485"/>
                  </a:cubicBezTo>
                  <a:cubicBezTo>
                    <a:pt x="10388" y="4477"/>
                    <a:pt x="10915" y="2283"/>
                    <a:pt x="11183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54120" y="1154160"/>
              <a:ext cx="0" cy="6319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52680" y="7473960"/>
              <a:ext cx="46591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-2054160" y="6530760"/>
              <a:ext cx="4226760" cy="4674960"/>
            </a:xfrm>
            <a:custGeom>
              <a:avLst/>
              <a:gdLst/>
              <a:ahLst/>
              <a:rect l="0" t="0" r="r" b="b"/>
              <a:pathLst>
                <a:path fill="none" w="11741" h="12986">
                  <a:moveTo>
                    <a:pt x="11741" y="154"/>
                  </a:moveTo>
                  <a:lnTo>
                    <a:pt x="1" y="0"/>
                  </a:lnTo>
                  <a:lnTo>
                    <a:pt x="1" y="0"/>
                  </a:lnTo>
                  <a:cubicBezTo>
                    <a:pt x="0" y="52"/>
                    <a:pt x="0" y="103"/>
                    <a:pt x="0" y="155"/>
                  </a:cubicBezTo>
                  <a:cubicBezTo>
                    <a:pt x="0" y="2416"/>
                    <a:pt x="543" y="4638"/>
                    <a:pt x="1573" y="6596"/>
                  </a:cubicBezTo>
                  <a:cubicBezTo>
                    <a:pt x="2603" y="8554"/>
                    <a:pt x="4085" y="10180"/>
                    <a:pt x="5870" y="11310"/>
                  </a:cubicBezTo>
                  <a:cubicBezTo>
                    <a:pt x="7351" y="12249"/>
                    <a:pt x="9001" y="12821"/>
                    <a:pt x="10705" y="12986"/>
                  </a:cubicBezTo>
                </a:path>
              </a:pathLst>
            </a:custGeom>
            <a:ln w="25560">
              <a:solidFill>
                <a:srgbClr val="00cc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6840" y="4722840"/>
              <a:ext cx="2713320" cy="3234240"/>
            </a:xfrm>
            <a:custGeom>
              <a:avLst/>
              <a:gdLst/>
              <a:ahLst/>
              <a:rect l="0" t="0" r="r" b="b"/>
              <a:pathLst>
                <a:path fill="none" w="7537" h="8984">
                  <a:moveTo>
                    <a:pt x="7537" y="0"/>
                  </a:moveTo>
                  <a:lnTo>
                    <a:pt x="0" y="1065"/>
                  </a:lnTo>
                  <a:lnTo>
                    <a:pt x="0" y="1065"/>
                  </a:lnTo>
                  <a:cubicBezTo>
                    <a:pt x="122" y="2273"/>
                    <a:pt x="450" y="3439"/>
                    <a:pt x="963" y="4492"/>
                  </a:cubicBezTo>
                  <a:cubicBezTo>
                    <a:pt x="1630" y="5858"/>
                    <a:pt x="2588" y="6992"/>
                    <a:pt x="3742" y="7780"/>
                  </a:cubicBezTo>
                  <a:cubicBezTo>
                    <a:pt x="4896" y="8569"/>
                    <a:pt x="6205" y="8984"/>
                    <a:pt x="7537" y="8984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43680" y="4199040"/>
              <a:ext cx="2070000" cy="2711880"/>
            </a:xfrm>
            <a:custGeom>
              <a:avLst/>
              <a:gdLst/>
              <a:ahLst/>
              <a:rect l="0" t="0" r="r" b="b"/>
              <a:pathLst>
                <a:path fill="none" w="5750" h="7533">
                  <a:moveTo>
                    <a:pt x="5750" y="0"/>
                  </a:moveTo>
                  <a:lnTo>
                    <a:pt x="0" y="1072"/>
                  </a:lnTo>
                  <a:lnTo>
                    <a:pt x="0" y="1072"/>
                  </a:lnTo>
                  <a:cubicBezTo>
                    <a:pt x="105" y="2022"/>
                    <a:pt x="349" y="2936"/>
                    <a:pt x="719" y="3767"/>
                  </a:cubicBezTo>
                  <a:cubicBezTo>
                    <a:pt x="1229" y="4912"/>
                    <a:pt x="1962" y="5863"/>
                    <a:pt x="2845" y="6524"/>
                  </a:cubicBezTo>
                  <a:cubicBezTo>
                    <a:pt x="3728" y="7185"/>
                    <a:pt x="4730" y="7533"/>
                    <a:pt x="5750" y="7533"/>
                  </a:cubicBezTo>
                  <a:lnTo>
                    <a:pt x="5750" y="7533"/>
                  </a:lnTo>
                </a:path>
              </a:pathLst>
            </a:custGeom>
            <a:ln w="25560">
              <a:solidFill>
                <a:srgbClr val="00cc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77520" y="1605960"/>
              <a:ext cx="2445840" cy="5854320"/>
            </a:xfrm>
            <a:custGeom>
              <a:avLst/>
              <a:gdLst/>
              <a:ahLst/>
              <a:rect l="0" t="0" r="r" b="b"/>
              <a:pathLst>
                <a:path fill="none" w="6794" h="16262">
                  <a:moveTo>
                    <a:pt x="0" y="16262"/>
                  </a:moveTo>
                  <a:lnTo>
                    <a:pt x="0" y="16262"/>
                  </a:lnTo>
                  <a:cubicBezTo>
                    <a:pt x="431" y="15931"/>
                    <a:pt x="849" y="15551"/>
                    <a:pt x="1254" y="15124"/>
                  </a:cubicBezTo>
                  <a:cubicBezTo>
                    <a:pt x="2968" y="13320"/>
                    <a:pt x="4391" y="10724"/>
                    <a:pt x="5380" y="7598"/>
                  </a:cubicBezTo>
                  <a:cubicBezTo>
                    <a:pt x="6120" y="5259"/>
                    <a:pt x="6601" y="2677"/>
                    <a:pt x="6794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-2571840" y="6761520"/>
              <a:ext cx="4325040" cy="5065920"/>
            </a:xfrm>
            <a:custGeom>
              <a:avLst/>
              <a:gdLst/>
              <a:ahLst/>
              <a:rect l="0" t="0" r="r" b="b"/>
              <a:pathLst>
                <a:path fill="none" w="12014" h="14072">
                  <a:moveTo>
                    <a:pt x="12014" y="517"/>
                  </a:moveTo>
                  <a:lnTo>
                    <a:pt x="9" y="0"/>
                  </a:lnTo>
                  <a:lnTo>
                    <a:pt x="9" y="0"/>
                  </a:lnTo>
                  <a:cubicBezTo>
                    <a:pt x="3" y="172"/>
                    <a:pt x="0" y="345"/>
                    <a:pt x="0" y="517"/>
                  </a:cubicBezTo>
                  <a:cubicBezTo>
                    <a:pt x="0" y="2897"/>
                    <a:pt x="555" y="5234"/>
                    <a:pt x="1610" y="7295"/>
                  </a:cubicBezTo>
                  <a:cubicBezTo>
                    <a:pt x="2664" y="9355"/>
                    <a:pt x="4181" y="11066"/>
                    <a:pt x="6007" y="12256"/>
                  </a:cubicBezTo>
                  <a:cubicBezTo>
                    <a:pt x="7818" y="13436"/>
                    <a:pt x="9870" y="14062"/>
                    <a:pt x="11961" y="14072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705120" y="2316240"/>
              <a:ext cx="0" cy="516240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971800" y="4716360"/>
              <a:ext cx="0" cy="276228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1552680" y="4707000"/>
              <a:ext cx="141912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552680" y="2306520"/>
              <a:ext cx="216216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5648400" y="3878280"/>
              <a:ext cx="6573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 CE"/>
                  <a:ea typeface="Times New Roman CE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3324240" y="1401840"/>
              <a:ext cx="6573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 CE"/>
                  <a:ea typeface="Times New Roman CE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5724360" y="4468680"/>
              <a:ext cx="857160" cy="47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’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2619360" y="1459080"/>
              <a:ext cx="857160" cy="47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’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1495440" y="1649520"/>
              <a:ext cx="857160" cy="47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5772240" y="6716880"/>
              <a:ext cx="857160" cy="47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5762520" y="6145200"/>
              <a:ext cx="6573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 CE"/>
                  <a:ea typeface="Times New Roman CE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2066760" y="1620720"/>
              <a:ext cx="6573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 CE"/>
                  <a:ea typeface="Times New Roman CE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3905280" y="1373040"/>
              <a:ext cx="857160" cy="47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5315040" y="1430280"/>
              <a:ext cx="857160" cy="47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4809960" y="7432560"/>
              <a:ext cx="188604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čet oso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9360" y="839880"/>
              <a:ext cx="1571760" cy="88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áklady na osobu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1162080" y="7288200"/>
              <a:ext cx="3618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1085760" y="2039760"/>
              <a:ext cx="3618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1057320" y="4478400"/>
              <a:ext cx="4381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2571840" y="742320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3295800" y="744372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43360" y="5602320"/>
              <a:ext cx="7632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33640" y="4659480"/>
              <a:ext cx="7632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66960" y="3544920"/>
              <a:ext cx="7632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66960" y="2268360"/>
              <a:ext cx="7632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2914560" y="4240080"/>
              <a:ext cx="38088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2486160" y="5440320"/>
              <a:ext cx="38088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3114720" y="2239920"/>
              <a:ext cx="72396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’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3076560" y="3421080"/>
              <a:ext cx="72396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’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 txBox="1"/>
          <p:nvPr/>
        </p:nvSpPr>
        <p:spPr>
          <a:xfrm>
            <a:off x="476280" y="8172360"/>
            <a:ext cx="419112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olba optimální velikosti pro danou úroveň služ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724280" y="533520"/>
            <a:ext cx="1924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. k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-2435400" y="533520"/>
            <a:ext cx="9291600" cy="11086200"/>
            <a:chOff x="-2435400" y="533520"/>
            <a:chExt cx="9291600" cy="11086200"/>
          </a:xfrm>
        </p:grpSpPr>
        <p:sp>
          <p:nvSpPr>
            <p:cNvPr id="263" name=""/>
            <p:cNvSpPr/>
            <p:nvPr/>
          </p:nvSpPr>
          <p:spPr>
            <a:xfrm>
              <a:off x="1554120" y="1154160"/>
              <a:ext cx="0" cy="6319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52680" y="7473960"/>
              <a:ext cx="46591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-2435400" y="6671520"/>
              <a:ext cx="4477320" cy="4948200"/>
            </a:xfrm>
            <a:custGeom>
              <a:avLst/>
              <a:gdLst/>
              <a:ahLst/>
              <a:rect l="0" t="0" r="r" b="b"/>
              <a:pathLst>
                <a:path fill="none" w="12437" h="13745">
                  <a:moveTo>
                    <a:pt x="12437" y="0"/>
                  </a:moveTo>
                  <a:lnTo>
                    <a:pt x="0" y="2355"/>
                  </a:lnTo>
                  <a:lnTo>
                    <a:pt x="0" y="2355"/>
                  </a:lnTo>
                  <a:cubicBezTo>
                    <a:pt x="252" y="3990"/>
                    <a:pt x="763" y="5563"/>
                    <a:pt x="1511" y="7000"/>
                  </a:cubicBezTo>
                  <a:cubicBezTo>
                    <a:pt x="2618" y="9128"/>
                    <a:pt x="4211" y="10895"/>
                    <a:pt x="6129" y="12124"/>
                  </a:cubicBezTo>
                  <a:cubicBezTo>
                    <a:pt x="7343" y="12902"/>
                    <a:pt x="8666" y="13450"/>
                    <a:pt x="10043" y="13745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5143320" y="7432560"/>
              <a:ext cx="1712880" cy="88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Úroveň služeb (Q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9360" y="839880"/>
              <a:ext cx="1571760" cy="88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áklady na hlavu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1162080" y="7288200"/>
              <a:ext cx="3618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476280" y="8172360"/>
              <a:ext cx="4191120" cy="86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jištění optimální úrovně služe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4724280" y="533520"/>
              <a:ext cx="19242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2. kro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043000" y="6276960"/>
              <a:ext cx="4015080" cy="619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075040" y="5524560"/>
              <a:ext cx="3887640" cy="1085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108160" y="4267080"/>
              <a:ext cx="3606840" cy="1838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2044800" y="2571840"/>
              <a:ext cx="3384360" cy="2590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2790720" y="4591080"/>
              <a:ext cx="0" cy="288612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438360" y="5429160"/>
              <a:ext cx="0" cy="204804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152960" y="6029280"/>
              <a:ext cx="0" cy="144792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952880" y="6438960"/>
              <a:ext cx="0" cy="103824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2467080" y="7515360"/>
              <a:ext cx="6285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3838680" y="7515360"/>
              <a:ext cx="6285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4638600" y="7534440"/>
              <a:ext cx="6285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3124080" y="7515360"/>
              <a:ext cx="6285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1590840" y="5038560"/>
              <a:ext cx="5047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1590840" y="5800680"/>
              <a:ext cx="5047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1590840" y="6238800"/>
              <a:ext cx="5047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1590840" y="6772320"/>
              <a:ext cx="5047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5429160" y="2266920"/>
              <a:ext cx="5047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5667480" y="3828960"/>
              <a:ext cx="5047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5905440" y="5076720"/>
              <a:ext cx="5047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6029280" y="5810400"/>
              <a:ext cx="5047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5457960" y="6676920"/>
              <a:ext cx="4381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2019240" y="2314440"/>
              <a:ext cx="4381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2514600" y="3943440"/>
              <a:ext cx="6476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4676760" y="5915160"/>
              <a:ext cx="6476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3895560" y="5486400"/>
              <a:ext cx="6476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3124080" y="4838760"/>
              <a:ext cx="6476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724280" y="533520"/>
            <a:ext cx="1924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3. k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9360" y="858960"/>
            <a:ext cx="6846840" cy="7431120"/>
            <a:chOff x="9360" y="858960"/>
            <a:chExt cx="6846840" cy="7431120"/>
          </a:xfrm>
        </p:grpSpPr>
        <p:sp>
          <p:nvSpPr>
            <p:cNvPr id="299" name=""/>
            <p:cNvSpPr/>
            <p:nvPr/>
          </p:nvSpPr>
          <p:spPr>
            <a:xfrm>
              <a:off x="1554120" y="1143000"/>
              <a:ext cx="0" cy="5587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52680" y="6730920"/>
              <a:ext cx="46591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5143320" y="6689880"/>
              <a:ext cx="1712880" cy="88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Velikost společen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9360" y="858960"/>
              <a:ext cx="1571760" cy="88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Objem služe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1162080" y="6545160"/>
              <a:ext cx="3618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476280" y="7429680"/>
              <a:ext cx="5353200" cy="86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Optimální struktura velikosti fiskální skupin a úrovně služe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313000" y="2381400"/>
              <a:ext cx="3859200" cy="2409840"/>
            </a:xfrm>
            <a:prstGeom prst="line">
              <a:avLst/>
            </a:prstGeom>
            <a:ln w="255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209680" y="1695600"/>
              <a:ext cx="3905280" cy="4057560"/>
            </a:xfrm>
            <a:prstGeom prst="line">
              <a:avLst/>
            </a:prstGeom>
            <a:ln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790720" y="4486320"/>
              <a:ext cx="0" cy="224784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438360" y="4076640"/>
              <a:ext cx="0" cy="265752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352760" y="3514680"/>
              <a:ext cx="0" cy="321948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952880" y="3133800"/>
              <a:ext cx="0" cy="36003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866880" y="2724120"/>
              <a:ext cx="7239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961920" y="3695760"/>
              <a:ext cx="6285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961920" y="3200400"/>
              <a:ext cx="6285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961920" y="4200480"/>
              <a:ext cx="6285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4676760" y="6686640"/>
              <a:ext cx="77148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5641920" y="1209600"/>
              <a:ext cx="55548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 CE"/>
                  <a:ea typeface="Times New Roman CE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2523960" y="6686640"/>
              <a:ext cx="5619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3191040" y="6686640"/>
              <a:ext cx="6476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4095720" y="6686640"/>
              <a:ext cx="6001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552680" y="4486320"/>
              <a:ext cx="123804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552680" y="4076640"/>
              <a:ext cx="188568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552680" y="3486240"/>
              <a:ext cx="28098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552680" y="3133800"/>
              <a:ext cx="34002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1755720" y="5715000"/>
              <a:ext cx="5652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 CE"/>
                  <a:ea typeface="Times New Roman CE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1952640" y="4705200"/>
              <a:ext cx="4287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 CE"/>
                  <a:ea typeface="Times New Roman CE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5924520" y="2533680"/>
              <a:ext cx="4287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 CE"/>
                  <a:ea typeface="Times New Roman CE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4257720" y="3495600"/>
              <a:ext cx="5526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514440" y="812880"/>
            <a:ext cx="58294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Efekt účelové dot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1280" y="1862280"/>
            <a:ext cx="6718320" cy="7080480"/>
            <a:chOff x="71280" y="1862280"/>
            <a:chExt cx="6718320" cy="7080480"/>
          </a:xfrm>
        </p:grpSpPr>
        <p:sp>
          <p:nvSpPr>
            <p:cNvPr id="330" name=""/>
            <p:cNvSpPr/>
            <p:nvPr/>
          </p:nvSpPr>
          <p:spPr>
            <a:xfrm>
              <a:off x="1533600" y="2266920"/>
              <a:ext cx="0" cy="5300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23880" y="7567560"/>
              <a:ext cx="4543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5373720" y="7564320"/>
              <a:ext cx="141588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Veřejný state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1012680" y="7454880"/>
              <a:ext cx="3906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71280" y="1862280"/>
              <a:ext cx="147960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ivátní state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23880" y="3990960"/>
              <a:ext cx="3743280" cy="3581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33600" y="4000680"/>
              <a:ext cx="2104920" cy="3571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50920" y="6502680"/>
              <a:ext cx="1976040" cy="2138400"/>
            </a:xfrm>
            <a:custGeom>
              <a:avLst/>
              <a:gdLst/>
              <a:ahLst/>
              <a:rect l="0" t="0" r="r" b="b"/>
              <a:pathLst>
                <a:path fill="none" w="5489" h="5940">
                  <a:moveTo>
                    <a:pt x="5293" y="38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3"/>
                    <a:pt x="0" y="25"/>
                    <a:pt x="0" y="38"/>
                  </a:cubicBezTo>
                  <a:cubicBezTo>
                    <a:pt x="0" y="1074"/>
                    <a:pt x="244" y="2092"/>
                    <a:pt x="709" y="2989"/>
                  </a:cubicBezTo>
                  <a:cubicBezTo>
                    <a:pt x="1174" y="3886"/>
                    <a:pt x="1842" y="4631"/>
                    <a:pt x="2646" y="5149"/>
                  </a:cubicBezTo>
                  <a:cubicBezTo>
                    <a:pt x="3451" y="5667"/>
                    <a:pt x="4364" y="5940"/>
                    <a:pt x="5293" y="5940"/>
                  </a:cubicBezTo>
                  <a:cubicBezTo>
                    <a:pt x="5358" y="5940"/>
                    <a:pt x="5424" y="5939"/>
                    <a:pt x="5489" y="5936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5600" y="6765120"/>
              <a:ext cx="1968120" cy="2177640"/>
            </a:xfrm>
            <a:custGeom>
              <a:avLst/>
              <a:gdLst/>
              <a:ahLst/>
              <a:rect l="0" t="0" r="r" b="b"/>
              <a:pathLst>
                <a:path fill="none" w="5467" h="6049">
                  <a:moveTo>
                    <a:pt x="5294" y="148"/>
                  </a:moveTo>
                  <a:lnTo>
                    <a:pt x="2" y="0"/>
                  </a:lnTo>
                  <a:lnTo>
                    <a:pt x="2" y="0"/>
                  </a:lnTo>
                  <a:cubicBezTo>
                    <a:pt x="1" y="49"/>
                    <a:pt x="0" y="99"/>
                    <a:pt x="0" y="148"/>
                  </a:cubicBezTo>
                  <a:cubicBezTo>
                    <a:pt x="0" y="1184"/>
                    <a:pt x="245" y="2202"/>
                    <a:pt x="709" y="3099"/>
                  </a:cubicBezTo>
                  <a:cubicBezTo>
                    <a:pt x="1174" y="3996"/>
                    <a:pt x="1842" y="4741"/>
                    <a:pt x="2647" y="5259"/>
                  </a:cubicBezTo>
                  <a:cubicBezTo>
                    <a:pt x="3451" y="5777"/>
                    <a:pt x="4364" y="6049"/>
                    <a:pt x="5293" y="6049"/>
                  </a:cubicBezTo>
                  <a:cubicBezTo>
                    <a:pt x="5351" y="6049"/>
                    <a:pt x="5409" y="6048"/>
                    <a:pt x="5467" y="6046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4386240" y="5567400"/>
              <a:ext cx="214776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ndiferenční křivk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3462480" y="5472000"/>
              <a:ext cx="6476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1085760" y="3559320"/>
              <a:ext cx="3906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1747800" y="3062160"/>
              <a:ext cx="1690560" cy="146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počtové omezení po podpoře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1409760" y="6738840"/>
              <a:ext cx="1990800" cy="85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7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počtové omezení před podporou 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4881600" y="7567560"/>
              <a:ext cx="5857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57320" y="4529160"/>
              <a:ext cx="447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2724120" y="5657760"/>
              <a:ext cx="5047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3409920" y="756756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14440" y="812880"/>
            <a:ext cx="58294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Efekt neúčelové dot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71280" y="1862280"/>
            <a:ext cx="6718320" cy="7080480"/>
            <a:chOff x="71280" y="1862280"/>
            <a:chExt cx="6718320" cy="7080480"/>
          </a:xfrm>
        </p:grpSpPr>
        <p:sp>
          <p:nvSpPr>
            <p:cNvPr id="350" name=""/>
            <p:cNvSpPr/>
            <p:nvPr/>
          </p:nvSpPr>
          <p:spPr>
            <a:xfrm>
              <a:off x="1533600" y="2266920"/>
              <a:ext cx="0" cy="5300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23880" y="7567560"/>
              <a:ext cx="4543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5373720" y="7564320"/>
              <a:ext cx="141588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Veřejný state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1012680" y="7454880"/>
              <a:ext cx="3906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71280" y="1862280"/>
              <a:ext cx="147960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ivátní state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33600" y="3597120"/>
              <a:ext cx="3486240" cy="3984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50920" y="6502680"/>
              <a:ext cx="1976040" cy="2138400"/>
            </a:xfrm>
            <a:custGeom>
              <a:avLst/>
              <a:gdLst/>
              <a:ahLst/>
              <a:rect l="0" t="0" r="r" b="b"/>
              <a:pathLst>
                <a:path fill="none" w="5489" h="5940">
                  <a:moveTo>
                    <a:pt x="5293" y="38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3"/>
                    <a:pt x="0" y="25"/>
                    <a:pt x="0" y="38"/>
                  </a:cubicBezTo>
                  <a:cubicBezTo>
                    <a:pt x="0" y="1074"/>
                    <a:pt x="244" y="2092"/>
                    <a:pt x="709" y="2989"/>
                  </a:cubicBezTo>
                  <a:cubicBezTo>
                    <a:pt x="1174" y="3886"/>
                    <a:pt x="1842" y="4631"/>
                    <a:pt x="2646" y="5149"/>
                  </a:cubicBezTo>
                  <a:cubicBezTo>
                    <a:pt x="3451" y="5667"/>
                    <a:pt x="4364" y="5940"/>
                    <a:pt x="5293" y="5940"/>
                  </a:cubicBezTo>
                  <a:cubicBezTo>
                    <a:pt x="5358" y="5940"/>
                    <a:pt x="5424" y="5939"/>
                    <a:pt x="5489" y="5936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5600" y="6765120"/>
              <a:ext cx="1968120" cy="2177640"/>
            </a:xfrm>
            <a:custGeom>
              <a:avLst/>
              <a:gdLst/>
              <a:ahLst/>
              <a:rect l="0" t="0" r="r" b="b"/>
              <a:pathLst>
                <a:path fill="none" w="5467" h="6049">
                  <a:moveTo>
                    <a:pt x="5294" y="148"/>
                  </a:moveTo>
                  <a:lnTo>
                    <a:pt x="2" y="0"/>
                  </a:lnTo>
                  <a:lnTo>
                    <a:pt x="2" y="0"/>
                  </a:lnTo>
                  <a:cubicBezTo>
                    <a:pt x="1" y="49"/>
                    <a:pt x="0" y="99"/>
                    <a:pt x="0" y="148"/>
                  </a:cubicBezTo>
                  <a:cubicBezTo>
                    <a:pt x="0" y="1184"/>
                    <a:pt x="245" y="2202"/>
                    <a:pt x="709" y="3099"/>
                  </a:cubicBezTo>
                  <a:cubicBezTo>
                    <a:pt x="1174" y="3996"/>
                    <a:pt x="1842" y="4741"/>
                    <a:pt x="2647" y="5259"/>
                  </a:cubicBezTo>
                  <a:cubicBezTo>
                    <a:pt x="3451" y="5777"/>
                    <a:pt x="4364" y="6049"/>
                    <a:pt x="5293" y="6049"/>
                  </a:cubicBezTo>
                  <a:cubicBezTo>
                    <a:pt x="5351" y="6049"/>
                    <a:pt x="5409" y="6048"/>
                    <a:pt x="5467" y="6046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4386240" y="5567400"/>
              <a:ext cx="214776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ndiferenční křivk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3462480" y="5472000"/>
              <a:ext cx="6476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1104840" y="4359240"/>
              <a:ext cx="3906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1747800" y="2824200"/>
              <a:ext cx="1690560" cy="146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počtové omezení po podpoře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1562040" y="6634080"/>
              <a:ext cx="1990800" cy="85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7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počtové omezení před podporou 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4881600" y="7567560"/>
              <a:ext cx="5857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57320" y="4529160"/>
              <a:ext cx="447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2724120" y="5657760"/>
              <a:ext cx="5047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3409920" y="756756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542960" y="4629240"/>
              <a:ext cx="2541600" cy="2943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1052640" y="3348000"/>
              <a:ext cx="5857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533520" y="95400"/>
            <a:ext cx="58294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Dotace ze státního rozpočtu místním rozpočtům OÚ v Č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14440" y="2019240"/>
            <a:ext cx="5829480" cy="67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říspěvek k částečné úhradě výdajů na výkon státní správy ob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le rozsahu přenesených pravomocí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le počtu trvale bydlících obyvatel (v přepočtu na 100 obyvate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územně vyrovná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účelové dotace n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oc. dávk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my s pečovatelskou službo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bory požární ochran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514440" y="1143000"/>
            <a:ext cx="5829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účelové dotace n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oc. dávk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my s pečovatelskou službo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bory požární ochran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větvové vyrovnávací dotace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školství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ůžka v zařízení soc. péč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dravotnická zařízení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imořádné účelové d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kologické dotac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  p.s. dotace ze státních fon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Příjmy MR v ČR podle rozpočtových pravid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5400" y="2641680"/>
            <a:ext cx="666756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  <a:tabLst>
                <a:tab algn="l" pos="137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aňov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  <a:tabLst>
                <a:tab algn="l" pos="9716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lý výnos daně z nemovitosti (podle její lokalizac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  <a:tabLst>
                <a:tab algn="l" pos="9716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PFO - čá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  <a:tabLst>
                <a:tab algn="l" pos="9716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PPO - čá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  <a:tabLst>
                <a:tab algn="l" pos="137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daňov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  <a:tabLst>
                <a:tab algn="l" pos="9716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říjmy z podnikání, z podnikání s majetkem, z obchodování s cennými papí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  <a:tabLst>
                <a:tab algn="l" pos="9716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živatelské poplatk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  <a:tabLst>
                <a:tab algn="l" pos="9716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  <a:tabLst>
                <a:tab algn="l" pos="971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  <a:tabLst>
                <a:tab algn="l" pos="971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95400" y="438120"/>
            <a:ext cx="6667560" cy="76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80000"/>
              </a:lnSpc>
              <a:spcBef>
                <a:spcPts val="479"/>
              </a:spcBef>
              <a:tabLst>
                <a:tab algn="l" pos="78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  <a:tabLst>
                <a:tab algn="l" pos="78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  <a:tabLst>
                <a:tab algn="l" pos="78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  <a:tabLst>
                <a:tab algn="l" pos="7812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rávní poplatk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  <a:tabLst>
                <a:tab algn="l" pos="7812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ístní poplatky* (zákon o místních poplatcích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0000"/>
              <a:buFont typeface="Monotype Sorts"/>
              <a:buChar char=""/>
              <a:tabLst>
                <a:tab algn="l" pos="380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e ps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0000"/>
              <a:buFont typeface="Monotype Sorts"/>
              <a:buChar char=""/>
              <a:tabLst>
                <a:tab algn="l" pos="380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ázeňské (rekreační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0000"/>
              <a:buFont typeface="Monotype Sorts"/>
              <a:buChar char=""/>
              <a:tabLst>
                <a:tab algn="l" pos="380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 užívání veřejných prostranstv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0000"/>
              <a:buFont typeface="Monotype Sorts"/>
              <a:buChar char=""/>
              <a:tabLst>
                <a:tab algn="l" pos="380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e vstupnéh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0000"/>
              <a:buFont typeface="Monotype Sorts"/>
              <a:buChar char=""/>
              <a:tabLst>
                <a:tab algn="l" pos="380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ubytovací kapa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0000"/>
              <a:buFont typeface="Monotype Sorts"/>
              <a:buChar char=""/>
              <a:tabLst>
                <a:tab algn="l" pos="380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 povolení k vjezdu s motorovým vozid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  <a:tabLst>
                <a:tab algn="l" pos="7812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ku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  <a:tabLst>
                <a:tab algn="l" pos="7812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říjmy z mimorozpočtových fondů municipalit (např. z fondu rezerv a rozvoj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  <a:tabLst>
                <a:tab algn="l" pos="7812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ary, výnosy z veřejných sbíre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Struktura veřejných rozpočtů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14440" y="2641680"/>
            <a:ext cx="582948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orizont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ertikální - 3 mod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lně centralistick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lně decentralizovan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mbinovan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Plně centralistick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7200" y="2608200"/>
            <a:ext cx="5978520" cy="3629160"/>
            <a:chOff x="457200" y="2608200"/>
            <a:chExt cx="5978520" cy="3629160"/>
          </a:xfrm>
        </p:grpSpPr>
        <p:sp>
          <p:nvSpPr>
            <p:cNvPr id="82" name=""/>
            <p:cNvSpPr txBox="1"/>
            <p:nvPr/>
          </p:nvSpPr>
          <p:spPr>
            <a:xfrm>
              <a:off x="2217600" y="3330720"/>
              <a:ext cx="1125360" cy="63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Ú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457200" y="4960800"/>
              <a:ext cx="1009800" cy="63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2274840" y="4960800"/>
              <a:ext cx="1009800" cy="63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4151160" y="4960800"/>
              <a:ext cx="1009800" cy="63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79560" y="3951360"/>
              <a:ext cx="0" cy="1023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976320" y="3965400"/>
              <a:ext cx="1789200" cy="995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86040" y="3959280"/>
              <a:ext cx="1789200" cy="995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773440" y="2984400"/>
              <a:ext cx="0" cy="346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65520" y="2998800"/>
              <a:ext cx="1398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4294080" y="2711520"/>
              <a:ext cx="15732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vešker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5737320" y="2608200"/>
              <a:ext cx="698400" cy="75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573120" y="5567400"/>
              <a:ext cx="647640" cy="647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361040" y="5589720"/>
              <a:ext cx="647640" cy="647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 CE"/>
                  <a:ea typeface="Times New Roman CE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2465280" y="5584680"/>
              <a:ext cx="647640" cy="647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0880" y="812880"/>
            <a:ext cx="60958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Plně decentralizovaný</a:t>
            </a:r>
            <a:br>
              <a:rPr sz="3800"/>
            </a:b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(model „vrstveného dortu“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38120" y="3498840"/>
            <a:ext cx="5618520" cy="3595680"/>
            <a:chOff x="438120" y="3498840"/>
            <a:chExt cx="5618520" cy="3595680"/>
          </a:xfrm>
        </p:grpSpPr>
        <p:sp>
          <p:nvSpPr>
            <p:cNvPr id="98" name=""/>
            <p:cNvSpPr txBox="1"/>
            <p:nvPr/>
          </p:nvSpPr>
          <p:spPr>
            <a:xfrm>
              <a:off x="2979720" y="3844800"/>
              <a:ext cx="1125360" cy="63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Ú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352520" y="4960800"/>
              <a:ext cx="1009800" cy="63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3170160" y="4960800"/>
              <a:ext cx="1009800" cy="63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5046840" y="4960800"/>
              <a:ext cx="1009800" cy="63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535200" y="3498840"/>
              <a:ext cx="0" cy="345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7000" y="3503520"/>
              <a:ext cx="1398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1020600" y="5586480"/>
              <a:ext cx="647640" cy="647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808520" y="5608800"/>
              <a:ext cx="647640" cy="647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 CE"/>
                  <a:ea typeface="Times New Roman CE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2913120" y="5603760"/>
              <a:ext cx="647640" cy="647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95720" y="4176720"/>
              <a:ext cx="9032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4971960" y="3867120"/>
              <a:ext cx="93348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V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Ú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38160" y="55818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57600" y="559116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72080" y="559116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857680" y="5281560"/>
              <a:ext cx="333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714920" y="5281560"/>
              <a:ext cx="333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028880" y="5281560"/>
              <a:ext cx="333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4152960" y="4738680"/>
              <a:ext cx="666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V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438120" y="4738680"/>
              <a:ext cx="666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V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2324160" y="4738680"/>
              <a:ext cx="666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V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1467000" y="6505560"/>
              <a:ext cx="7239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5219640" y="6505560"/>
              <a:ext cx="7239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3295800" y="6514920"/>
              <a:ext cx="7239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Kombinovaný mod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4280" y="2482920"/>
            <a:ext cx="6029280" cy="3754440"/>
            <a:chOff x="314280" y="2482920"/>
            <a:chExt cx="6029280" cy="3754440"/>
          </a:xfrm>
        </p:grpSpPr>
        <p:sp>
          <p:nvSpPr>
            <p:cNvPr id="123" name=""/>
            <p:cNvSpPr txBox="1"/>
            <p:nvPr/>
          </p:nvSpPr>
          <p:spPr>
            <a:xfrm>
              <a:off x="2884320" y="3330720"/>
              <a:ext cx="1125360" cy="63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Ú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1123920" y="4960800"/>
              <a:ext cx="1143000" cy="63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2941560" y="4960800"/>
              <a:ext cx="1143000" cy="63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4818240" y="4960800"/>
              <a:ext cx="1143000" cy="63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46640" y="3951360"/>
              <a:ext cx="0" cy="1023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643040" y="3965400"/>
              <a:ext cx="1789200" cy="995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52760" y="3959280"/>
              <a:ext cx="1789200" cy="995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440160" y="2984400"/>
              <a:ext cx="0" cy="346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41600" y="2989440"/>
              <a:ext cx="1398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4770360" y="2482920"/>
              <a:ext cx="157320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vlastní příjm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1239840" y="5567400"/>
              <a:ext cx="647640" cy="647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5027760" y="5589720"/>
              <a:ext cx="647640" cy="647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 CE"/>
                  <a:ea typeface="Times New Roman CE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3132000" y="5584680"/>
              <a:ext cx="647640" cy="647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90400" y="528624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495520" y="528624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362480" y="5286240"/>
              <a:ext cx="476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314280" y="470520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2162160" y="470520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038480" y="470520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14440" y="25560"/>
            <a:ext cx="582948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Ztráty efektu z centraliz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1698480"/>
            <a:ext cx="6723000" cy="6986520"/>
            <a:chOff x="0" y="1698480"/>
            <a:chExt cx="6723000" cy="6986520"/>
          </a:xfrm>
        </p:grpSpPr>
        <p:sp>
          <p:nvSpPr>
            <p:cNvPr id="144" name=""/>
            <p:cNvSpPr/>
            <p:nvPr/>
          </p:nvSpPr>
          <p:spPr>
            <a:xfrm>
              <a:off x="1398600" y="2454120"/>
              <a:ext cx="0" cy="4703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98600" y="7172280"/>
              <a:ext cx="47768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65200" y="2943360"/>
              <a:ext cx="3552840" cy="2409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23000" y="4686480"/>
              <a:ext cx="0" cy="246852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4880" y="3600360"/>
              <a:ext cx="0" cy="357048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3989520" y="6580080"/>
              <a:ext cx="6523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4632480" y="7159680"/>
              <a:ext cx="5810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2503440" y="7169040"/>
              <a:ext cx="5810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5168880" y="7183440"/>
              <a:ext cx="15541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nožstv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1050840" y="7102440"/>
              <a:ext cx="3906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0" y="2273400"/>
              <a:ext cx="137808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= Z/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1120" y="3171960"/>
              <a:ext cx="2238120" cy="3647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98640" y="4695840"/>
              <a:ext cx="0" cy="248760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393920" y="4695840"/>
              <a:ext cx="353376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17760" y="3591000"/>
              <a:ext cx="1629000" cy="1105200"/>
            </a:xfrm>
            <a:custGeom>
              <a:avLst/>
              <a:gdLst/>
              <a:ahLst/>
              <a:rect l="0" t="0" r="r" b="b"/>
              <a:pathLst>
                <a:path w="4525" h="3070">
                  <a:moveTo>
                    <a:pt x="0" y="0"/>
                  </a:moveTo>
                  <a:lnTo>
                    <a:pt x="0" y="3070"/>
                  </a:lnTo>
                  <a:lnTo>
                    <a:pt x="4525" y="307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93960" y="4695840"/>
              <a:ext cx="524160" cy="867240"/>
            </a:xfrm>
            <a:custGeom>
              <a:avLst/>
              <a:gdLst/>
              <a:ahLst/>
              <a:rect l="0" t="0" r="r" b="b"/>
              <a:pathLst>
                <a:path w="1456" h="2409">
                  <a:moveTo>
                    <a:pt x="0" y="0"/>
                  </a:moveTo>
                  <a:lnTo>
                    <a:pt x="1456" y="0"/>
                  </a:lnTo>
                  <a:lnTo>
                    <a:pt x="1456" y="240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3002040" y="7147080"/>
              <a:ext cx="7524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171360" y="4438800"/>
              <a:ext cx="13557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na 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87880" y="4645080"/>
              <a:ext cx="7308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68800" y="3540240"/>
              <a:ext cx="7308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97440" y="4654440"/>
              <a:ext cx="7308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35280" y="4654440"/>
              <a:ext cx="7308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87880" y="5540400"/>
              <a:ext cx="7308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3241800" y="3076560"/>
              <a:ext cx="31428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4803840" y="4210200"/>
              <a:ext cx="4287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3289320" y="4676760"/>
              <a:ext cx="3906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5475240" y="5246640"/>
              <a:ext cx="6523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451240" y="4648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3270240" y="5305320"/>
              <a:ext cx="4856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3681360" y="2655720"/>
              <a:ext cx="2525760" cy="137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áklady za neposkytnuté služb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203040" y="7738920"/>
              <a:ext cx="367812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řekročení nákladů za poskytnuté služb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867120" y="3695760"/>
              <a:ext cx="380880" cy="419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905120" y="4933800"/>
              <a:ext cx="1218960" cy="2667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4092480" y="1698480"/>
              <a:ext cx="26272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Oates, W.E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14440" y="1581120"/>
            <a:ext cx="5829480" cy="65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H. Tiebout - hypoté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atesův decentralizační t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lypape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Woting with feet’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-2571840" y="533520"/>
            <a:ext cx="9267840" cy="11293920"/>
            <a:chOff x="-2571840" y="533520"/>
            <a:chExt cx="9267840" cy="11293920"/>
          </a:xfrm>
        </p:grpSpPr>
        <p:sp>
          <p:nvSpPr>
            <p:cNvPr id="181" name=""/>
            <p:cNvSpPr/>
            <p:nvPr/>
          </p:nvSpPr>
          <p:spPr>
            <a:xfrm>
              <a:off x="1554120" y="1154160"/>
              <a:ext cx="0" cy="6319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52680" y="7473960"/>
              <a:ext cx="46591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-2054160" y="6530760"/>
              <a:ext cx="4226760" cy="4674960"/>
            </a:xfrm>
            <a:custGeom>
              <a:avLst/>
              <a:gdLst/>
              <a:ahLst/>
              <a:rect l="0" t="0" r="r" b="b"/>
              <a:pathLst>
                <a:path fill="none" w="11741" h="12986">
                  <a:moveTo>
                    <a:pt x="11741" y="154"/>
                  </a:moveTo>
                  <a:lnTo>
                    <a:pt x="1" y="0"/>
                  </a:lnTo>
                  <a:lnTo>
                    <a:pt x="1" y="0"/>
                  </a:lnTo>
                  <a:cubicBezTo>
                    <a:pt x="0" y="52"/>
                    <a:pt x="0" y="103"/>
                    <a:pt x="0" y="155"/>
                  </a:cubicBezTo>
                  <a:cubicBezTo>
                    <a:pt x="0" y="2416"/>
                    <a:pt x="543" y="4638"/>
                    <a:pt x="1573" y="6596"/>
                  </a:cubicBezTo>
                  <a:cubicBezTo>
                    <a:pt x="2603" y="8554"/>
                    <a:pt x="4085" y="10180"/>
                    <a:pt x="5870" y="11310"/>
                  </a:cubicBezTo>
                  <a:cubicBezTo>
                    <a:pt x="7351" y="12249"/>
                    <a:pt x="9001" y="12821"/>
                    <a:pt x="10705" y="12986"/>
                  </a:cubicBezTo>
                </a:path>
              </a:pathLst>
            </a:custGeom>
            <a:ln w="25560">
              <a:solidFill>
                <a:srgbClr val="00cc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6840" y="4722840"/>
              <a:ext cx="2713320" cy="3234240"/>
            </a:xfrm>
            <a:custGeom>
              <a:avLst/>
              <a:gdLst/>
              <a:ahLst/>
              <a:rect l="0" t="0" r="r" b="b"/>
              <a:pathLst>
                <a:path fill="none" w="7537" h="8984">
                  <a:moveTo>
                    <a:pt x="7537" y="0"/>
                  </a:moveTo>
                  <a:lnTo>
                    <a:pt x="0" y="1065"/>
                  </a:lnTo>
                  <a:lnTo>
                    <a:pt x="0" y="1065"/>
                  </a:lnTo>
                  <a:cubicBezTo>
                    <a:pt x="122" y="2273"/>
                    <a:pt x="450" y="3439"/>
                    <a:pt x="963" y="4492"/>
                  </a:cubicBezTo>
                  <a:cubicBezTo>
                    <a:pt x="1630" y="5858"/>
                    <a:pt x="2588" y="6992"/>
                    <a:pt x="3742" y="7780"/>
                  </a:cubicBezTo>
                  <a:cubicBezTo>
                    <a:pt x="4896" y="8569"/>
                    <a:pt x="6205" y="8984"/>
                    <a:pt x="7537" y="8984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43680" y="4199040"/>
              <a:ext cx="2070000" cy="2711880"/>
            </a:xfrm>
            <a:custGeom>
              <a:avLst/>
              <a:gdLst/>
              <a:ahLst/>
              <a:rect l="0" t="0" r="r" b="b"/>
              <a:pathLst>
                <a:path fill="none" w="5750" h="7533">
                  <a:moveTo>
                    <a:pt x="5750" y="0"/>
                  </a:moveTo>
                  <a:lnTo>
                    <a:pt x="0" y="1072"/>
                  </a:lnTo>
                  <a:lnTo>
                    <a:pt x="0" y="1072"/>
                  </a:lnTo>
                  <a:cubicBezTo>
                    <a:pt x="105" y="2022"/>
                    <a:pt x="349" y="2936"/>
                    <a:pt x="719" y="3767"/>
                  </a:cubicBezTo>
                  <a:cubicBezTo>
                    <a:pt x="1229" y="4912"/>
                    <a:pt x="1962" y="5863"/>
                    <a:pt x="2845" y="6524"/>
                  </a:cubicBezTo>
                  <a:cubicBezTo>
                    <a:pt x="3728" y="7185"/>
                    <a:pt x="4730" y="7533"/>
                    <a:pt x="5750" y="7533"/>
                  </a:cubicBezTo>
                  <a:lnTo>
                    <a:pt x="5750" y="7533"/>
                  </a:lnTo>
                </a:path>
              </a:pathLst>
            </a:custGeom>
            <a:ln w="25560">
              <a:solidFill>
                <a:srgbClr val="00cc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-2571840" y="6761520"/>
              <a:ext cx="4325040" cy="5065920"/>
            </a:xfrm>
            <a:custGeom>
              <a:avLst/>
              <a:gdLst/>
              <a:ahLst/>
              <a:rect l="0" t="0" r="r" b="b"/>
              <a:pathLst>
                <a:path fill="none" w="12014" h="14072">
                  <a:moveTo>
                    <a:pt x="12014" y="517"/>
                  </a:moveTo>
                  <a:lnTo>
                    <a:pt x="9" y="0"/>
                  </a:lnTo>
                  <a:lnTo>
                    <a:pt x="9" y="0"/>
                  </a:lnTo>
                  <a:cubicBezTo>
                    <a:pt x="3" y="172"/>
                    <a:pt x="0" y="345"/>
                    <a:pt x="0" y="517"/>
                  </a:cubicBezTo>
                  <a:cubicBezTo>
                    <a:pt x="0" y="2897"/>
                    <a:pt x="555" y="5234"/>
                    <a:pt x="1610" y="7295"/>
                  </a:cubicBezTo>
                  <a:cubicBezTo>
                    <a:pt x="2664" y="9355"/>
                    <a:pt x="4181" y="11066"/>
                    <a:pt x="6007" y="12256"/>
                  </a:cubicBezTo>
                  <a:cubicBezTo>
                    <a:pt x="7818" y="13436"/>
                    <a:pt x="9870" y="14062"/>
                    <a:pt x="11961" y="14072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5648400" y="3878280"/>
              <a:ext cx="6573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 CE"/>
                  <a:ea typeface="Times New Roman CE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3324240" y="1401840"/>
              <a:ext cx="6573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 CE"/>
                  <a:ea typeface="Times New Roman CE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5724360" y="4468680"/>
              <a:ext cx="857160" cy="47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’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2619360" y="1459080"/>
              <a:ext cx="857160" cy="47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’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1495440" y="1649520"/>
              <a:ext cx="857160" cy="47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5772240" y="6716880"/>
              <a:ext cx="857160" cy="47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5762520" y="6145200"/>
              <a:ext cx="6573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 CE"/>
                  <a:ea typeface="Times New Roman CE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2066760" y="1620720"/>
              <a:ext cx="6573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 CE"/>
                  <a:ea typeface="Times New Roman CE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4809960" y="7432560"/>
              <a:ext cx="188604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čet oso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9360" y="839880"/>
              <a:ext cx="1571760" cy="88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áklady na osobu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162080" y="7288200"/>
              <a:ext cx="3618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476280" y="8172360"/>
              <a:ext cx="4191120" cy="86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Volba optimální velikosti pro danou úroveň služe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4724280" y="533520"/>
              <a:ext cx="19242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1. kro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lazar</dc:creator>
  <dc:description/>
  <dc:language>en-US</dc:language>
  <cp:lastModifiedBy>Klazar</cp:lastModifiedBy>
  <cp:revision>0</cp:revision>
  <dc:subject/>
  <dc:title>No Slide Title</dc:title>
</cp:coreProperties>
</file>