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14440" y="812880"/>
            <a:ext cx="582948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11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Rozpočtový deficit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1.1 Pojetí a typy rozpočtového defic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1.2 Různé interpretace rozpočtového defic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1.3 Důsledky odlišných způsobů krytí rozpočtového defic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1.4 Situace v ČR a v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Různé teoretické přístupy k deficitu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lasické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eynesiánská koncepce 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orie rozložení daňové distorze (R. Barro) - tax smo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orie mezigeneračního rozložení efektů a daňového bře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rovolnost dlu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6960" y="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Různé způsoby krytí rozpočtového defici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0040" y="1515960"/>
            <a:ext cx="591660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výšení veřejných příjmů zvýšením da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e státních finančních akt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rodeje státních nefinančních aktiv + z výnosů z privatiz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luhové financování deficitu (prodejem státních cenných papírů doma a v zahranič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misní financování (přímým úvěrem od CB anebo přímým nákupem státních dluhopisů CB od státu, což vede ke krytí deficitu úvěrovou emis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4440" y="993600"/>
            <a:ext cx="63421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(T -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-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) =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p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+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cb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+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f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c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f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680" y="6858000"/>
            <a:ext cx="63673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(T -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-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) = (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-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) + (IM - 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(T -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-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)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Symbol CE"/>
                <a:ea typeface="Symbol 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M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9000" y="5872320"/>
            <a:ext cx="666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hopnost domácí úvěrové absorbce deficitu: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93840" y="1728720"/>
            <a:ext cx="50846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16040" indent="-16160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 196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➔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v OEC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ficit mělo pouze 6 stá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3840" y="3778200"/>
            <a:ext cx="477684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16040" indent="-16160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 198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➔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ouze 2 státy 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☝</a:t>
            </a:r>
            <a:r>
              <a:rPr b="1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bez deficitu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54120" y="2120760"/>
            <a:ext cx="538200" cy="1622520"/>
            <a:chOff x="654120" y="2120760"/>
            <a:chExt cx="538200" cy="1622520"/>
          </a:xfrm>
        </p:grpSpPr>
        <p:sp>
          <p:nvSpPr>
            <p:cNvPr id="103" name=""/>
            <p:cNvSpPr/>
            <p:nvPr/>
          </p:nvSpPr>
          <p:spPr>
            <a:xfrm flipV="1">
              <a:off x="660240" y="2120760"/>
              <a:ext cx="532080" cy="820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120" y="2922480"/>
              <a:ext cx="531720" cy="820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73120" y="1628640"/>
            <a:ext cx="5683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79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A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ed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6 mld. U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86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04 mld. U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8% Fed. V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5240" y="2119320"/>
            <a:ext cx="561960" cy="588960"/>
            <a:chOff x="1065240" y="2119320"/>
            <a:chExt cx="561960" cy="588960"/>
          </a:xfrm>
        </p:grpSpPr>
        <p:sp>
          <p:nvSpPr>
            <p:cNvPr id="107" name=""/>
            <p:cNvSpPr/>
            <p:nvPr/>
          </p:nvSpPr>
          <p:spPr>
            <a:xfrm>
              <a:off x="1071720" y="2119320"/>
              <a:ext cx="0" cy="588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5240" y="2690640"/>
              <a:ext cx="561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65240" y="5122800"/>
            <a:ext cx="561960" cy="588960"/>
            <a:chOff x="1065240" y="5122800"/>
            <a:chExt cx="561960" cy="588960"/>
          </a:xfrm>
        </p:grpSpPr>
        <p:sp>
          <p:nvSpPr>
            <p:cNvPr id="110" name=""/>
            <p:cNvSpPr/>
            <p:nvPr/>
          </p:nvSpPr>
          <p:spPr>
            <a:xfrm>
              <a:off x="1071720" y="5122800"/>
              <a:ext cx="0" cy="588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5240" y="5694480"/>
              <a:ext cx="561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5240" y="3637080"/>
            <a:ext cx="561960" cy="588960"/>
            <a:chOff x="1065240" y="3637080"/>
            <a:chExt cx="561960" cy="588960"/>
          </a:xfrm>
        </p:grpSpPr>
        <p:sp>
          <p:nvSpPr>
            <p:cNvPr id="113" name=""/>
            <p:cNvSpPr/>
            <p:nvPr/>
          </p:nvSpPr>
          <p:spPr>
            <a:xfrm>
              <a:off x="1071720" y="3637080"/>
              <a:ext cx="0" cy="588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5240" y="4208400"/>
              <a:ext cx="561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Opravené Gramm-Rudmanovy plánované cí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8680" y="2638440"/>
            <a:ext cx="6351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Saldo SR ČR (mld. Kč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89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90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91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13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92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1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93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1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94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10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95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7,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96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1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97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1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42800" y="1311120"/>
            <a:ext cx="6232680" cy="56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1530360"/>
                <a:tab algn="l" pos="2568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ldo SR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úprava             upraven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v mld. Kč)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l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1530360"/>
                <a:tab algn="l" pos="2568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 r. 1995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 7,2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 9,3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2,1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z r. ‘93 a ‘9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1530360"/>
                <a:tab algn="l" pos="2568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 r. 1996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1,6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 1,8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3,4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z r. ‘9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1530360"/>
                <a:tab algn="l" pos="2568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 4,4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7,8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důch. pojištěn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1530360"/>
                <a:tab algn="l" pos="2568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 r. 1997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15,7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 4,4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vráceno)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+ 6,4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k povodní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960" y="5438880"/>
            <a:ext cx="0" cy="1500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30920" y="5448240"/>
            <a:ext cx="230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24520" y="6940440"/>
            <a:ext cx="137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57720" y="618480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276880" y="5915160"/>
            <a:ext cx="12002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17,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14440" y="1397160"/>
            <a:ext cx="5829480" cy="67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 = f ( Y - T -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 = G -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 = f ( Y - </a:t>
            </a:r>
            <a:r>
              <a:rPr b="1" lang="en-US" sz="3200" spc="-1" strike="noStrike">
                <a:solidFill>
                  <a:srgbClr val="00cc99"/>
                </a:solidFill>
                <a:latin typeface="Times New Roman CE"/>
                <a:ea typeface="Times New Roman CE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- G + </a:t>
            </a:r>
            <a:r>
              <a:rPr b="1" lang="en-US" sz="3200" spc="-1" strike="noStrike">
                <a:solidFill>
                  <a:srgbClr val="00cc99"/>
                </a:solidFill>
                <a:latin typeface="Times New Roman CE"/>
                <a:ea typeface="Times New Roman CE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 = f ( Y -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Tři situace ve vztahu mezi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čtovým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čtovými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 &gt; V ... přeby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 &lt; V ... schodek (defic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 = V ... vyrovnaný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Deficit = negativní vládní úspory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 = - (R - 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), k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⟨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rozpočtové pří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převážně daňové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 CE"/>
                <a:ea typeface="Times New Roman CE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⟨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vládní vý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expenditure governmen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14440" y="372960"/>
            <a:ext cx="5829480" cy="83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Různé pohledy na defici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①</a:t>
            </a: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tický (bilanční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ynamický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Různé typy defici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) aktivní (záměrný) - ex an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) pasivní (nechtěný) - ex post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Z technického hledisk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) celkový deficit (schodek)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➢</a:t>
            </a: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CD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⇦</a:t>
            </a: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(over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i) primární schodek (operativní)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➢</a:t>
            </a: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D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  <a:ea typeface="Times New Roman CE"/>
              </a:rPr>
              <a:t>CD = PD + úrok z veřejných dluh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rnbusch / Fisch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Příčiny vzniku pasivního deficitu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xogenní vlivy na straně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➢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⇦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➢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působ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íliš vysoké výda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íliš nízké příjm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8440" y="1860480"/>
            <a:ext cx="65739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Typy rozpočtového deficitu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9120" y="2676600"/>
            <a:ext cx="6305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28480" y="447840"/>
            <a:ext cx="193356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 = 0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⟧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 o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⟧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 o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71760" y="431640"/>
            <a:ext cx="255276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g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t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11040" y="6367320"/>
            <a:ext cx="34909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)   40 * 4     = 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 20 * (-3) = -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= 160 - 60 = 1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e deficit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720" y="3060720"/>
            <a:ext cx="502272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) rozpočto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) G = 100 + 40 = 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)  T = 100 + 20 = 1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)  D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) fiskáln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320" y="2460600"/>
            <a:ext cx="709308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lazar</dc:creator>
  <dc:description/>
  <dc:language>en-US</dc:language>
  <cp:lastModifiedBy>Klazar</cp:lastModifiedBy>
  <cp:revision>0</cp:revision>
  <dc:subject/>
  <dc:title>No Slide Title</dc:title>
</cp:coreProperties>
</file>