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20B-7353-423C-99DF-DFD288D7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97E-50DC-4A0A-AAD2-571CF503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10E-72DE-44E7-8169-A629177C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5CF-C898-4A50-8C26-AD962E85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724D-24B9-4B7F-A715-B39E406F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956A-F482-4774-BA57-1658FD00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868B-6D63-4FF0-A2E0-A27A35A7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75ED-D54E-4403-A1A8-C0F7E28E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D5C1-4B36-4AA4-8A2B-AEDF66FE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6738-24C9-44F3-A54F-BD4CE12D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5E75-884C-4D85-9A28-B038C9CA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FAC-0A3B-48AB-BEF9-191B8A0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61AD-3F93-44AC-9071-9E529631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861C-32BE-4319-80B2-7CA4B296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7AB6-413F-4190-9F8F-222DA842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D684-FD14-406B-A3AD-DB56B4AF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B31-F972-48EA-8B80-8B3FB20A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25B-C2D5-4AA4-BA80-0314EAF8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BD7-2826-467C-B73D-56B07730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A68-2239-4ACC-AF01-7A5F113B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C98-17B4-4E4E-AC52-06087DE9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322-908C-4DFE-ABB0-318B1257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862-38FB-413B-B979-D7902B5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66F-D66E-4C80-BEFF-D6D7727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6473-8E6B-40DF-8F66-68FA5580E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2165-723A-40B7-BDBA-D64CE7888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5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áklady daňové teorie</a:t>
            </a:r>
            <a:br>
              <a:rPr sz="3800"/>
            </a:b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 Účel zdaně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2 Základní daňové princip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3 Problémy daňové spravedl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Analýza dopadů daně s klouzavou progresí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3143160"/>
          <a:ext cx="6858000" cy="51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43160"/>
                    <a:ext cx="68580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694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ávěry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1397160"/>
            <a:ext cx="5829120" cy="721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gresivní zdaně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ČD = konstant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Z = klesá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azba = klesá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ární zdaně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ČD = rost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Z = konstant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azba = konstantní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esivní zdaně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ČD = rost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Z = rost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azba = rost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ouzavá progrese je mírnějš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080" y="3171600"/>
            <a:ext cx="1428840" cy="49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n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63920" y="2641680"/>
            <a:ext cx="412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istorz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orekč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ušální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LUMP-SUM TAX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914480" y="2955600"/>
            <a:ext cx="533520" cy="945000"/>
            <a:chOff x="1914480" y="2955600"/>
            <a:chExt cx="533520" cy="945000"/>
          </a:xfrm>
        </p:grpSpPr>
        <p:sp>
          <p:nvSpPr>
            <p:cNvPr id="87" name=""/>
            <p:cNvSpPr/>
            <p:nvPr/>
          </p:nvSpPr>
          <p:spPr>
            <a:xfrm>
              <a:off x="1914480" y="34322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928880" y="2955600"/>
              <a:ext cx="51912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22400" y="3438360"/>
              <a:ext cx="519120" cy="46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ové principy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dle A. Smitha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všeobecnost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platební schopnost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určitost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výhodnost úhrad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minimalizace nákladů na správu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57528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1238400"/>
            <a:ext cx="5829120" cy="688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avedln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ektivnost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z hlediska nákladů na správu da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z hlediska vlivu daní na chování ekonomických subjektů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rektn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ministrativní provediteln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ňová jisto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ová spravedlnost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zásady daňového zatíže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odle prospěchu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odle platební kapacit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principy daň. spravedlnosti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horizontál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vertikál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opady zdanění mohou být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gresiv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ár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esiv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4440" y="4500720"/>
            <a:ext cx="5829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o budeme posuzovat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4440" y="6103800"/>
            <a:ext cx="5829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ývoj daňové saz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částka da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íra zda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8120" y="566640"/>
            <a:ext cx="5829480" cy="17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Analýza dopadů paušální daně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3320" y="2409840"/>
          <a:ext cx="6754680" cy="44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2409840"/>
                    <a:ext cx="67546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480" y="6791400"/>
            <a:ext cx="6457680" cy="1321560"/>
            <a:chOff x="114480" y="6791400"/>
            <a:chExt cx="6457680" cy="1321560"/>
          </a:xfrm>
        </p:grpSpPr>
        <p:sp>
          <p:nvSpPr>
            <p:cNvPr id="104" name=""/>
            <p:cNvSpPr/>
            <p:nvPr/>
          </p:nvSpPr>
          <p:spPr>
            <a:xfrm>
              <a:off x="114480" y="7111800"/>
              <a:ext cx="2923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íra zdanění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87720" y="6791400"/>
              <a:ext cx="348444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aň (částka daně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ůcho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11560" y="7370640"/>
              <a:ext cx="320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Analýza dopadů jednotné procentní sazby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160" y="3097080"/>
          <a:ext cx="6819840" cy="437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3097080"/>
                    <a:ext cx="681984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Analýza dopadů daně se stupňovitou progresí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5400" y="3147840"/>
          <a:ext cx="7138800" cy="44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3147840"/>
                    <a:ext cx="713880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Klazar</dc:creator>
  <dc:description/>
  <dc:language>en-US</dc:language>
  <cp:lastModifiedBy>Petr Ježek</cp:lastModifiedBy>
  <cp:lastPrinted>1998-11-10T09:50:26Z</cp:lastPrinted>
  <dcterms:modified xsi:type="dcterms:W3CDTF">1999-04-07T13:54:12Z</dcterms:modified>
  <cp:revision>56</cp:revision>
  <dc:subject/>
  <dc:title>No Slide Title</dc:title>
</cp:coreProperties>
</file>