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6858000" cy="9144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CD3C-A0F6-48D1-BD0A-0AE042752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9E42-C41A-424A-965C-6CCA1022E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63DF-D5E3-454B-AA9B-BCC3243C1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A418-E7B4-4F5C-A14F-4FA16A52C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BFBE6-3F7F-4700-A8BC-EAD6E86FC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798BB-E297-4D01-A1A2-F909A681E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D10C4-28F4-44F6-A8C5-6C6574388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FB119-0156-4A4C-9012-3D76663EC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00039-E633-4077-BFAE-F8CBA0388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B5098-E2C5-432E-ADC9-03711F1FF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E2FC2-E3D7-471F-A1B6-4ACE1F53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9A6E-0442-4D45-8267-6FA5DFE20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38AD7-6319-4D08-B54B-04E90456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0E96D-21AD-4273-A299-FCD8EA1B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D1F2E-77DE-4716-8E55-B0A540C6A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BF85C-BA50-49E3-82D7-73288442E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6DAD0-6B81-4C9D-B874-5D1AB91F1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8CD3-38AB-4BAC-81D7-7CB01F0F7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F8D9-134F-4870-AF57-3B80E4A4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C823-369C-426B-B0D2-032063BC2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A699-56CD-49E4-BE99-34D9C4AED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0A79-D3E6-4344-ABDB-C1BA0BE0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6940-A2CB-4CB6-82D9-26BCC2CB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6B0D-3960-4602-9037-E855DEF1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Click to edit the title text format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60000"/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9CA5D-5E69-4A2F-B6FD-C4BAF01790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047760"/>
            <a:ext cx="57909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Click to edit the title text format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58FCF-F460-4612-AEDE-F3106F1C09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49"/>
              </a:spcBef>
              <a:buClr>
                <a:srgbClr val="000000"/>
              </a:buClr>
              <a:buSzPct val="60000"/>
              <a:buFont typeface="Monotype Sort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575"/>
              </a:spcBef>
              <a:buClr>
                <a:srgbClr val="000000"/>
              </a:buClr>
              <a:buSzPct val="60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10. téma: </a:t>
            </a:r>
            <a:br>
              <a:rPr sz="3800"/>
            </a:b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Fiskální politika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.1 Vymezení pojmu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.2 Fiskální expanze a restrikc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.3 Fiskální multiplikátor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.4 Účinnost fiskální politik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.5 Kritika fiskální politik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54080" y="458640"/>
            <a:ext cx="6521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ůchodová daň t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snížení důchodu y n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isponibilní důcho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1 - t</a:t>
            </a:r>
            <a:r>
              <a:rPr b="1" lang="en-US" sz="30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3840" y="1492200"/>
            <a:ext cx="6535800" cy="21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Např.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sazba důchodové daně = 20 %</a:t>
            </a:r>
            <a:br>
              <a:rPr sz="3000"/>
            </a:b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původní důchod = 100</a:t>
            </a:r>
            <a:br>
              <a:rPr sz="3000"/>
            </a:b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isponibilní důchod = (1 - 0,2) 100 = 8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412920" y="3876840"/>
                <a:ext cx="5540040" cy="47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 c = a + b 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 - t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y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       y =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- b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 + i + g</m:t>
                        </m:r>
                        <m:r>
                          <m:t xml:space="preserve">)</m:t>
                        </m:r>
                      </m:e>
                      <m:e/>
                      <m:e/>
                      <m:e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 y =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- b 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 - t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 + b + g</m:t>
                        </m:r>
                        <m:r>
                          <m:t xml:space="preserve">)</m:t>
                        </m:r>
                      </m:e>
                      <m:e/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y =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- b 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 - t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d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39492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Multiplikátor vyrovnaného rozpočtu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666720" y="2803680"/>
                <a:ext cx="2354400" cy="79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y =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 - b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d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196920" y="1989000"/>
            <a:ext cx="304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d paušální daň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666720" y="4511520"/>
                <a:ext cx="2282760" cy="7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y = 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 - b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903240" y="3821040"/>
            <a:ext cx="4199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ýdajový multipliká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03240" y="5418000"/>
            <a:ext cx="4199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aňový demultipliká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603360" y="6657840"/>
                <a:ext cx="4537080" cy="14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dg = dt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dy =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- b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dg - 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- b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d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1457280" y="4444920"/>
            <a:ext cx="27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 CE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Multiplikátor vyrovnaného rozpočtu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1680" y="2489040"/>
            <a:ext cx="304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d paušální daň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571680" y="3537000"/>
                <a:ext cx="5045040" cy="38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dy =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- b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dg - 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- b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dg</m:t>
                        </m:r>
                      </m:e>
                      <m:e/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dy =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 - 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- b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dg</m:t>
                        </m:r>
                      </m:e>
                      <m:e/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dy =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 - 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- b 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 - t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dg </m:t>
                        </m:r>
                        <m:r>
                          <m:t xml:space="preserve">á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14440" y="523080"/>
            <a:ext cx="582912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533520" y="1700280"/>
            <a:ext cx="5476680" cy="6235920"/>
            <a:chOff x="533520" y="1700280"/>
            <a:chExt cx="5476680" cy="6235920"/>
          </a:xfrm>
        </p:grpSpPr>
        <p:sp>
          <p:nvSpPr>
            <p:cNvPr id="143" name=""/>
            <p:cNvSpPr/>
            <p:nvPr/>
          </p:nvSpPr>
          <p:spPr>
            <a:xfrm>
              <a:off x="1023840" y="1981080"/>
              <a:ext cx="0" cy="5453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23840" y="7429680"/>
              <a:ext cx="4667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1738440" y="2883960"/>
              <a:ext cx="3786120" cy="2878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86120" y="2533680"/>
              <a:ext cx="1571760" cy="3833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76520" y="3176640"/>
              <a:ext cx="1571400" cy="3833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076640" y="1947960"/>
              <a:ext cx="1571760" cy="3833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95520" y="5186520"/>
              <a:ext cx="0" cy="22478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714920" y="3510000"/>
              <a:ext cx="0" cy="39243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629160" y="4338720"/>
              <a:ext cx="0" cy="30956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019160" y="5186520"/>
              <a:ext cx="14860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1019160" y="4329000"/>
              <a:ext cx="26100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1019160" y="3500280"/>
              <a:ext cx="369576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533680" y="5014800"/>
              <a:ext cx="657360" cy="6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629160" y="4148280"/>
              <a:ext cx="6570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791240" y="3319560"/>
              <a:ext cx="657000" cy="6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47720" y="2890800"/>
              <a:ext cx="72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IS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019400" y="1700280"/>
              <a:ext cx="847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S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800440" y="2243160"/>
              <a:ext cx="72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38560" y="2352600"/>
              <a:ext cx="790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L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52640" y="3862440"/>
              <a:ext cx="809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3676320" y="2967120"/>
              <a:ext cx="809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828800" y="3757680"/>
              <a:ext cx="11048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exp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495600" y="2900520"/>
              <a:ext cx="1285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restr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33520" y="3243240"/>
              <a:ext cx="57132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33520" y="4929120"/>
              <a:ext cx="57132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04800" y="4071960"/>
              <a:ext cx="4287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33240" y="1700280"/>
              <a:ext cx="42876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47640" y="7338960"/>
              <a:ext cx="399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181240" y="7358040"/>
              <a:ext cx="62856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390920" y="7358040"/>
              <a:ext cx="62892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314880" y="7358040"/>
              <a:ext cx="628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81640" y="7319880"/>
              <a:ext cx="62856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14440" y="523080"/>
            <a:ext cx="582912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19240" y="1700280"/>
            <a:ext cx="5790960" cy="6453000"/>
            <a:chOff x="219240" y="1700280"/>
            <a:chExt cx="5790960" cy="6453000"/>
          </a:xfrm>
        </p:grpSpPr>
        <p:sp>
          <p:nvSpPr>
            <p:cNvPr id="177" name=""/>
            <p:cNvSpPr/>
            <p:nvPr/>
          </p:nvSpPr>
          <p:spPr>
            <a:xfrm>
              <a:off x="1023840" y="1981080"/>
              <a:ext cx="0" cy="5453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023840" y="7429680"/>
              <a:ext cx="4667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90560" y="2714760"/>
              <a:ext cx="1266840" cy="4376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195880" y="3100320"/>
              <a:ext cx="790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L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33240" y="1700280"/>
              <a:ext cx="42876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7640" y="7338960"/>
              <a:ext cx="399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981080" y="7329600"/>
              <a:ext cx="62892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14680" y="7329600"/>
              <a:ext cx="62856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81640" y="7319880"/>
              <a:ext cx="62856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2314440" y="1787040"/>
              <a:ext cx="2702160" cy="5156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1452600" y="3071520"/>
              <a:ext cx="3929040" cy="2476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230640" y="1969920"/>
              <a:ext cx="1266840" cy="4376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016600" y="1739880"/>
              <a:ext cx="9810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LM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24280" y="3908520"/>
              <a:ext cx="64944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336760" y="4838760"/>
              <a:ext cx="64944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1019160" y="4052880"/>
              <a:ext cx="27986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828960" y="4048200"/>
              <a:ext cx="0" cy="338148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1019160" y="4991040"/>
              <a:ext cx="13240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343240" y="4991040"/>
              <a:ext cx="0" cy="24386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1018800" y="6200640"/>
              <a:ext cx="16765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95680" y="6200640"/>
              <a:ext cx="0" cy="12290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51040" y="5981760"/>
              <a:ext cx="64944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419200" y="7329600"/>
              <a:ext cx="62892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23800" y="3795840"/>
              <a:ext cx="62856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23800" y="5938920"/>
              <a:ext cx="62856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23800" y="4729320"/>
              <a:ext cx="62856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33520" y="7981920"/>
              <a:ext cx="1495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333520" y="790560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3828960" y="790560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067200" y="7981920"/>
              <a:ext cx="0" cy="1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541440" y="4071960"/>
              <a:ext cx="0" cy="214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541080" y="4071960"/>
              <a:ext cx="9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541080" y="6219720"/>
              <a:ext cx="9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257040" y="5126040"/>
              <a:ext cx="28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360360" y="4080960"/>
              <a:ext cx="0" cy="90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360360" y="40813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360360" y="499104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219240" y="4527720"/>
              <a:ext cx="141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 u="sng">
                <a:solidFill>
                  <a:srgbClr val="000000"/>
                </a:solidFill>
                <a:uFillTx/>
                <a:latin typeface="Times New Roman"/>
              </a:rPr>
              <a:t>Crowding - out effect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31240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MONETARISTÉ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KEYNESIÁNCI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247640" y="2838240"/>
            <a:ext cx="2248200" cy="528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úplné a neúplné vytlačování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19440" y="2457360"/>
            <a:ext cx="552600" cy="23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 u="sng">
                <a:solidFill>
                  <a:srgbClr val="000000"/>
                </a:solidFill>
                <a:uFillTx/>
                <a:latin typeface="Times New Roman"/>
              </a:rPr>
              <a:t>Crowding-out effect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219320" y="2476440"/>
            <a:ext cx="0" cy="524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19320" y="7724880"/>
            <a:ext cx="4286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009880" y="4182480"/>
            <a:ext cx="2761920" cy="2144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87" y="11328"/>
                </a:moveTo>
                <a:arcTo wR="10800" hR="10800" stAng="168072" swAng="4212615"/>
                <a:lnTo>
                  <a:pt x="10800" y="10800"/>
                </a:lnTo>
                <a:close/>
              </a:path>
              <a:path fill="none" w="21600" h="21600">
                <a:moveTo>
                  <a:pt x="21587" y="11328"/>
                </a:moveTo>
                <a:arcTo wR="10800" hR="10800" stAng="168072" swAng="4212615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755360" y="6267600"/>
            <a:ext cx="2035080" cy="466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4768920" y="3146400"/>
            <a:ext cx="133200" cy="2168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2911320" y="2644560"/>
            <a:ext cx="0" cy="5079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10800000">
            <a:off x="2106720" y="1944720"/>
            <a:ext cx="5638680" cy="5314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26" y="10"/>
                </a:moveTo>
                <a:arcTo wR="10800" hR="10800" stAng="-5550975" swAng="4439218"/>
                <a:lnTo>
                  <a:pt x="10800" y="10800"/>
                </a:lnTo>
                <a:close/>
              </a:path>
              <a:path fill="none" w="21600" h="21600">
                <a:moveTo>
                  <a:pt x="10326" y="10"/>
                </a:moveTo>
                <a:arcTo wR="10800" hR="10800" stAng="-5550975" swAng="4439218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10800000">
            <a:off x="2450160" y="1363680"/>
            <a:ext cx="5636880" cy="5314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4" y="0"/>
                </a:moveTo>
                <a:arcTo wR="10800" hR="10800" stAng="-5401935" swAng="4665070"/>
                <a:lnTo>
                  <a:pt x="10800" y="10800"/>
                </a:lnTo>
                <a:close/>
              </a:path>
              <a:path fill="none" w="21600" h="21600">
                <a:moveTo>
                  <a:pt x="10794" y="0"/>
                </a:moveTo>
                <a:arcTo wR="10800" hR="10800" stAng="-5401935" swAng="4665070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390680" y="6620040"/>
            <a:ext cx="752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753080" y="2647800"/>
            <a:ext cx="752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505240" y="2381400"/>
            <a:ext cx="419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066760" y="4114800"/>
            <a:ext cx="857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76920" y="6181560"/>
            <a:ext cx="857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734000" y="6800760"/>
            <a:ext cx="857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762200" y="4981680"/>
            <a:ext cx="857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23960" y="5219640"/>
            <a:ext cx="5428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23960" y="6105600"/>
            <a:ext cx="5428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114880" y="7648560"/>
            <a:ext cx="676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90560" y="2247840"/>
            <a:ext cx="54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524400" y="5676840"/>
            <a:ext cx="61884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800440" y="5952960"/>
            <a:ext cx="6192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933640" y="5111640"/>
            <a:ext cx="6192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1209600" y="6467400"/>
            <a:ext cx="17049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1218960" y="5495760"/>
            <a:ext cx="169524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rot="4401600">
            <a:off x="3495240" y="6200280"/>
            <a:ext cx="238320" cy="2383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rot="19203000">
            <a:off x="2904840" y="5495400"/>
            <a:ext cx="237960" cy="2383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14440" y="585000"/>
            <a:ext cx="582912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876240" y="478080"/>
            <a:ext cx="7364160" cy="6891480"/>
            <a:chOff x="876240" y="478080"/>
            <a:chExt cx="7364160" cy="6891480"/>
          </a:xfrm>
        </p:grpSpPr>
        <p:sp>
          <p:nvSpPr>
            <p:cNvPr id="248" name=""/>
            <p:cNvSpPr/>
            <p:nvPr/>
          </p:nvSpPr>
          <p:spPr>
            <a:xfrm>
              <a:off x="1371600" y="1590840"/>
              <a:ext cx="0" cy="524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371600" y="6838920"/>
              <a:ext cx="4286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05280" y="3068640"/>
              <a:ext cx="2761920" cy="2143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87" y="11328"/>
                  </a:moveTo>
                  <a:arcTo wR="10800" hR="10800" stAng="168072" swAng="421261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87" y="11328"/>
                  </a:moveTo>
                  <a:arcTo wR="10800" hR="10800" stAng="168072" swAng="4212615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1850760" y="5153040"/>
              <a:ext cx="2035080" cy="46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4863960" y="2031840"/>
              <a:ext cx="133560" cy="2168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4264200" y="1758600"/>
              <a:ext cx="0" cy="5079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10800000">
              <a:off x="2259360" y="1058760"/>
              <a:ext cx="5638680" cy="531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326" y="10"/>
                  </a:moveTo>
                  <a:arcTo wR="10800" hR="10800" stAng="-5550975" swAng="443921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326" y="10"/>
                  </a:moveTo>
                  <a:arcTo wR="10800" hR="10800" stAng="-5550975" swAng="4439218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10800000">
              <a:off x="2602800" y="477720"/>
              <a:ext cx="5637600" cy="531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35" swAng="46650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35" swAng="466507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666960" y="5191200"/>
              <a:ext cx="0" cy="164772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895480" y="5381640"/>
              <a:ext cx="0" cy="145728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1371240" y="5381640"/>
              <a:ext cx="15238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1371600" y="5191200"/>
              <a:ext cx="229536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542960" y="5600880"/>
              <a:ext cx="752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905360" y="1762200"/>
              <a:ext cx="752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238640" y="1495440"/>
              <a:ext cx="419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19400" y="3228840"/>
              <a:ext cx="8571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AD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29200" y="5295960"/>
              <a:ext cx="8571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AD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886280" y="5915160"/>
              <a:ext cx="8571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914480" y="4095720"/>
              <a:ext cx="8571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76240" y="4791240"/>
              <a:ext cx="54288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76240" y="5219640"/>
              <a:ext cx="54288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562120" y="6791400"/>
              <a:ext cx="67644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333600" y="6791400"/>
              <a:ext cx="67644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267160" y="6762600"/>
              <a:ext cx="6764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942840" y="1362240"/>
              <a:ext cx="54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429000" y="4657680"/>
              <a:ext cx="61920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400480" y="5391000"/>
              <a:ext cx="61884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12480" y="447840"/>
            <a:ext cx="3058920" cy="12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iskální politika</a:t>
            </a:r>
            <a:br>
              <a:rPr sz="3000"/>
            </a:b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fiskal policy)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75160" y="343080"/>
            <a:ext cx="291456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ozpočtová pol.</a:t>
            </a:r>
            <a:br>
              <a:rPr sz="3000"/>
            </a:b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budgetary policy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1480" y="673200"/>
            <a:ext cx="5619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7840" y="1976400"/>
            <a:ext cx="54259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 CE"/>
              </a:rPr>
              <a:t>Protože mají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 CE"/>
              </a:rPr>
              <a:t>odlišné cí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 CE"/>
              </a:rPr>
              <a:t>odlišné subje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 CE"/>
              </a:rPr>
              <a:t>odlišnou teoretickou argumenta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7720" y="4603680"/>
            <a:ext cx="5527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 CE"/>
              </a:rPr>
              <a:t>Příkla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 CE"/>
              </a:rPr>
              <a:t>Vláda navrhuje 5 letý veřejný výdajový program na výstavbu tzv. sociálních bytů v cca objemu 100 mld. Kč. Jak byste zhodnotily tento progra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 CE"/>
              </a:rPr>
              <a:t>a) jako alokač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 CE"/>
              </a:rPr>
              <a:t>b) jako redistribuč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 CE"/>
              </a:rPr>
              <a:t>c) jako stimulační (nastartování ek. růst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225440" y="276120"/>
            <a:ext cx="4341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typy fiskální politi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5760" y="2017800"/>
            <a:ext cx="21207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skální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XPANZ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11520" y="2003400"/>
            <a:ext cx="25448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skální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ESTRIK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33200" y="4567320"/>
            <a:ext cx="6691320" cy="2945520"/>
            <a:chOff x="133200" y="4567320"/>
            <a:chExt cx="6691320" cy="2945520"/>
          </a:xfrm>
        </p:grpSpPr>
        <p:sp>
          <p:nvSpPr>
            <p:cNvPr id="93" name=""/>
            <p:cNvSpPr/>
            <p:nvPr/>
          </p:nvSpPr>
          <p:spPr>
            <a:xfrm>
              <a:off x="133200" y="4567320"/>
              <a:ext cx="2035440" cy="20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spcBef>
                  <a:spcPts val="20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přím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20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nepřím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54280" y="4567320"/>
              <a:ext cx="4170240" cy="294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ůstem vládních výdajů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zvýšením soukromé spotřeby v důsledku snížení daní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832040" y="4856040"/>
              <a:ext cx="750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120760" y="6299280"/>
              <a:ext cx="433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2499840" y="1008000"/>
            <a:ext cx="586080" cy="857160"/>
            <a:chOff x="2499840" y="1008000"/>
            <a:chExt cx="586080" cy="857160"/>
          </a:xfrm>
        </p:grpSpPr>
        <p:sp>
          <p:nvSpPr>
            <p:cNvPr id="98" name=""/>
            <p:cNvSpPr/>
            <p:nvPr/>
          </p:nvSpPr>
          <p:spPr>
            <a:xfrm>
              <a:off x="3085920" y="1008000"/>
              <a:ext cx="0" cy="857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2499840" y="1865160"/>
              <a:ext cx="585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3386160" y="1008000"/>
            <a:ext cx="585720" cy="857160"/>
            <a:chOff x="3386160" y="1008000"/>
            <a:chExt cx="585720" cy="857160"/>
          </a:xfrm>
        </p:grpSpPr>
        <p:sp>
          <p:nvSpPr>
            <p:cNvPr id="101" name=""/>
            <p:cNvSpPr/>
            <p:nvPr/>
          </p:nvSpPr>
          <p:spPr>
            <a:xfrm>
              <a:off x="3386160" y="1008000"/>
              <a:ext cx="0" cy="857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386160" y="1865160"/>
              <a:ext cx="585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549360" y="3981600"/>
            <a:ext cx="526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 CE"/>
              </a:rPr>
              <a:t>ad fiskální expan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7452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Fiskální politika odlišuje: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14440" y="1260000"/>
            <a:ext cx="582912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výdaje od transferů (G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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r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uvažuje tzv. čisté daně (t - Tr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8240" y="2668680"/>
            <a:ext cx="2141280" cy="29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apř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 = 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G = 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z toho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r = 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90840" y="3041640"/>
            <a:ext cx="4095720" cy="38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1616040"/>
                <a:tab algn="l" pos="3232080"/>
                <a:tab algn="l" pos="4848120"/>
                <a:tab algn="l" pos="6464160"/>
                <a:tab algn="l" pos="8080200"/>
                <a:tab algn="l" pos="96966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a) ROZPOČTOVĚ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1616040"/>
                <a:tab algn="l" pos="3232080"/>
                <a:tab algn="l" pos="4848120"/>
                <a:tab algn="l" pos="6464160"/>
                <a:tab algn="l" pos="8080200"/>
                <a:tab algn="l" pos="96966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říjmy = 100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výdaje = 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1616040"/>
                <a:tab algn="l" pos="3232080"/>
                <a:tab algn="l" pos="4848120"/>
                <a:tab algn="l" pos="6464160"/>
                <a:tab algn="l" pos="8080200"/>
                <a:tab algn="l" pos="96966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b) FISKÁLNĚ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1616040"/>
                <a:tab algn="l" pos="3232080"/>
                <a:tab algn="l" pos="4848120"/>
                <a:tab algn="l" pos="6464160"/>
                <a:tab algn="l" pos="8080200"/>
                <a:tab algn="l" pos="96966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čisté daně = t - Tr 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= 100 - 30 = 70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výdaje = G= 50 + 20 = 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69720" y="7410600"/>
            <a:ext cx="5829480" cy="1244160"/>
            <a:chOff x="369720" y="7410600"/>
            <a:chExt cx="5829480" cy="1244160"/>
          </a:xfrm>
        </p:grpSpPr>
        <p:sp>
          <p:nvSpPr>
            <p:cNvPr id="109" name=""/>
            <p:cNvSpPr/>
            <p:nvPr/>
          </p:nvSpPr>
          <p:spPr>
            <a:xfrm>
              <a:off x="369720" y="7410600"/>
              <a:ext cx="3621240" cy="124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váha G na y = 7 %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váha C na y = 60 %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265640" y="7753320"/>
              <a:ext cx="193356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v r. 1992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3668760" y="7678800"/>
              <a:ext cx="684000" cy="699840"/>
              <a:chOff x="3668760" y="7678800"/>
              <a:chExt cx="684000" cy="699840"/>
            </a:xfrm>
          </p:grpSpPr>
          <p:sp>
            <p:nvSpPr>
              <p:cNvPr id="112" name=""/>
              <p:cNvSpPr/>
              <p:nvPr/>
            </p:nvSpPr>
            <p:spPr>
              <a:xfrm>
                <a:off x="3675240" y="7678800"/>
                <a:ext cx="677520" cy="360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3668760" y="8018280"/>
                <a:ext cx="677880" cy="360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1635120"/>
            <a:ext cx="6324480" cy="293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 u="sng">
                <a:solidFill>
                  <a:srgbClr val="000000"/>
                </a:solidFill>
                <a:uFillTx/>
                <a:latin typeface="Times New Roman"/>
              </a:rPr>
              <a:t>Ricardiánská ekvivalence</a:t>
            </a:r>
            <a:br>
              <a:rPr sz="4400"/>
            </a:br>
            <a:br>
              <a:rPr sz="4400"/>
            </a:br>
            <a:r>
              <a:rPr b="1" lang="cs-CZ" sz="4400" spc="-1" strike="noStrike" u="sng">
                <a:solidFill>
                  <a:srgbClr val="000000"/>
                </a:solidFill>
                <a:uFillTx/>
                <a:latin typeface="Times New Roman"/>
              </a:rPr>
              <a:t>(R. Barro)</a:t>
            </a:r>
            <a:endParaRPr b="1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990720" y="5181480"/>
            <a:ext cx="48765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528120" y="765000"/>
            <a:ext cx="58294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 typy fiskálních opatření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jednorázová rozhodnutí</a:t>
            </a: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diskreční opatření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louhodobá opatření</a:t>
            </a: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vestavěné stabilizátory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3 typy Fiskálních multiplikátorů: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výdajov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aňový demultiplikáto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multiplikátor vyrovnaného rozpočtu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14440" y="14580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Výdajový multiplikátor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642960" y="1768320"/>
                <a:ext cx="4738680" cy="408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y = c + i + g</m:t>
                        </m:r>
                      </m:e>
                      <m:e/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c = a + by</m:t>
                        </m:r>
                      </m:e>
                      <m:e/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y =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- b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 + i + g</m:t>
                        </m:r>
                        <m:r>
                          <m:t xml:space="preserve">)</m:t>
                        </m:r>
                      </m:e>
                      <m:e/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dy =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- b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d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500040" y="6369120"/>
            <a:ext cx="5324400" cy="12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ro: b = 0,7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výdajový multiplikátor = 4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14440" y="5040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 u="sng">
                <a:solidFill>
                  <a:srgbClr val="000000"/>
                </a:solidFill>
                <a:uFillTx/>
                <a:latin typeface="Times New Roman"/>
              </a:rPr>
              <a:t>Daňový demultiplikátor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14440" y="1357200"/>
            <a:ext cx="5829120" cy="13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autonomní dan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indukované dan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88960" y="3160800"/>
                <a:ext cx="5362560" cy="38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       c = a + b 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 - t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/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y = c + i + g</m:t>
                        </m:r>
                      </m:e>
                      <m:e/>
                      <m:e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y =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- b</m:t>
                            </m:r>
                          </m:den>
                        </m:f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 + i + g - bt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/>
                      <m:e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dy = - 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- b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dt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500040" y="7321680"/>
            <a:ext cx="5324400" cy="12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pro: b = 0,7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aňový demultiplikátor = 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520" y="2619360"/>
            <a:ext cx="6334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ušální daň = autonomní zdaně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4T20:16:34Z</dcterms:created>
  <dc:creator>Klazar</dc:creator>
  <dc:description/>
  <dc:language>en-US</dc:language>
  <cp:lastModifiedBy>KVF</cp:lastModifiedBy>
  <cp:lastPrinted>1998-11-30T12:58:14Z</cp:lastPrinted>
  <dcterms:modified xsi:type="dcterms:W3CDTF">1998-12-01T12:44:40Z</dcterms:modified>
  <cp:revision>57</cp:revision>
  <dc:subject/>
  <dc:title>No Slide Title</dc:title>
</cp:coreProperties>
</file>