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BF4-E27D-4AA1-9BE8-A5291D2B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DA3-92A5-4ED6-BFDA-BDED6B5A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27A-C9D3-46A0-95BD-5CC0EB50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B43-27B9-4E7C-9712-E160FFBE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FB7-BEF5-4012-B143-3E37BEEC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ABF-DF3C-4DB1-8237-3CC360E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E15-A6D1-4791-BC8E-032BA145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576-1622-4B6C-9AD3-69DBC506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BC2-F4DE-4E2E-8FF1-E46F1915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FDE-E0EF-4BE6-BD40-9DB456A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0BE-7C0D-46AD-A217-FE0ED91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3B8-18A7-4FDA-B32B-C0B97C4C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6639-0CE6-43DC-8DDD-56FABD36D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ázk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j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o musí daň plat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čeho je daň vyměřen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é výše daň dosahu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se daň vyměř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kdy se musí daň zaplat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kt da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daňový poplatní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látce da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edmět da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še daně, daňové s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ňový kalendá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2:47:36Z</dcterms:created>
  <dc:creator>KVF</dc:creator>
  <dc:description/>
  <dc:language>en-US</dc:language>
  <cp:lastModifiedBy>KVF</cp:lastModifiedBy>
  <dcterms:modified xsi:type="dcterms:W3CDTF">1998-11-03T08:58:52Z</dcterms:modified>
  <cp:revision>2</cp:revision>
  <dc:subject/>
  <dc:title>Otázky   Pojmy</dc:title>
</cp:coreProperties>
</file>