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02C-DF68-43D1-B5E5-279890E2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A66-C5F7-4118-949D-FEB8E791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FB5-1BA8-4196-8D04-D678E21E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B98-D2AA-4DEB-9550-5BC00A2E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C7B6-F606-4686-B6A0-02BC1A83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0CF0-97FC-4A2D-A3D8-C2A3A860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40C1-BA49-4199-BF5F-82A20B85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DA3A-8F5C-42F8-9CCD-2D6D1D07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FB3C-BA0D-4822-BD55-AB7F56C2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E9C6-9330-4082-8FA2-FCF6BF87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EC50-8105-4E3C-9260-F9C4E164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173-D852-49AA-B9FF-00BC0D92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F5E8-B453-4BC6-82A8-64473556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30F8-DE6F-41E4-BF13-3D411D5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2EFB-C40A-4D56-9111-D5F456E7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6F03-7BFA-4851-AF85-0FB37AA1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8059-8EEB-41A5-8FE0-66148BB6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011-8FDD-45CF-8233-2291E8FA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C41-B6BF-4A2C-8C3E-8647BF99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F58-4C89-426E-AE14-19B047AE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E20-626A-4F71-A576-32E68B36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B60-0332-4480-AB41-7E8CD3C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621-79FE-4C01-9806-78ADF14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3FF-2F89-4ED4-9764-6617B3C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91EB-B8A3-4CB9-A89C-9E1A7CB3E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530D-6806-492C-8C5F-AD9C5C10A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6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Mikroekonomické důsledky zdanění</a:t>
            </a:r>
            <a:br>
              <a:rPr sz="3800"/>
            </a:b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1 Daňové břemeno a mrtvá ztrá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 Důchodový a substituční efekt da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3 Daňový dopad a přesu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000" y="3274920"/>
            <a:ext cx="494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           podíl spotřebit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000" y="3881520"/>
            <a:ext cx="4516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             podíl výrob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5040" y="3865680"/>
            <a:ext cx="763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74920" y="3865680"/>
            <a:ext cx="336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20880" y="3576600"/>
            <a:ext cx="32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5640" y="5048280"/>
            <a:ext cx="603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zv. daňové pravidlo RAMS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07880" y="1908000"/>
            <a:ext cx="5848560" cy="5236200"/>
            <a:chOff x="407880" y="1908000"/>
            <a:chExt cx="5848560" cy="5236200"/>
          </a:xfrm>
        </p:grpSpPr>
        <p:sp>
          <p:nvSpPr>
            <p:cNvPr id="322" name=""/>
            <p:cNvSpPr/>
            <p:nvPr/>
          </p:nvSpPr>
          <p:spPr>
            <a:xfrm>
              <a:off x="1465200" y="2103480"/>
              <a:ext cx="0" cy="447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65200" y="6581880"/>
              <a:ext cx="4705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65200" y="4778280"/>
              <a:ext cx="4487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951200" y="2669760"/>
              <a:ext cx="3324240" cy="27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579760" y="3107880"/>
              <a:ext cx="3324240" cy="27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03600" y="4765680"/>
              <a:ext cx="0" cy="1819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75040" y="4765680"/>
              <a:ext cx="0" cy="1819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94480" y="4765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7880" y="4470480"/>
              <a:ext cx="10861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89160" y="4270320"/>
              <a:ext cx="6382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79680" y="4270320"/>
              <a:ext cx="6382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08400" y="6566040"/>
              <a:ext cx="6667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60760" y="6566040"/>
              <a:ext cx="6667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36960" y="2174760"/>
              <a:ext cx="5716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70480" y="2708280"/>
              <a:ext cx="5716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46160" y="1908000"/>
              <a:ext cx="314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8160" y="6141960"/>
              <a:ext cx="54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03440" y="4756320"/>
              <a:ext cx="1209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89680" y="6546960"/>
              <a:ext cx="266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60640" y="6546960"/>
              <a:ext cx="285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57360" y="861840"/>
            <a:ext cx="5581440" cy="6275880"/>
            <a:chOff x="657360" y="861840"/>
            <a:chExt cx="5581440" cy="6275880"/>
          </a:xfrm>
        </p:grpSpPr>
        <p:sp>
          <p:nvSpPr>
            <p:cNvPr id="344" name=""/>
            <p:cNvSpPr/>
            <p:nvPr/>
          </p:nvSpPr>
          <p:spPr>
            <a:xfrm>
              <a:off x="1190520" y="1041480"/>
              <a:ext cx="0" cy="55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90520" y="6595920"/>
              <a:ext cx="481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341520" y="1531440"/>
              <a:ext cx="0" cy="506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876320" y="1644480"/>
              <a:ext cx="3381480" cy="281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905120" y="2825640"/>
              <a:ext cx="3381120" cy="281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1190520" y="4435560"/>
              <a:ext cx="2152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190520" y="3244680"/>
              <a:ext cx="2152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7360" y="4140360"/>
              <a:ext cx="609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7360" y="2959200"/>
              <a:ext cx="609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95800" y="2854440"/>
              <a:ext cx="5526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48280" y="1673280"/>
              <a:ext cx="5526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28840" y="3168720"/>
              <a:ext cx="7239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19480" y="4397400"/>
              <a:ext cx="7239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33640" y="124776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9040" y="86184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67080" y="3740040"/>
              <a:ext cx="1028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TA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7160" y="650232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47800" y="6559560"/>
              <a:ext cx="14576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34080" y="6599160"/>
              <a:ext cx="504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19320" y="3568680"/>
              <a:ext cx="39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81040" y="-7632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01600" y="646200"/>
            <a:ext cx="6481800" cy="8223120"/>
            <a:chOff x="201600" y="646200"/>
            <a:chExt cx="6481800" cy="8223120"/>
          </a:xfrm>
        </p:grpSpPr>
        <p:grpSp>
          <p:nvGrpSpPr>
            <p:cNvPr id="366" name=""/>
            <p:cNvGrpSpPr/>
            <p:nvPr/>
          </p:nvGrpSpPr>
          <p:grpSpPr>
            <a:xfrm>
              <a:off x="398520" y="2597040"/>
              <a:ext cx="5495760" cy="6272280"/>
              <a:chOff x="398520" y="2597040"/>
              <a:chExt cx="5495760" cy="6272280"/>
            </a:xfrm>
          </p:grpSpPr>
          <p:sp>
            <p:nvSpPr>
              <p:cNvPr id="367" name=""/>
              <p:cNvSpPr/>
              <p:nvPr/>
            </p:nvSpPr>
            <p:spPr>
              <a:xfrm>
                <a:off x="917640" y="2711520"/>
                <a:ext cx="0" cy="558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03240" y="8296200"/>
                <a:ext cx="4862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81120" y="3533760"/>
                <a:ext cx="3989520" cy="2901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2484360" y="2882520"/>
                <a:ext cx="1828800" cy="414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912960" y="4807080"/>
                <a:ext cx="2428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912600" y="5826240"/>
                <a:ext cx="3809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22800" y="4797360"/>
                <a:ext cx="0" cy="349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32200" y="5816520"/>
                <a:ext cx="0" cy="247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22800" y="4807080"/>
                <a:ext cx="458640" cy="1020600"/>
              </a:xfrm>
              <a:custGeom>
                <a:avLst/>
                <a:gdLst/>
                <a:ahLst/>
                <a:rect l="l" t="t" r="r" b="b"/>
                <a:pathLst>
                  <a:path w="289" h="643">
                    <a:moveTo>
                      <a:pt x="0" y="0"/>
                    </a:moveTo>
                    <a:lnTo>
                      <a:pt x="0" y="642"/>
                    </a:lnTo>
                    <a:lnTo>
                      <a:pt x="288" y="64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6960" y="4502160"/>
                <a:ext cx="60012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8520" y="5540400"/>
                <a:ext cx="60012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379680" y="4425840"/>
                <a:ext cx="2667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03760" y="5445000"/>
                <a:ext cx="457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94040" y="5835600"/>
                <a:ext cx="457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60760" y="5835600"/>
                <a:ext cx="247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665440" y="3006720"/>
                <a:ext cx="676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’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665360" y="3159000"/>
                <a:ext cx="4381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6960" y="2597040"/>
                <a:ext cx="486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7120" y="8226360"/>
                <a:ext cx="314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08160" y="8255160"/>
                <a:ext cx="71460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08560" y="8255160"/>
                <a:ext cx="71424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465880" y="8350200"/>
                <a:ext cx="428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01600" y="646200"/>
              <a:ext cx="6481800" cy="1993680"/>
              <a:chOff x="201600" y="646200"/>
              <a:chExt cx="6481800" cy="1993680"/>
            </a:xfrm>
          </p:grpSpPr>
          <p:sp>
            <p:nvSpPr>
              <p:cNvPr id="390" name=""/>
              <p:cNvSpPr/>
              <p:nvPr/>
            </p:nvSpPr>
            <p:spPr>
              <a:xfrm>
                <a:off x="201600" y="646200"/>
                <a:ext cx="575316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D: E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 &lt; 1   DWL = AB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D’: E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 &gt; 1  DWL’ = AD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výnos daně je konstantní: p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 AG p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73400" y="954000"/>
                <a:ext cx="2610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DWL’ &lt; DW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4440" y="250920"/>
            <a:ext cx="5829120" cy="196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Uložení daně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a) daň specifická, platí výrobc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79600" y="2746440"/>
            <a:ext cx="5140080" cy="5407200"/>
            <a:chOff x="579600" y="2746440"/>
            <a:chExt cx="5140080" cy="5407200"/>
          </a:xfrm>
        </p:grpSpPr>
        <p:sp>
          <p:nvSpPr>
            <p:cNvPr id="394" name=""/>
            <p:cNvSpPr/>
            <p:nvPr/>
          </p:nvSpPr>
          <p:spPr>
            <a:xfrm>
              <a:off x="942840" y="2841480"/>
              <a:ext cx="0" cy="470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42840" y="7559640"/>
              <a:ext cx="477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5640" y="3794040"/>
              <a:ext cx="3434040" cy="287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954080" y="4125960"/>
              <a:ext cx="3692520" cy="261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587600" y="3122640"/>
              <a:ext cx="3692520" cy="261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90800" y="4818240"/>
              <a:ext cx="0" cy="2738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99000" y="5495760"/>
              <a:ext cx="0" cy="2063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176720" y="4051440"/>
              <a:ext cx="0" cy="9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43320" y="4299120"/>
              <a:ext cx="285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29120" y="6080040"/>
              <a:ext cx="486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67280" y="3279600"/>
              <a:ext cx="5335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6320" y="4365720"/>
              <a:ext cx="219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04960" y="7575480"/>
              <a:ext cx="5810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05240" y="7575480"/>
              <a:ext cx="5810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57720" y="7556400"/>
              <a:ext cx="495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5440" y="7489800"/>
              <a:ext cx="390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600" y="2746440"/>
              <a:ext cx="26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200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Uložení daně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b) daň specifická, platí spotřebitel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593640" y="2673360"/>
            <a:ext cx="5203800" cy="5388120"/>
            <a:chOff x="593640" y="2673360"/>
            <a:chExt cx="5203800" cy="5388120"/>
          </a:xfrm>
        </p:grpSpPr>
        <p:sp>
          <p:nvSpPr>
            <p:cNvPr id="413" name=""/>
            <p:cNvSpPr/>
            <p:nvPr/>
          </p:nvSpPr>
          <p:spPr>
            <a:xfrm>
              <a:off x="957240" y="2768760"/>
              <a:ext cx="0" cy="470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57240" y="7486560"/>
              <a:ext cx="477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05080" y="3417840"/>
              <a:ext cx="3433680" cy="287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477800" y="3938760"/>
              <a:ext cx="3692520" cy="261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57480" y="4794120"/>
              <a:ext cx="0" cy="2675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54240" y="5432400"/>
              <a:ext cx="0" cy="2052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2647800" y="3933360"/>
              <a:ext cx="0" cy="9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85960" y="4152960"/>
              <a:ext cx="285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61040" y="5502240"/>
              <a:ext cx="485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62560" y="6151680"/>
              <a:ext cx="5331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84800" y="3728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06560" y="7473960"/>
              <a:ext cx="5810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06920" y="7483320"/>
              <a:ext cx="5810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02080" y="7483320"/>
              <a:ext cx="495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480" y="741672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3640" y="2673360"/>
              <a:ext cx="26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87360" y="3959280"/>
              <a:ext cx="3434040" cy="287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Uložení daně</a:t>
            </a:r>
            <a:br>
              <a:rPr sz="3800"/>
            </a:b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c) daň ad valorem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93640" y="2673360"/>
            <a:ext cx="5203800" cy="5329080"/>
            <a:chOff x="593640" y="2673360"/>
            <a:chExt cx="5203800" cy="5329080"/>
          </a:xfrm>
        </p:grpSpPr>
        <p:sp>
          <p:nvSpPr>
            <p:cNvPr id="432" name=""/>
            <p:cNvSpPr/>
            <p:nvPr/>
          </p:nvSpPr>
          <p:spPr>
            <a:xfrm>
              <a:off x="957240" y="2768760"/>
              <a:ext cx="0" cy="470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57240" y="7486560"/>
              <a:ext cx="477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43200" y="3375000"/>
              <a:ext cx="3547800" cy="29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1477800" y="3938760"/>
              <a:ext cx="3692520" cy="261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984320" y="3503160"/>
              <a:ext cx="0" cy="16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81160" y="4124160"/>
              <a:ext cx="285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70440" y="5502240"/>
              <a:ext cx="485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6540480"/>
              <a:ext cx="5331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84800" y="3728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02080" y="7483320"/>
              <a:ext cx="495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9480" y="741672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3640" y="2673360"/>
              <a:ext cx="26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38280" y="4917960"/>
              <a:ext cx="3708360" cy="184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4760" y="5856120"/>
              <a:ext cx="0" cy="67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40240" y="5856120"/>
              <a:ext cx="258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3480" y="1274760"/>
            <a:ext cx="6762600" cy="6264000"/>
            <a:chOff x="33480" y="1274760"/>
            <a:chExt cx="6762600" cy="6264000"/>
          </a:xfrm>
        </p:grpSpPr>
        <p:sp>
          <p:nvSpPr>
            <p:cNvPr id="449" name=""/>
            <p:cNvSpPr/>
            <p:nvPr/>
          </p:nvSpPr>
          <p:spPr>
            <a:xfrm>
              <a:off x="1495440" y="1892160"/>
              <a:ext cx="0" cy="470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86080" y="6595920"/>
              <a:ext cx="428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35560" y="6593040"/>
              <a:ext cx="14162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DA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obj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74880" y="6483240"/>
              <a:ext cx="390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480" y="1709640"/>
              <a:ext cx="14792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IVO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obj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90760" y="2690640"/>
              <a:ext cx="3616200" cy="389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90760" y="4691160"/>
              <a:ext cx="3619440" cy="19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2985840" y="1274760"/>
              <a:ext cx="3810240" cy="424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45" y="41"/>
                  </a:moveTo>
                  <a:arcTo wR="10800" hR="10800" stAng="-5098842" swAng="48801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45" y="41"/>
                  </a:moveTo>
                  <a:arcTo wR="10800" hR="10800" stAng="-5098842" swAng="4880197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0800000">
              <a:off x="2194560" y="1598760"/>
              <a:ext cx="3810960" cy="424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45" y="41"/>
                  </a:moveTo>
                  <a:arcTo wR="10800" hR="10800" stAng="-5098842" swAng="48801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45" y="41"/>
                  </a:moveTo>
                  <a:arcTo wR="10800" hR="10800" stAng="-5098842" swAng="4880197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195720" y="4519440"/>
              <a:ext cx="0" cy="10764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71720" y="3157560"/>
              <a:ext cx="78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8280" y="3738600"/>
              <a:ext cx="78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24320" y="450072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24200" y="554832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86040" y="437688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85680" y="4386240"/>
              <a:ext cx="514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47600" y="258768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09840" y="2538360"/>
              <a:ext cx="18763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Before-TA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90600" y="5310360"/>
              <a:ext cx="16956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fter-TA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43440" y="6615000"/>
              <a:ext cx="352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19160" y="3557520"/>
              <a:ext cx="4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3480" y="1695600"/>
            <a:ext cx="6718320" cy="5828760"/>
            <a:chOff x="33480" y="1695600"/>
            <a:chExt cx="6718320" cy="5828760"/>
          </a:xfrm>
        </p:grpSpPr>
        <p:sp>
          <p:nvSpPr>
            <p:cNvPr id="472" name=""/>
            <p:cNvSpPr/>
            <p:nvPr/>
          </p:nvSpPr>
          <p:spPr>
            <a:xfrm>
              <a:off x="1495440" y="1878120"/>
              <a:ext cx="0" cy="470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86080" y="6581880"/>
              <a:ext cx="428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5560" y="6578640"/>
              <a:ext cx="14162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DA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obj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74880" y="6469200"/>
              <a:ext cx="390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480" y="1695600"/>
              <a:ext cx="14792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IVO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obj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04800" y="2432160"/>
              <a:ext cx="3602160" cy="387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90760" y="4676760"/>
              <a:ext cx="361944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00440" y="445788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57560" y="5095800"/>
              <a:ext cx="64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38640" y="399096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98680" y="3738600"/>
              <a:ext cx="2646360" cy="284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00400" y="2771640"/>
              <a:ext cx="0" cy="28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0400" y="5586480"/>
              <a:ext cx="22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28960" y="4938840"/>
              <a:ext cx="165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828960" y="2757240"/>
              <a:ext cx="0" cy="219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Lafferova křivka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-11160" y="2405160"/>
            <a:ext cx="7031880" cy="8345160"/>
            <a:chOff x="-11160" y="2405160"/>
            <a:chExt cx="7031880" cy="8345160"/>
          </a:xfrm>
        </p:grpSpPr>
        <p:sp>
          <p:nvSpPr>
            <p:cNvPr id="489" name=""/>
            <p:cNvSpPr/>
            <p:nvPr/>
          </p:nvSpPr>
          <p:spPr>
            <a:xfrm>
              <a:off x="1074600" y="4017960"/>
              <a:ext cx="29307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-11160" y="2405160"/>
              <a:ext cx="7031880" cy="8345160"/>
              <a:chOff x="-11160" y="2405160"/>
              <a:chExt cx="7031880" cy="8345160"/>
            </a:xfrm>
          </p:grpSpPr>
          <p:sp>
            <p:nvSpPr>
              <p:cNvPr id="491" name=""/>
              <p:cNvSpPr/>
              <p:nvPr/>
            </p:nvSpPr>
            <p:spPr>
              <a:xfrm>
                <a:off x="1074600" y="2567160"/>
                <a:ext cx="0" cy="401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087560" y="6583320"/>
                <a:ext cx="5016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4006800" y="3161880"/>
                <a:ext cx="0" cy="3405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0800000">
                <a:off x="995760" y="4016520"/>
                <a:ext cx="6024960" cy="673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3" y="13397"/>
                    </a:moveTo>
                    <a:arcTo wR="10800" hR="10800" stAng="834933" swAng="45650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3" y="13397"/>
                    </a:moveTo>
                    <a:arcTo wR="10800" hR="10800" stAng="834933" swAng="4565067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419560" y="4014720"/>
                <a:ext cx="3199680" cy="511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9" y="0"/>
                    </a:moveTo>
                    <a:arcTo wR="10800" hR="10800" stAng="-5403409" swAng="54012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9" y="0"/>
                    </a:moveTo>
                    <a:arcTo wR="10800" hR="10800" stAng="-5403409" swAng="5401273"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084320" y="5843520"/>
                <a:ext cx="4848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084320" y="5335560"/>
                <a:ext cx="485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922320" y="6567480"/>
                <a:ext cx="219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60400" y="6539040"/>
                <a:ext cx="2895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íra zdanění (%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03720" y="6586560"/>
                <a:ext cx="7714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093680" y="5396040"/>
                <a:ext cx="3333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60440" y="4881600"/>
                <a:ext cx="257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46640" y="4890960"/>
                <a:ext cx="6094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89560" y="5386320"/>
                <a:ext cx="581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941640" y="3576600"/>
                <a:ext cx="28101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E (Lafferův bod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70520" y="4348080"/>
                <a:ext cx="165744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akázaná zón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-11160" y="2405160"/>
                <a:ext cx="1190520" cy="94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R (USD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1600" y="350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ové břemeno </a:t>
            </a:r>
            <a:br>
              <a:rPr sz="3800"/>
            </a:b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(tax burden - TB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3129120"/>
            <a:ext cx="5829480" cy="28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ČD = DV - T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.S. = prospěch V.S.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Č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ŠS.S. = škoda S.S. = T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B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ČD = ŠS.S. - PV.S. = Náklady zdaně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55800" y="1905120"/>
            <a:ext cx="4854600" cy="1184400"/>
            <a:chOff x="955800" y="1905120"/>
            <a:chExt cx="4854600" cy="1184400"/>
          </a:xfrm>
        </p:grpSpPr>
        <p:sp>
          <p:nvSpPr>
            <p:cNvPr id="86" name=""/>
            <p:cNvSpPr/>
            <p:nvPr/>
          </p:nvSpPr>
          <p:spPr>
            <a:xfrm>
              <a:off x="955800" y="2185920"/>
              <a:ext cx="8348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.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27600" y="2171880"/>
              <a:ext cx="9363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.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8560" y="2365200"/>
              <a:ext cx="213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84520" y="2554200"/>
              <a:ext cx="213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1880" y="2452680"/>
              <a:ext cx="93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25600" y="1905120"/>
              <a:ext cx="779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511360"/>
              <a:ext cx="9079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00760" y="1962000"/>
              <a:ext cx="49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6960" y="6027840"/>
            <a:ext cx="6018120" cy="2868480"/>
            <a:chOff x="426960" y="6027840"/>
            <a:chExt cx="6018120" cy="2868480"/>
          </a:xfrm>
        </p:grpSpPr>
        <p:sp>
          <p:nvSpPr>
            <p:cNvPr id="95" name=""/>
            <p:cNvSpPr/>
            <p:nvPr/>
          </p:nvSpPr>
          <p:spPr>
            <a:xfrm>
              <a:off x="426960" y="6330960"/>
              <a:ext cx="173196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Náklady zdaněn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63920" y="6027840"/>
              <a:ext cx="3881160" cy="28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dministrativní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MRTVÁ ZTRÁTA (DWL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Excess burd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bsolutní ztrát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928880" y="6375240"/>
              <a:ext cx="63504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22400" y="6816600"/>
              <a:ext cx="63504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85280" y="-4392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0440" y="871560"/>
            <a:ext cx="6548400" cy="7400520"/>
            <a:chOff x="190440" y="871560"/>
            <a:chExt cx="6548400" cy="7400520"/>
          </a:xfrm>
        </p:grpSpPr>
        <p:sp>
          <p:nvSpPr>
            <p:cNvPr id="510" name=""/>
            <p:cNvSpPr/>
            <p:nvPr/>
          </p:nvSpPr>
          <p:spPr>
            <a:xfrm>
              <a:off x="2836800" y="871560"/>
              <a:ext cx="143208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14760" y="1981080"/>
              <a:ext cx="1676160" cy="565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ýrob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7440" y="2992320"/>
              <a:ext cx="179208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ateriá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94120" y="2871720"/>
              <a:ext cx="179244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ýrobe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6800" y="4079880"/>
              <a:ext cx="1893960" cy="552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odavat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89360" y="4079880"/>
              <a:ext cx="1893960" cy="552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potřebit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25440" y="1832040"/>
              <a:ext cx="1455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ískáv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22720" y="1846440"/>
              <a:ext cx="2005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odáv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2520" y="4886280"/>
              <a:ext cx="302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OSUN VZ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28960" y="4905360"/>
              <a:ext cx="2862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OSUN VPŘ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0440" y="5883480"/>
              <a:ext cx="3214800" cy="9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lak na p. materiálu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nese dodavat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78200" y="5881680"/>
              <a:ext cx="2960640" cy="9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. výrobků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nese spotřebit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9000" y="7326360"/>
              <a:ext cx="3522960" cy="9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ěkdy i zaměstnanci přes mzd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52840" y="1477800"/>
              <a:ext cx="0" cy="49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1376280" y="227160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6280" y="2266920"/>
              <a:ext cx="0" cy="72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95960" y="227160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691240" y="2266560"/>
              <a:ext cx="0" cy="60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76280" y="3600360"/>
              <a:ext cx="0" cy="47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0600" y="348624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67080" y="2552760"/>
              <a:ext cx="0" cy="284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47960" y="2552760"/>
              <a:ext cx="0" cy="284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471320" y="5391000"/>
              <a:ext cx="189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47960" y="5400720"/>
              <a:ext cx="189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7600" y="6861240"/>
              <a:ext cx="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1120" y="7842240"/>
              <a:ext cx="4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14440" y="18648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76280" y="3427560"/>
            <a:ext cx="5589720" cy="5146560"/>
            <a:chOff x="476280" y="3427560"/>
            <a:chExt cx="5589720" cy="5146560"/>
          </a:xfrm>
        </p:grpSpPr>
        <p:sp>
          <p:nvSpPr>
            <p:cNvPr id="538" name=""/>
            <p:cNvSpPr/>
            <p:nvPr/>
          </p:nvSpPr>
          <p:spPr>
            <a:xfrm>
              <a:off x="1468440" y="7261200"/>
              <a:ext cx="285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560" y="3427560"/>
              <a:ext cx="122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11320" y="4187880"/>
              <a:ext cx="642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36520" y="4838760"/>
              <a:ext cx="617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20680" y="5683320"/>
              <a:ext cx="63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174680" y="6446880"/>
              <a:ext cx="579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22600" y="3697200"/>
              <a:ext cx="3720960" cy="371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17560" y="3703680"/>
              <a:ext cx="3730680" cy="3720960"/>
            </a:xfrm>
            <a:custGeom>
              <a:avLst/>
              <a:gdLst/>
              <a:ahLst/>
              <a:rect l="l" t="t" r="r" b="b"/>
              <a:pathLst>
                <a:path w="2350" h="2344">
                  <a:moveTo>
                    <a:pt x="2349" y="0"/>
                  </a:moveTo>
                  <a:lnTo>
                    <a:pt x="0" y="2343"/>
                  </a:lnTo>
                  <a:lnTo>
                    <a:pt x="2349" y="2343"/>
                  </a:lnTo>
                  <a:lnTo>
                    <a:pt x="2349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17560" y="3693960"/>
              <a:ext cx="3730680" cy="3721320"/>
            </a:xfrm>
            <a:custGeom>
              <a:avLst/>
              <a:gdLst/>
              <a:ahLst/>
              <a:rect l="l" t="t" r="r" b="b"/>
              <a:pathLst>
                <a:path w="2350" h="2344">
                  <a:moveTo>
                    <a:pt x="11" y="2343"/>
                  </a:moveTo>
                  <a:lnTo>
                    <a:pt x="35" y="2325"/>
                  </a:lnTo>
                  <a:lnTo>
                    <a:pt x="53" y="2319"/>
                  </a:lnTo>
                  <a:lnTo>
                    <a:pt x="71" y="2313"/>
                  </a:lnTo>
                  <a:lnTo>
                    <a:pt x="89" y="2307"/>
                  </a:lnTo>
                  <a:lnTo>
                    <a:pt x="107" y="2307"/>
                  </a:lnTo>
                  <a:lnTo>
                    <a:pt x="125" y="2301"/>
                  </a:lnTo>
                  <a:lnTo>
                    <a:pt x="143" y="2301"/>
                  </a:lnTo>
                  <a:lnTo>
                    <a:pt x="161" y="2301"/>
                  </a:lnTo>
                  <a:lnTo>
                    <a:pt x="179" y="2295"/>
                  </a:lnTo>
                  <a:lnTo>
                    <a:pt x="197" y="2289"/>
                  </a:lnTo>
                  <a:lnTo>
                    <a:pt x="215" y="2283"/>
                  </a:lnTo>
                  <a:lnTo>
                    <a:pt x="233" y="2283"/>
                  </a:lnTo>
                  <a:lnTo>
                    <a:pt x="251" y="2283"/>
                  </a:lnTo>
                  <a:lnTo>
                    <a:pt x="268" y="2283"/>
                  </a:lnTo>
                  <a:lnTo>
                    <a:pt x="286" y="2283"/>
                  </a:lnTo>
                  <a:lnTo>
                    <a:pt x="304" y="2283"/>
                  </a:lnTo>
                  <a:lnTo>
                    <a:pt x="322" y="2283"/>
                  </a:lnTo>
                  <a:lnTo>
                    <a:pt x="346" y="2277"/>
                  </a:lnTo>
                  <a:lnTo>
                    <a:pt x="364" y="2277"/>
                  </a:lnTo>
                  <a:lnTo>
                    <a:pt x="382" y="2271"/>
                  </a:lnTo>
                  <a:lnTo>
                    <a:pt x="400" y="2259"/>
                  </a:lnTo>
                  <a:lnTo>
                    <a:pt x="418" y="2254"/>
                  </a:lnTo>
                  <a:lnTo>
                    <a:pt x="442" y="2248"/>
                  </a:lnTo>
                  <a:lnTo>
                    <a:pt x="460" y="2242"/>
                  </a:lnTo>
                  <a:lnTo>
                    <a:pt x="478" y="2230"/>
                  </a:lnTo>
                  <a:lnTo>
                    <a:pt x="496" y="2224"/>
                  </a:lnTo>
                  <a:lnTo>
                    <a:pt x="514" y="2224"/>
                  </a:lnTo>
                  <a:lnTo>
                    <a:pt x="531" y="2218"/>
                  </a:lnTo>
                  <a:lnTo>
                    <a:pt x="549" y="2212"/>
                  </a:lnTo>
                  <a:lnTo>
                    <a:pt x="567" y="2206"/>
                  </a:lnTo>
                  <a:lnTo>
                    <a:pt x="585" y="2206"/>
                  </a:lnTo>
                  <a:lnTo>
                    <a:pt x="609" y="2200"/>
                  </a:lnTo>
                  <a:lnTo>
                    <a:pt x="633" y="2200"/>
                  </a:lnTo>
                  <a:lnTo>
                    <a:pt x="651" y="2194"/>
                  </a:lnTo>
                  <a:lnTo>
                    <a:pt x="669" y="2188"/>
                  </a:lnTo>
                  <a:lnTo>
                    <a:pt x="693" y="2182"/>
                  </a:lnTo>
                  <a:lnTo>
                    <a:pt x="711" y="2182"/>
                  </a:lnTo>
                  <a:lnTo>
                    <a:pt x="729" y="2176"/>
                  </a:lnTo>
                  <a:lnTo>
                    <a:pt x="747" y="2170"/>
                  </a:lnTo>
                  <a:lnTo>
                    <a:pt x="765" y="2165"/>
                  </a:lnTo>
                  <a:lnTo>
                    <a:pt x="783" y="2165"/>
                  </a:lnTo>
                  <a:lnTo>
                    <a:pt x="800" y="2159"/>
                  </a:lnTo>
                  <a:lnTo>
                    <a:pt x="818" y="2159"/>
                  </a:lnTo>
                  <a:lnTo>
                    <a:pt x="836" y="2153"/>
                  </a:lnTo>
                  <a:lnTo>
                    <a:pt x="860" y="2147"/>
                  </a:lnTo>
                  <a:lnTo>
                    <a:pt x="878" y="2141"/>
                  </a:lnTo>
                  <a:lnTo>
                    <a:pt x="896" y="2135"/>
                  </a:lnTo>
                  <a:lnTo>
                    <a:pt x="914" y="2135"/>
                  </a:lnTo>
                  <a:lnTo>
                    <a:pt x="932" y="2129"/>
                  </a:lnTo>
                  <a:lnTo>
                    <a:pt x="950" y="2123"/>
                  </a:lnTo>
                  <a:lnTo>
                    <a:pt x="968" y="2117"/>
                  </a:lnTo>
                  <a:lnTo>
                    <a:pt x="992" y="2105"/>
                  </a:lnTo>
                  <a:lnTo>
                    <a:pt x="1004" y="2087"/>
                  </a:lnTo>
                  <a:lnTo>
                    <a:pt x="1022" y="2082"/>
                  </a:lnTo>
                  <a:lnTo>
                    <a:pt x="1040" y="2070"/>
                  </a:lnTo>
                  <a:lnTo>
                    <a:pt x="1057" y="2064"/>
                  </a:lnTo>
                  <a:lnTo>
                    <a:pt x="1075" y="2052"/>
                  </a:lnTo>
                  <a:lnTo>
                    <a:pt x="1093" y="2046"/>
                  </a:lnTo>
                  <a:lnTo>
                    <a:pt x="1111" y="2046"/>
                  </a:lnTo>
                  <a:lnTo>
                    <a:pt x="1129" y="2040"/>
                  </a:lnTo>
                  <a:lnTo>
                    <a:pt x="1147" y="2034"/>
                  </a:lnTo>
                  <a:lnTo>
                    <a:pt x="1165" y="2034"/>
                  </a:lnTo>
                  <a:lnTo>
                    <a:pt x="1183" y="2022"/>
                  </a:lnTo>
                  <a:lnTo>
                    <a:pt x="1201" y="2022"/>
                  </a:lnTo>
                  <a:lnTo>
                    <a:pt x="1219" y="2016"/>
                  </a:lnTo>
                  <a:lnTo>
                    <a:pt x="1243" y="2010"/>
                  </a:lnTo>
                  <a:lnTo>
                    <a:pt x="1267" y="1998"/>
                  </a:lnTo>
                  <a:lnTo>
                    <a:pt x="1314" y="1993"/>
                  </a:lnTo>
                  <a:lnTo>
                    <a:pt x="1332" y="1987"/>
                  </a:lnTo>
                  <a:lnTo>
                    <a:pt x="1350" y="1981"/>
                  </a:lnTo>
                  <a:lnTo>
                    <a:pt x="1368" y="1969"/>
                  </a:lnTo>
                  <a:lnTo>
                    <a:pt x="1386" y="1963"/>
                  </a:lnTo>
                  <a:lnTo>
                    <a:pt x="1410" y="1951"/>
                  </a:lnTo>
                  <a:lnTo>
                    <a:pt x="1428" y="1939"/>
                  </a:lnTo>
                  <a:lnTo>
                    <a:pt x="1446" y="1933"/>
                  </a:lnTo>
                  <a:lnTo>
                    <a:pt x="1464" y="1921"/>
                  </a:lnTo>
                  <a:lnTo>
                    <a:pt x="1506" y="1898"/>
                  </a:lnTo>
                  <a:lnTo>
                    <a:pt x="1524" y="1886"/>
                  </a:lnTo>
                  <a:lnTo>
                    <a:pt x="1542" y="1874"/>
                  </a:lnTo>
                  <a:lnTo>
                    <a:pt x="1560" y="1868"/>
                  </a:lnTo>
                  <a:lnTo>
                    <a:pt x="1571" y="1850"/>
                  </a:lnTo>
                  <a:lnTo>
                    <a:pt x="1589" y="1838"/>
                  </a:lnTo>
                  <a:lnTo>
                    <a:pt x="1607" y="1826"/>
                  </a:lnTo>
                  <a:lnTo>
                    <a:pt x="1613" y="1809"/>
                  </a:lnTo>
                  <a:lnTo>
                    <a:pt x="1631" y="1797"/>
                  </a:lnTo>
                  <a:lnTo>
                    <a:pt x="1643" y="1779"/>
                  </a:lnTo>
                  <a:lnTo>
                    <a:pt x="1655" y="1761"/>
                  </a:lnTo>
                  <a:lnTo>
                    <a:pt x="1661" y="1743"/>
                  </a:lnTo>
                  <a:lnTo>
                    <a:pt x="1679" y="1726"/>
                  </a:lnTo>
                  <a:lnTo>
                    <a:pt x="1691" y="1708"/>
                  </a:lnTo>
                  <a:lnTo>
                    <a:pt x="1703" y="1690"/>
                  </a:lnTo>
                  <a:lnTo>
                    <a:pt x="1721" y="1672"/>
                  </a:lnTo>
                  <a:lnTo>
                    <a:pt x="1739" y="1654"/>
                  </a:lnTo>
                  <a:lnTo>
                    <a:pt x="1751" y="1637"/>
                  </a:lnTo>
                  <a:lnTo>
                    <a:pt x="1763" y="1619"/>
                  </a:lnTo>
                  <a:lnTo>
                    <a:pt x="1775" y="1601"/>
                  </a:lnTo>
                  <a:lnTo>
                    <a:pt x="1793" y="1583"/>
                  </a:lnTo>
                  <a:lnTo>
                    <a:pt x="1799" y="1565"/>
                  </a:lnTo>
                  <a:lnTo>
                    <a:pt x="1817" y="1560"/>
                  </a:lnTo>
                  <a:lnTo>
                    <a:pt x="1823" y="1542"/>
                  </a:lnTo>
                  <a:lnTo>
                    <a:pt x="1846" y="1530"/>
                  </a:lnTo>
                  <a:lnTo>
                    <a:pt x="1864" y="1512"/>
                  </a:lnTo>
                  <a:lnTo>
                    <a:pt x="1870" y="1494"/>
                  </a:lnTo>
                  <a:lnTo>
                    <a:pt x="1888" y="1488"/>
                  </a:lnTo>
                  <a:lnTo>
                    <a:pt x="1894" y="1471"/>
                  </a:lnTo>
                  <a:lnTo>
                    <a:pt x="1912" y="1453"/>
                  </a:lnTo>
                  <a:lnTo>
                    <a:pt x="1918" y="1429"/>
                  </a:lnTo>
                  <a:lnTo>
                    <a:pt x="1930" y="1411"/>
                  </a:lnTo>
                  <a:lnTo>
                    <a:pt x="1942" y="1393"/>
                  </a:lnTo>
                  <a:lnTo>
                    <a:pt x="1954" y="1376"/>
                  </a:lnTo>
                  <a:lnTo>
                    <a:pt x="1966" y="1358"/>
                  </a:lnTo>
                  <a:lnTo>
                    <a:pt x="1972" y="1334"/>
                  </a:lnTo>
                  <a:lnTo>
                    <a:pt x="1978" y="1316"/>
                  </a:lnTo>
                  <a:lnTo>
                    <a:pt x="1990" y="1299"/>
                  </a:lnTo>
                  <a:lnTo>
                    <a:pt x="1990" y="1281"/>
                  </a:lnTo>
                  <a:lnTo>
                    <a:pt x="1996" y="1263"/>
                  </a:lnTo>
                  <a:lnTo>
                    <a:pt x="2002" y="1245"/>
                  </a:lnTo>
                  <a:lnTo>
                    <a:pt x="2002" y="1227"/>
                  </a:lnTo>
                  <a:lnTo>
                    <a:pt x="2008" y="1210"/>
                  </a:lnTo>
                  <a:lnTo>
                    <a:pt x="2008" y="1192"/>
                  </a:lnTo>
                  <a:lnTo>
                    <a:pt x="2014" y="1174"/>
                  </a:lnTo>
                  <a:lnTo>
                    <a:pt x="2014" y="1150"/>
                  </a:lnTo>
                  <a:lnTo>
                    <a:pt x="2026" y="1132"/>
                  </a:lnTo>
                  <a:lnTo>
                    <a:pt x="2038" y="1115"/>
                  </a:lnTo>
                  <a:lnTo>
                    <a:pt x="2038" y="1097"/>
                  </a:lnTo>
                  <a:lnTo>
                    <a:pt x="2056" y="1079"/>
                  </a:lnTo>
                  <a:lnTo>
                    <a:pt x="2062" y="1061"/>
                  </a:lnTo>
                  <a:lnTo>
                    <a:pt x="2062" y="1043"/>
                  </a:lnTo>
                  <a:lnTo>
                    <a:pt x="2080" y="1026"/>
                  </a:lnTo>
                  <a:lnTo>
                    <a:pt x="2086" y="1008"/>
                  </a:lnTo>
                  <a:lnTo>
                    <a:pt x="2097" y="990"/>
                  </a:lnTo>
                  <a:lnTo>
                    <a:pt x="2109" y="972"/>
                  </a:lnTo>
                  <a:lnTo>
                    <a:pt x="2115" y="954"/>
                  </a:lnTo>
                  <a:lnTo>
                    <a:pt x="2127" y="937"/>
                  </a:lnTo>
                  <a:lnTo>
                    <a:pt x="2133" y="919"/>
                  </a:lnTo>
                  <a:lnTo>
                    <a:pt x="2145" y="895"/>
                  </a:lnTo>
                  <a:lnTo>
                    <a:pt x="2157" y="877"/>
                  </a:lnTo>
                  <a:lnTo>
                    <a:pt x="2157" y="860"/>
                  </a:lnTo>
                  <a:lnTo>
                    <a:pt x="2169" y="842"/>
                  </a:lnTo>
                  <a:lnTo>
                    <a:pt x="2181" y="824"/>
                  </a:lnTo>
                  <a:lnTo>
                    <a:pt x="2181" y="806"/>
                  </a:lnTo>
                  <a:lnTo>
                    <a:pt x="2193" y="788"/>
                  </a:lnTo>
                  <a:lnTo>
                    <a:pt x="2199" y="771"/>
                  </a:lnTo>
                  <a:lnTo>
                    <a:pt x="2205" y="753"/>
                  </a:lnTo>
                  <a:lnTo>
                    <a:pt x="2211" y="729"/>
                  </a:lnTo>
                  <a:lnTo>
                    <a:pt x="2217" y="694"/>
                  </a:lnTo>
                  <a:lnTo>
                    <a:pt x="2223" y="626"/>
                  </a:lnTo>
                  <a:lnTo>
                    <a:pt x="2229" y="626"/>
                  </a:lnTo>
                  <a:lnTo>
                    <a:pt x="2235" y="626"/>
                  </a:lnTo>
                  <a:lnTo>
                    <a:pt x="2241" y="626"/>
                  </a:lnTo>
                  <a:lnTo>
                    <a:pt x="2241" y="575"/>
                  </a:lnTo>
                  <a:lnTo>
                    <a:pt x="2247" y="551"/>
                  </a:lnTo>
                  <a:lnTo>
                    <a:pt x="2253" y="533"/>
                  </a:lnTo>
                  <a:lnTo>
                    <a:pt x="2253" y="516"/>
                  </a:lnTo>
                  <a:lnTo>
                    <a:pt x="2253" y="498"/>
                  </a:lnTo>
                  <a:lnTo>
                    <a:pt x="2253" y="480"/>
                  </a:lnTo>
                  <a:lnTo>
                    <a:pt x="2265" y="462"/>
                  </a:lnTo>
                  <a:lnTo>
                    <a:pt x="2265" y="444"/>
                  </a:lnTo>
                  <a:lnTo>
                    <a:pt x="2271" y="427"/>
                  </a:lnTo>
                  <a:lnTo>
                    <a:pt x="2277" y="409"/>
                  </a:lnTo>
                  <a:lnTo>
                    <a:pt x="2277" y="391"/>
                  </a:lnTo>
                  <a:lnTo>
                    <a:pt x="2277" y="373"/>
                  </a:lnTo>
                  <a:lnTo>
                    <a:pt x="2289" y="355"/>
                  </a:lnTo>
                  <a:lnTo>
                    <a:pt x="2289" y="338"/>
                  </a:lnTo>
                  <a:lnTo>
                    <a:pt x="2295" y="320"/>
                  </a:lnTo>
                  <a:lnTo>
                    <a:pt x="2301" y="302"/>
                  </a:lnTo>
                  <a:lnTo>
                    <a:pt x="2301" y="284"/>
                  </a:lnTo>
                  <a:lnTo>
                    <a:pt x="2301" y="266"/>
                  </a:lnTo>
                  <a:lnTo>
                    <a:pt x="2301" y="249"/>
                  </a:lnTo>
                  <a:lnTo>
                    <a:pt x="2301" y="231"/>
                  </a:lnTo>
                  <a:lnTo>
                    <a:pt x="2313" y="213"/>
                  </a:lnTo>
                  <a:lnTo>
                    <a:pt x="2319" y="195"/>
                  </a:lnTo>
                  <a:lnTo>
                    <a:pt x="2319" y="177"/>
                  </a:lnTo>
                  <a:lnTo>
                    <a:pt x="2319" y="160"/>
                  </a:lnTo>
                  <a:lnTo>
                    <a:pt x="2325" y="142"/>
                  </a:lnTo>
                  <a:lnTo>
                    <a:pt x="2325" y="124"/>
                  </a:lnTo>
                  <a:lnTo>
                    <a:pt x="2325" y="106"/>
                  </a:lnTo>
                  <a:lnTo>
                    <a:pt x="2325" y="88"/>
                  </a:lnTo>
                  <a:lnTo>
                    <a:pt x="2337" y="71"/>
                  </a:lnTo>
                  <a:lnTo>
                    <a:pt x="2337" y="53"/>
                  </a:lnTo>
                  <a:lnTo>
                    <a:pt x="2343" y="35"/>
                  </a:lnTo>
                  <a:lnTo>
                    <a:pt x="2349" y="17"/>
                  </a:lnTo>
                  <a:lnTo>
                    <a:pt x="2349" y="0"/>
                  </a:lnTo>
                  <a:lnTo>
                    <a:pt x="2343" y="17"/>
                  </a:lnTo>
                  <a:lnTo>
                    <a:pt x="0" y="2343"/>
                  </a:lnTo>
                  <a:lnTo>
                    <a:pt x="0" y="2319"/>
                  </a:lnTo>
                  <a:lnTo>
                    <a:pt x="11" y="2343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18080" y="6680160"/>
              <a:ext cx="571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7800" y="5899320"/>
              <a:ext cx="6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22600" y="669924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2600" y="594684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12880" y="4422600"/>
              <a:ext cx="13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22600" y="520380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303640" y="7423200"/>
              <a:ext cx="0" cy="13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89000" y="761220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2360" y="7612200"/>
              <a:ext cx="1133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49520" y="8055000"/>
              <a:ext cx="4066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centa obyvatelst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6200000">
              <a:off x="-859320" y="5534280"/>
              <a:ext cx="3190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centa důchod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57360" y="3417840"/>
            <a:ext cx="461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8760" y="719280"/>
            <a:ext cx="450216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NIHO K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0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.K. = 0 (rovnostářské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.K. = 1 (nespravedlivé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G.K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0,8 - 0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195800" y="2220840"/>
            <a:ext cx="2254320" cy="1189800"/>
            <a:chOff x="4195800" y="2220840"/>
            <a:chExt cx="2254320" cy="1189800"/>
          </a:xfrm>
        </p:grpSpPr>
        <p:sp>
          <p:nvSpPr>
            <p:cNvPr id="561" name=""/>
            <p:cNvSpPr/>
            <p:nvPr/>
          </p:nvSpPr>
          <p:spPr>
            <a:xfrm>
              <a:off x="4195800" y="2465280"/>
              <a:ext cx="11541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G =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48440" y="2220840"/>
              <a:ext cx="1201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-A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91280" y="2816280"/>
              <a:ext cx="1158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omácí úkol v 6. týdnu výuky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 metodické příručky (Hamerníková a kol.) odpovědi na otázky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 84 / 2, 6, 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14440" y="51408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8440" y="244080"/>
            <a:ext cx="6261120" cy="788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Pojmy daňový subjekt, daňový poplatník a plátce daně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) jsou totožné a označují daňové subjekty se stejnými daňovými povinnostmi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) jsou zcela odlišné, bez vzájemné funkční vazb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) slouží k označení subjektů lišících se funkčně ve svých povinnostech se zákonem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) slouží k označení odlišných zdanitelných skutečností (objektů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) slouží k označení stejných zdanitelných skutečností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čně všechny tři pojmy vysvětlet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1012320"/>
            <a:ext cx="5829120" cy="711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nenávratným příjmům veřejných rozpočtů lze zařadit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) bankovní úvěr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) daně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) dávk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) clo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) emise obligac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1225440"/>
            <a:ext cx="5829120" cy="690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 nedaňových příjm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ze zařadit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4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) daně z kapitálových příjmů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) daně z převodů nemovitost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) příjmy z privatizac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) poplatk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) daň z nemovitost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Umrtvená ztráta (Deadweight loss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3816360"/>
            <a:ext cx="5829120" cy="32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kažme si            na spotřební dani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             u spotřebitele; spotřebitelský přebyt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             u výrobce; přebytek výrob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84320" y="3807000"/>
            <a:ext cx="2448000" cy="2747880"/>
            <a:chOff x="1084320" y="3807000"/>
            <a:chExt cx="2448000" cy="2747880"/>
          </a:xfrm>
        </p:grpSpPr>
        <p:sp>
          <p:nvSpPr>
            <p:cNvPr id="102" name=""/>
            <p:cNvSpPr/>
            <p:nvPr/>
          </p:nvSpPr>
          <p:spPr>
            <a:xfrm>
              <a:off x="2478240" y="3807000"/>
              <a:ext cx="1054080" cy="64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4320" y="5910120"/>
              <a:ext cx="1054080" cy="644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84320" y="4854600"/>
              <a:ext cx="1054080" cy="64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03160" y="2363400"/>
            <a:ext cx="3880080" cy="1114920"/>
            <a:chOff x="803160" y="2363400"/>
            <a:chExt cx="3880080" cy="1114920"/>
          </a:xfrm>
        </p:grpSpPr>
        <p:sp>
          <p:nvSpPr>
            <p:cNvPr id="106" name=""/>
            <p:cNvSpPr/>
            <p:nvPr/>
          </p:nvSpPr>
          <p:spPr>
            <a:xfrm>
              <a:off x="1216080" y="2833560"/>
              <a:ext cx="1054080" cy="644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19360" y="2844720"/>
              <a:ext cx="1258920" cy="623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W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03160" y="3156120"/>
              <a:ext cx="40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817560" y="2363400"/>
              <a:ext cx="0" cy="77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03640" y="2867040"/>
              <a:ext cx="274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2520" y="2867040"/>
              <a:ext cx="720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5440" y="5616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5360" y="531720"/>
            <a:ext cx="6464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řebytek spotřebitele (AE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875120"/>
            <a:ext cx="62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řebytek výrobce (BC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1040" y="1195560"/>
            <a:ext cx="5708520" cy="3503880"/>
            <a:chOff x="581040" y="1195560"/>
            <a:chExt cx="5708520" cy="3503880"/>
          </a:xfrm>
        </p:grpSpPr>
        <p:sp>
          <p:nvSpPr>
            <p:cNvPr id="116" name=""/>
            <p:cNvSpPr/>
            <p:nvPr/>
          </p:nvSpPr>
          <p:spPr>
            <a:xfrm>
              <a:off x="1111320" y="1276200"/>
              <a:ext cx="0" cy="286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09520" y="4157640"/>
              <a:ext cx="464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2844720"/>
              <a:ext cx="454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1040" y="1195560"/>
              <a:ext cx="419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56120" y="4029120"/>
              <a:ext cx="433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1320" y="1835280"/>
              <a:ext cx="3868560" cy="232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1320" y="1835280"/>
              <a:ext cx="1674720" cy="1011240"/>
            </a:xfrm>
            <a:custGeom>
              <a:avLst/>
              <a:gdLst/>
              <a:ahLst/>
              <a:rect l="l" t="t" r="r" b="b"/>
              <a:pathLst>
                <a:path w="1055" h="637">
                  <a:moveTo>
                    <a:pt x="0" y="636"/>
                  </a:moveTo>
                  <a:lnTo>
                    <a:pt x="1054" y="636"/>
                  </a:lnTo>
                  <a:lnTo>
                    <a:pt x="0" y="0"/>
                  </a:lnTo>
                  <a:lnTo>
                    <a:pt x="0" y="636"/>
                  </a:lnTo>
                </a:path>
              </a:pathLst>
            </a:custGeom>
            <a:solidFill>
              <a:srgbClr val="969696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14760" y="2409840"/>
              <a:ext cx="390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7760" y="255276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4240" y="2629080"/>
              <a:ext cx="314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4000680"/>
              <a:ext cx="352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90720" y="2838600"/>
              <a:ext cx="0" cy="132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48000" y="4121280"/>
              <a:ext cx="6951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9600" y="1459080"/>
              <a:ext cx="466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81040" y="5667480"/>
            <a:ext cx="5603760" cy="3046320"/>
            <a:chOff x="581040" y="5667480"/>
            <a:chExt cx="5603760" cy="3046320"/>
          </a:xfrm>
        </p:grpSpPr>
        <p:sp>
          <p:nvSpPr>
            <p:cNvPr id="131" name=""/>
            <p:cNvSpPr/>
            <p:nvPr/>
          </p:nvSpPr>
          <p:spPr>
            <a:xfrm>
              <a:off x="1020600" y="5840280"/>
              <a:ext cx="0" cy="238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20600" y="8220240"/>
              <a:ext cx="463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20600" y="7034040"/>
              <a:ext cx="454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1040" y="5667480"/>
              <a:ext cx="419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51360" y="8091360"/>
              <a:ext cx="433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020600" y="6145200"/>
              <a:ext cx="3800520" cy="161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63720" y="7040520"/>
              <a:ext cx="0" cy="1181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0600" y="7031160"/>
              <a:ext cx="1744920" cy="744480"/>
            </a:xfrm>
            <a:custGeom>
              <a:avLst/>
              <a:gdLst/>
              <a:ahLst/>
              <a:rect l="l" t="t" r="r" b="b"/>
              <a:pathLst>
                <a:path w="1099" h="469">
                  <a:moveTo>
                    <a:pt x="0" y="468"/>
                  </a:moveTo>
                  <a:lnTo>
                    <a:pt x="1098" y="0"/>
                  </a:lnTo>
                  <a:lnTo>
                    <a:pt x="0" y="0"/>
                  </a:lnTo>
                  <a:lnTo>
                    <a:pt x="0" y="468"/>
                  </a:lnTo>
                </a:path>
              </a:pathLst>
            </a:custGeom>
            <a:solidFill>
              <a:srgbClr val="969696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21120" y="5764320"/>
              <a:ext cx="333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1040" y="6678720"/>
              <a:ext cx="32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96960" y="658008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6040" y="8194680"/>
              <a:ext cx="495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5400" y="8137440"/>
              <a:ext cx="34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1040" y="7535880"/>
              <a:ext cx="32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33240" y="1776240"/>
            <a:ext cx="5672160" cy="5658120"/>
            <a:chOff x="633240" y="1776240"/>
            <a:chExt cx="5672160" cy="5658120"/>
          </a:xfrm>
        </p:grpSpPr>
        <p:grpSp>
          <p:nvGrpSpPr>
            <p:cNvPr id="147" name=""/>
            <p:cNvGrpSpPr/>
            <p:nvPr/>
          </p:nvGrpSpPr>
          <p:grpSpPr>
            <a:xfrm>
              <a:off x="1308240" y="1778040"/>
              <a:ext cx="4679640" cy="4817880"/>
              <a:chOff x="1308240" y="1778040"/>
              <a:chExt cx="4679640" cy="4817880"/>
            </a:xfrm>
          </p:grpSpPr>
          <p:sp>
            <p:nvSpPr>
              <p:cNvPr id="148" name=""/>
              <p:cNvSpPr/>
              <p:nvPr/>
            </p:nvSpPr>
            <p:spPr>
              <a:xfrm>
                <a:off x="1312920" y="1778040"/>
                <a:ext cx="0" cy="481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12920" y="6583320"/>
                <a:ext cx="4674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08240" y="2602080"/>
                <a:ext cx="4076640" cy="3720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24080" y="5394240"/>
                <a:ext cx="449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08240" y="3821040"/>
                <a:ext cx="1346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08240" y="46213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05320" y="4621320"/>
                <a:ext cx="229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16120" y="3808440"/>
                <a:ext cx="0" cy="2768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05320" y="4608360"/>
                <a:ext cx="0" cy="19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56000" y="5394240"/>
                <a:ext cx="0" cy="118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05320" y="4608360"/>
                <a:ext cx="852480" cy="787680"/>
              </a:xfrm>
              <a:custGeom>
                <a:avLst/>
                <a:gdLst/>
                <a:ahLst/>
                <a:rect l="l" t="t" r="r" b="b"/>
                <a:pathLst>
                  <a:path w="537" h="496">
                    <a:moveTo>
                      <a:pt x="0" y="0"/>
                    </a:moveTo>
                    <a:lnTo>
                      <a:pt x="0" y="495"/>
                    </a:lnTo>
                    <a:lnTo>
                      <a:pt x="536" y="4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990800" y="3433680"/>
              <a:ext cx="7905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1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95640" y="4424400"/>
              <a:ext cx="590400" cy="10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33400" y="4300560"/>
              <a:ext cx="56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95680" y="4681440"/>
              <a:ext cx="666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TA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66960" y="4386240"/>
              <a:ext cx="295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29080" y="3443400"/>
              <a:ext cx="580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19640" y="4119480"/>
              <a:ext cx="419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57720" y="492300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4120" y="5986440"/>
              <a:ext cx="390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319640"/>
              <a:ext cx="514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00680" y="512604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7440" y="5378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8800" y="5110200"/>
              <a:ext cx="371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10400" y="664380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38240" y="6539040"/>
              <a:ext cx="276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05080" y="6580080"/>
              <a:ext cx="6285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6280" y="6580080"/>
              <a:ext cx="8380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10040" y="6580080"/>
              <a:ext cx="685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28880" y="6610320"/>
              <a:ext cx="428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8200" y="4748040"/>
              <a:ext cx="333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3240" y="5119560"/>
              <a:ext cx="390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48240" y="6610320"/>
              <a:ext cx="571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1776240"/>
              <a:ext cx="374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2592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61800" y="352440"/>
            <a:ext cx="5781960" cy="6045480"/>
            <a:chOff x="361800" y="352440"/>
            <a:chExt cx="5781960" cy="6045480"/>
          </a:xfrm>
        </p:grpSpPr>
        <p:grpSp>
          <p:nvGrpSpPr>
            <p:cNvPr id="184" name=""/>
            <p:cNvGrpSpPr/>
            <p:nvPr/>
          </p:nvGrpSpPr>
          <p:grpSpPr>
            <a:xfrm>
              <a:off x="1162080" y="495000"/>
              <a:ext cx="4852800" cy="5343480"/>
              <a:chOff x="1162080" y="495000"/>
              <a:chExt cx="4852800" cy="534348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1168560" y="495000"/>
                <a:ext cx="0" cy="534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71440" y="5834160"/>
                <a:ext cx="484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71440" y="1324080"/>
                <a:ext cx="4200840" cy="450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68560" y="3562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2080" y="2990880"/>
                <a:ext cx="4324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71440" y="4143240"/>
                <a:ext cx="4305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71440" y="4695840"/>
                <a:ext cx="4305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720880" y="2990880"/>
                <a:ext cx="0" cy="284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251160" y="3561840"/>
                <a:ext cx="0" cy="227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3797280" y="4143240"/>
                <a:ext cx="0" cy="1686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317840" y="4689000"/>
                <a:ext cx="0" cy="114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17640" y="3556080"/>
                <a:ext cx="533520" cy="584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717640" y="4146480"/>
                <a:ext cx="533520" cy="54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3244680" y="4140360"/>
                <a:ext cx="552600" cy="55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800520" y="4286160"/>
              <a:ext cx="24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43480" y="4286160"/>
              <a:ext cx="23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57640" y="4124160"/>
              <a:ext cx="26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28840" y="3738600"/>
              <a:ext cx="324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1800" y="4286160"/>
              <a:ext cx="257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62280" y="4124160"/>
              <a:ext cx="20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28800" y="3738600"/>
              <a:ext cx="27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81160" y="3552840"/>
              <a:ext cx="23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24120" y="3143160"/>
              <a:ext cx="28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81160" y="4691160"/>
              <a:ext cx="352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7760" y="4162320"/>
              <a:ext cx="219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14400" y="5857920"/>
              <a:ext cx="371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34080" y="5867280"/>
              <a:ext cx="409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200" y="352440"/>
              <a:ext cx="276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62080" y="93996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47800" y="254952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1320" y="312408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19440" y="3676680"/>
              <a:ext cx="628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62320" y="4254480"/>
              <a:ext cx="505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14840" y="2733840"/>
              <a:ext cx="5810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24560" y="3305160"/>
              <a:ext cx="5619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00800" y="3873600"/>
              <a:ext cx="609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6400" y="4429080"/>
              <a:ext cx="6382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52600" y="5819760"/>
              <a:ext cx="7524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52720" y="5819760"/>
              <a:ext cx="6001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7440" y="5819760"/>
              <a:ext cx="685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19400" y="5819760"/>
              <a:ext cx="6001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14880" y="469116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00" y="3886200"/>
              <a:ext cx="628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070000" y="520560"/>
            <a:ext cx="3606840" cy="989280"/>
            <a:chOff x="2070000" y="520560"/>
            <a:chExt cx="3606840" cy="989280"/>
          </a:xfrm>
        </p:grpSpPr>
        <p:sp>
          <p:nvSpPr>
            <p:cNvPr id="229" name=""/>
            <p:cNvSpPr/>
            <p:nvPr/>
          </p:nvSpPr>
          <p:spPr>
            <a:xfrm>
              <a:off x="2070000" y="520560"/>
              <a:ext cx="3606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 = 0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DWL 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76440" y="990720"/>
              <a:ext cx="279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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DWL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9280" y="6764400"/>
                <a:ext cx="418140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G = 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 </m:t>
                            </m:r>
                            <m:r>
                              <m:t xml:space="preserve">D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p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       E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r>
                              <m:t xml:space="preserve">DQ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* 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D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6280" y="2316240"/>
            <a:ext cx="5240160" cy="4906800"/>
            <a:chOff x="476280" y="2316240"/>
            <a:chExt cx="5240160" cy="4906800"/>
          </a:xfrm>
        </p:grpSpPr>
        <p:grpSp>
          <p:nvGrpSpPr>
            <p:cNvPr id="234" name=""/>
            <p:cNvGrpSpPr/>
            <p:nvPr/>
          </p:nvGrpSpPr>
          <p:grpSpPr>
            <a:xfrm>
              <a:off x="1119240" y="2430360"/>
              <a:ext cx="4597200" cy="4162680"/>
              <a:chOff x="1119240" y="2430360"/>
              <a:chExt cx="4597200" cy="4162680"/>
            </a:xfrm>
          </p:grpSpPr>
          <p:sp>
            <p:nvSpPr>
              <p:cNvPr id="235" name=""/>
              <p:cNvSpPr/>
              <p:nvPr/>
            </p:nvSpPr>
            <p:spPr>
              <a:xfrm>
                <a:off x="1119240" y="2430360"/>
                <a:ext cx="0" cy="416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19240" y="6593040"/>
                <a:ext cx="45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52560" y="3021120"/>
                <a:ext cx="2228760" cy="262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76520" y="2643120"/>
                <a:ext cx="784080" cy="315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61960" y="3564000"/>
                <a:ext cx="3800520" cy="2047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119240" y="4402080"/>
                <a:ext cx="1905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9240" y="5494320"/>
                <a:ext cx="391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11400" y="4402080"/>
                <a:ext cx="0" cy="2190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11400" y="4395960"/>
                <a:ext cx="274680" cy="1099800"/>
              </a:xfrm>
              <a:custGeom>
                <a:avLst/>
                <a:gdLst/>
                <a:ahLst/>
                <a:rect l="l" t="t" r="r" b="b"/>
                <a:pathLst>
                  <a:path w="173" h="693">
                    <a:moveTo>
                      <a:pt x="0" y="0"/>
                    </a:moveTo>
                    <a:lnTo>
                      <a:pt x="0" y="692"/>
                    </a:lnTo>
                    <a:lnTo>
                      <a:pt x="172" y="69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17880" y="4395960"/>
                <a:ext cx="928800" cy="1099800"/>
              </a:xfrm>
              <a:custGeom>
                <a:avLst/>
                <a:gdLst/>
                <a:ahLst/>
                <a:rect l="l" t="t" r="r" b="b"/>
                <a:pathLst>
                  <a:path w="585" h="693">
                    <a:moveTo>
                      <a:pt x="0" y="0"/>
                    </a:moveTo>
                    <a:lnTo>
                      <a:pt x="584" y="692"/>
                    </a:lnTo>
                    <a:lnTo>
                      <a:pt x="168" y="69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11400" y="4395960"/>
                <a:ext cx="2014560" cy="1106280"/>
              </a:xfrm>
              <a:custGeom>
                <a:avLst/>
                <a:gdLst/>
                <a:ahLst/>
                <a:rect l="l" t="t" r="r" b="b"/>
                <a:pathLst>
                  <a:path w="1269" h="697">
                    <a:moveTo>
                      <a:pt x="0" y="0"/>
                    </a:moveTo>
                    <a:lnTo>
                      <a:pt x="598" y="696"/>
                    </a:lnTo>
                    <a:lnTo>
                      <a:pt x="1268" y="69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990880" y="3868560"/>
              <a:ext cx="542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5487840"/>
              <a:ext cx="390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33600" y="5573880"/>
              <a:ext cx="409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81600" y="5573880"/>
              <a:ext cx="637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34000" y="5573880"/>
              <a:ext cx="619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6280" y="4708440"/>
              <a:ext cx="285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6440" y="4344840"/>
              <a:ext cx="4190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57520" y="2849400"/>
              <a:ext cx="1028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95600" y="2639880"/>
              <a:ext cx="105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Me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400" y="2316240"/>
              <a:ext cx="247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8720" y="6564240"/>
              <a:ext cx="266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53200" y="6703920"/>
              <a:ext cx="333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9640" y="1609560"/>
            <a:ext cx="5850000" cy="5551560"/>
            <a:chOff x="539640" y="1609560"/>
            <a:chExt cx="5850000" cy="5551560"/>
          </a:xfrm>
        </p:grpSpPr>
        <p:sp>
          <p:nvSpPr>
            <p:cNvPr id="260" name=""/>
            <p:cNvSpPr/>
            <p:nvPr/>
          </p:nvSpPr>
          <p:spPr>
            <a:xfrm>
              <a:off x="1357200" y="1900080"/>
              <a:ext cx="0" cy="468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0440" y="6594480"/>
              <a:ext cx="4689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360440" y="2470320"/>
              <a:ext cx="4257720" cy="31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779480" y="3174480"/>
              <a:ext cx="4181760" cy="16290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503440" y="2165040"/>
              <a:ext cx="1476360" cy="39243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60440" y="3384720"/>
              <a:ext cx="4076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360080" y="4241880"/>
              <a:ext cx="1838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79880" y="338436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5240" y="6540480"/>
              <a:ext cx="285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22920" y="6642000"/>
              <a:ext cx="561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3880" y="5384880"/>
              <a:ext cx="323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3440" y="4000680"/>
              <a:ext cx="676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-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22280" y="378468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70160" y="4413240"/>
              <a:ext cx="505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93840" y="2927520"/>
              <a:ext cx="495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79560" y="3098880"/>
              <a:ext cx="266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08160" y="2927520"/>
              <a:ext cx="34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70320" y="2927520"/>
              <a:ext cx="276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60800" y="1917720"/>
              <a:ext cx="7617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27520" y="3222720"/>
              <a:ext cx="7621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9160" y="2060640"/>
              <a:ext cx="7617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22320" y="1609560"/>
              <a:ext cx="447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640" y="3508200"/>
              <a:ext cx="287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9960" y="1871640"/>
            <a:ext cx="6002280" cy="5749560"/>
            <a:chOff x="399960" y="1871640"/>
            <a:chExt cx="6002280" cy="5749560"/>
          </a:xfrm>
        </p:grpSpPr>
        <p:sp>
          <p:nvSpPr>
            <p:cNvPr id="285" name=""/>
            <p:cNvSpPr/>
            <p:nvPr/>
          </p:nvSpPr>
          <p:spPr>
            <a:xfrm>
              <a:off x="1657440" y="2087640"/>
              <a:ext cx="0" cy="448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57440" y="6589800"/>
              <a:ext cx="451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392200" y="3068640"/>
              <a:ext cx="3635640" cy="230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78160" y="2881440"/>
              <a:ext cx="3649680" cy="238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81160" y="1871640"/>
              <a:ext cx="360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92720" y="2739960"/>
              <a:ext cx="6494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0880" y="5157720"/>
              <a:ext cx="6490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67160" y="3897360"/>
              <a:ext cx="70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38760" y="6675480"/>
              <a:ext cx="663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52440" y="6632640"/>
              <a:ext cx="736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36920" y="415620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7320" y="3375000"/>
              <a:ext cx="0" cy="3219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660680" y="3365640"/>
              <a:ext cx="1466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660680" y="4908600"/>
              <a:ext cx="1466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660680" y="4156200"/>
              <a:ext cx="2666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22640" y="3360600"/>
              <a:ext cx="1220760" cy="797040"/>
            </a:xfrm>
            <a:custGeom>
              <a:avLst/>
              <a:gdLst/>
              <a:ahLst/>
              <a:rect l="l" t="t" r="r" b="b"/>
              <a:pathLst>
                <a:path w="769" h="502">
                  <a:moveTo>
                    <a:pt x="6" y="0"/>
                  </a:moveTo>
                  <a:lnTo>
                    <a:pt x="768" y="501"/>
                  </a:lnTo>
                  <a:lnTo>
                    <a:pt x="0" y="501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32000" y="4156200"/>
              <a:ext cx="1197000" cy="758880"/>
            </a:xfrm>
            <a:custGeom>
              <a:avLst/>
              <a:gdLst/>
              <a:ahLst/>
              <a:rect l="l" t="t" r="r" b="b"/>
              <a:pathLst>
                <a:path w="754" h="478">
                  <a:moveTo>
                    <a:pt x="0" y="477"/>
                  </a:moveTo>
                  <a:lnTo>
                    <a:pt x="0" y="0"/>
                  </a:lnTo>
                  <a:lnTo>
                    <a:pt x="753" y="0"/>
                  </a:lnTo>
                  <a:lnTo>
                    <a:pt x="0" y="477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65520" y="3346560"/>
              <a:ext cx="371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6440" y="4498920"/>
              <a:ext cx="409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03680" y="3897360"/>
              <a:ext cx="295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08080" y="3089160"/>
              <a:ext cx="609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08080" y="4632480"/>
              <a:ext cx="6094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46320" y="3879720"/>
              <a:ext cx="333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9960" y="3514680"/>
              <a:ext cx="5428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22400" y="6675480"/>
              <a:ext cx="6382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7400" y="6675480"/>
              <a:ext cx="428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923760" y="3381480"/>
              <a:ext cx="200160" cy="81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923760" y="4203360"/>
              <a:ext cx="200160" cy="81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Klazar</dc:creator>
  <dc:description/>
  <dc:language>en-US</dc:language>
  <cp:lastModifiedBy>KVF</cp:lastModifiedBy>
  <cp:lastPrinted>1998-09-24T08:05:16Z</cp:lastPrinted>
  <dcterms:modified xsi:type="dcterms:W3CDTF">1998-11-10T10:00:54Z</dcterms:modified>
  <cp:revision>62</cp:revision>
  <dc:subject/>
  <dc:title>No Slide Title</dc:title>
</cp:coreProperties>
</file>