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66F-7A86-47FA-ABA4-068AB8D8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9CC-F531-4BD0-9383-13B365CA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FF9-AE29-4758-9A14-9F16C41A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F39-461A-4497-9986-336F89CF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9DE4-A149-4E07-B5B8-52C9D558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9A90-278C-486E-895B-CCA81FD3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5887-05B3-4267-98C7-8256051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8FB-4200-4FDE-A9CF-8E3711CC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9565-43B0-458A-AC95-EF16091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A0FE-01F4-4945-B83A-5D671F9E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76F4-7D66-430C-9F8F-0E8DD8D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CA6-5304-4FE0-817B-5C120D05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614F-AE30-4CAF-813A-69C75112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EFBC-4AAF-44B1-948D-52A74BA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C7B9-997D-4872-84EE-0F48CEA8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45E1-8928-422F-9953-99B7BF78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D74A-E1A2-4AEC-86C0-9343CBC2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2CF-C49A-4BF8-B2F2-A5E846E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72B-AA75-403C-B4C8-3F963AD9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3EA-A482-49A8-8304-2CF7BC62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090-8911-4177-A8FC-467A168C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75F-3DF8-4A40-B18D-BAF6B77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6F9-A455-42C5-B38F-70FF31D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F8C-BC83-4EB5-8C9D-3C594C1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1FAA-2F49-4A8D-A1CE-E00453999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D8E-D08D-40EA-B5B9-1C0916D15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1.téma: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eřejné finance ve smíšené ekonomic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1 Příčiny rozvoje veřejných financí ve smíšené ekonom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 Veřejný sektor ve smíšené ekonom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3 Veřejné finance ve smíšené ekonom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 Teorie veřejné volb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25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free rider“ a produkční náklady veřejných statků (v.s.)</a:t>
            </a:r>
            <a:br>
              <a:rPr sz="3800"/>
            </a:b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5105520"/>
            <a:ext cx="283824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konomick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átní 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íšený 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čistý v.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04960" y="5105520"/>
            <a:ext cx="268596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stitucionál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ržn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lotržn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etržn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08000" y="4205160"/>
            <a:ext cx="2664000" cy="559080"/>
            <a:chOff x="1908000" y="4205160"/>
            <a:chExt cx="2664000" cy="559080"/>
          </a:xfrm>
        </p:grpSpPr>
        <p:sp>
          <p:nvSpPr>
            <p:cNvPr id="110" name=""/>
            <p:cNvSpPr/>
            <p:nvPr/>
          </p:nvSpPr>
          <p:spPr>
            <a:xfrm flipH="1">
              <a:off x="1908000" y="4205160"/>
              <a:ext cx="1330560" cy="55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1800" y="4205160"/>
              <a:ext cx="1330200" cy="55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28600" y="3200400"/>
            <a:ext cx="57913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Kritéria členění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2760" y="3664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OVERCROWDING FUNCTION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22440" y="6737400"/>
                <a:ext cx="478296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Æ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kd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  <m:r>
                          <m:t xml:space="preserve">≤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a kde: </m:t>
                        </m:r>
                        <m:f>
                          <m:num>
                            <m:r>
                              <m:t xml:space="preserve">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Æ</m:t>
                            </m:r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  <m:r>
                          <m:t xml:space="preserve">á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824120" y="1828800"/>
            <a:ext cx="3270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funkce přetížení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1926720" y="2381400"/>
            <a:ext cx="7799040" cy="6236640"/>
            <a:chOff x="-1926720" y="2381400"/>
            <a:chExt cx="7799040" cy="6236640"/>
          </a:xfrm>
        </p:grpSpPr>
        <p:sp>
          <p:nvSpPr>
            <p:cNvPr id="117" name=""/>
            <p:cNvSpPr/>
            <p:nvPr/>
          </p:nvSpPr>
          <p:spPr>
            <a:xfrm>
              <a:off x="1249200" y="5832360"/>
              <a:ext cx="4283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46320" y="2381400"/>
              <a:ext cx="0" cy="344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-1926720" y="3030480"/>
              <a:ext cx="6387120" cy="558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4" y="0"/>
                  </a:moveTo>
                  <a:arcTo wR="10800" hR="10800" stAng="-5405126" swAng="5405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4" y="0"/>
                  </a:moveTo>
                  <a:arcTo wR="10800" hR="10800" stAng="-5405126" swAng="540512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46320" y="4248000"/>
              <a:ext cx="2639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4240080"/>
              <a:ext cx="0" cy="1614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005360" y="3691080"/>
                  <a:ext cx="1120680" cy="59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</m:ba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12640" y="2749680"/>
                  <a:ext cx="63180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  <m:sup>
                          <m:r>
                            <m:t xml:space="preserve">s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574560" y="3846600"/>
                  <a:ext cx="6019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sSubSup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  <m:sup>
                              <m:r>
                                <m:t xml:space="preserve">s</m:t>
                              </m:r>
                            </m:sup>
                          </m:sSubSup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57600" y="5892840"/>
                  <a:ext cx="4460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Y</m:t>
                              </m:r>
                            </m:e>
                          </m:ba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314960" y="5875200"/>
                  <a:ext cx="4093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</m:ba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419800" y="5749920"/>
                  <a:ext cx="4525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87320" y="5691240"/>
              <a:ext cx="45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440" y="57204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440" y="1536480"/>
            <a:ext cx="5829120" cy="65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átní poručnictv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merit goods“ (statky pod ochranou, poručnické statky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storový aspekt V.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tatky s celostátní působností (národní V.S.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tatky lokálního význam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85360" y="293400"/>
            <a:ext cx="5829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émant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69960" y="984240"/>
            <a:ext cx="5599080" cy="4192200"/>
            <a:chOff x="669960" y="984240"/>
            <a:chExt cx="5599080" cy="4192200"/>
          </a:xfrm>
        </p:grpSpPr>
        <p:graphicFrame>
          <p:nvGraphicFramePr>
            <p:cNvPr id="133" name=""/>
            <p:cNvGraphicFramePr/>
            <p:nvPr/>
          </p:nvGraphicFramePr>
          <p:xfrm>
            <a:off x="669960" y="1322280"/>
            <a:ext cx="5438880" cy="3505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9960" y="1322280"/>
                      <a:ext cx="5438880" cy="35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5" name=""/>
            <p:cNvGrpSpPr/>
            <p:nvPr/>
          </p:nvGrpSpPr>
          <p:grpSpPr>
            <a:xfrm>
              <a:off x="3549600" y="1521000"/>
              <a:ext cx="1332000" cy="2162160"/>
              <a:chOff x="3549600" y="1521000"/>
              <a:chExt cx="1332000" cy="2162160"/>
            </a:xfrm>
          </p:grpSpPr>
          <p:sp>
            <p:nvSpPr>
              <p:cNvPr id="136" name=""/>
              <p:cNvSpPr/>
              <p:nvPr/>
            </p:nvSpPr>
            <p:spPr>
              <a:xfrm>
                <a:off x="4370400" y="1521000"/>
                <a:ext cx="511200" cy="1452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85880" y="2992320"/>
                <a:ext cx="492120" cy="690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58960" y="1521000"/>
                <a:ext cx="809640" cy="1468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49600" y="2994120"/>
                <a:ext cx="824040" cy="689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133640" y="2340000"/>
              <a:ext cx="1279440" cy="2071440"/>
              <a:chOff x="1133640" y="2340000"/>
              <a:chExt cx="1279440" cy="2071440"/>
            </a:xfrm>
          </p:grpSpPr>
          <p:sp>
            <p:nvSpPr>
              <p:cNvPr id="141" name=""/>
              <p:cNvSpPr/>
              <p:nvPr/>
            </p:nvSpPr>
            <p:spPr>
              <a:xfrm flipH="1" flipV="1">
                <a:off x="1144440" y="2979360"/>
                <a:ext cx="782640" cy="1406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1920960" y="2991960"/>
                <a:ext cx="468360" cy="1419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1935000" y="2340000"/>
                <a:ext cx="478080" cy="665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133640" y="2340000"/>
                <a:ext cx="792000" cy="6523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494000" y="1468440"/>
              <a:ext cx="3013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65520" y="3041640"/>
              <a:ext cx="301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1920" y="4172040"/>
              <a:ext cx="301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0320" y="2535120"/>
              <a:ext cx="301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74960" y="1479600"/>
              <a:ext cx="301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64200" y="3029040"/>
              <a:ext cx="301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22600" y="4154400"/>
              <a:ext cx="301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43160" y="2585880"/>
              <a:ext cx="301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1240" y="984240"/>
              <a:ext cx="90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 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99160" y="984240"/>
              <a:ext cx="90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06920" y="1547640"/>
              <a:ext cx="14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6920" y="2046240"/>
              <a:ext cx="14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06920" y="4122720"/>
              <a:ext cx="14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06920" y="3309840"/>
              <a:ext cx="14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06920" y="3716280"/>
              <a:ext cx="14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4549680" y="4539960"/>
              <a:ext cx="612720" cy="198360"/>
              <a:chOff x="4549680" y="4539960"/>
              <a:chExt cx="612720" cy="19836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4856040" y="4539960"/>
                <a:ext cx="0" cy="19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5162400" y="4539960"/>
                <a:ext cx="0" cy="19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4549680" y="4539960"/>
                <a:ext cx="0" cy="19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294000" y="4529160"/>
              <a:ext cx="765360" cy="200160"/>
              <a:chOff x="3294000" y="4529160"/>
              <a:chExt cx="765360" cy="200160"/>
            </a:xfrm>
          </p:grpSpPr>
          <p:sp>
            <p:nvSpPr>
              <p:cNvPr id="165" name=""/>
              <p:cNvSpPr/>
              <p:nvPr/>
            </p:nvSpPr>
            <p:spPr>
              <a:xfrm flipV="1">
                <a:off x="3676680" y="4529160"/>
                <a:ext cx="0" cy="200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4059360" y="4529160"/>
                <a:ext cx="0" cy="200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294000" y="4529160"/>
                <a:ext cx="0" cy="200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408480" y="4718160"/>
              <a:ext cx="53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89360" y="4718160"/>
              <a:ext cx="53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84720" y="4699080"/>
              <a:ext cx="53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03760" y="4699080"/>
              <a:ext cx="30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7760" y="4699080"/>
              <a:ext cx="30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9240" y="1346040"/>
              <a:ext cx="30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9240" y="1843200"/>
              <a:ext cx="30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6600" y="310680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46600" y="351324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81600" y="3919680"/>
              <a:ext cx="314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84480" y="4718160"/>
              <a:ext cx="420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6320" y="5259240"/>
            <a:ext cx="659124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průměrné roční tempo růstu reálného produktu (v %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průměrná roční míra nezaměstnanosti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v %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průměrná roční míra infl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průměrný podíl salda běžného účtu platební bilance na nominálním produktu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v %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3440" y="19836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Vládní selhání (government failure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960" y="1646280"/>
            <a:ext cx="668628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8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lavní důvod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0280" indent="-26712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8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obtížnost předvídání důsledků státních zásahů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40280" indent="-26712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8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časové zpoždění a omezená informovanost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40280" indent="-26712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8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omezená možnost kontroly nad reakcí osob a soukromého trh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40280" indent="-26712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8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omezená možnost kontroly činnosti státní správy (...proč úředníci jednají tak, jak jednají?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40280" indent="-26712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8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odstata politických procesů (...velkým vynálezem soukromého podnikání je BANKROT, v polit. procesech neúspěšná politika nemá konce...)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ad 4) byrokratický imperativ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opol na inform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dence k rozpínav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ximalizace preferenčních funkcí - MOC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yvolání zdání nepostradatel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očet úředníků v zařízeních EU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99880" y="2781360"/>
          <a:ext cx="59835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781360"/>
                    <a:ext cx="59835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Rent seeking (G. Tullock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IVVM: Stát hájí hlavně úzké skupinové zájmy (leden 98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2840" y="4271760"/>
            <a:ext cx="5829480" cy="38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de o zájmy většin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65 % respondentů (stoupenců ODS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7 % (příznivců KDU - ČSL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2 % (příznivců ČSSD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 % (příznivců KSČM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200" y="2874960"/>
            <a:ext cx="3054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r.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 % responden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29160" y="2859120"/>
            <a:ext cx="26668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r.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4440" y="56016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14440" y="1096560"/>
            <a:ext cx="5829120" cy="703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dostatečná je možnost ovlivnit řešení celospolečenských problémů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4 % občanů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může dosáhnout svých požadavků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44 % občanů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lze zasáhnout do rozhodování v místě svého bydliště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 % občanů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eřejné finance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x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tátní financ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3001680"/>
            <a:ext cx="5829120" cy="51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mén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á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daňový pacht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ulla Lucius Cornelius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82 př. n. l.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fiscus (lat.) - státní pokladna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2520" y="12276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440" y="628560"/>
            <a:ext cx="5829120" cy="74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inkor, J.: Trh a stát. K čemu potřebujeme filosofii. Svobod, Praha 199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mec, J.: Štát a trh. Vybrané problémy verejnej mikroekonómie. EF UMB, Banská Bystrica 199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tuček, M.: Nejen trh. Role trhu, státu a občanského sektoru v proměnách české společnosti. Slon, Praha 199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 future of the state. The Economist. A survey of the world economy. September 20th 199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2520" y="545760"/>
            <a:ext cx="582948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eřejný sektor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5120" y="1598760"/>
            <a:ext cx="598500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míšená ekonomika (mixed econom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oexistence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P.S.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V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uralita vlastnic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tátní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oukromé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municipální a po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voukanálová koordin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4360" y="6462720"/>
            <a:ext cx="283860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rh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úloha c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5640" y="6462720"/>
            <a:ext cx="374328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tátními zásah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aňov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ýdajov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ční opatřen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36560" y="5943600"/>
            <a:ext cx="2664000" cy="449280"/>
            <a:chOff x="1636560" y="5943600"/>
            <a:chExt cx="2664000" cy="449280"/>
          </a:xfrm>
        </p:grpSpPr>
        <p:sp>
          <p:nvSpPr>
            <p:cNvPr id="201" name=""/>
            <p:cNvSpPr/>
            <p:nvPr/>
          </p:nvSpPr>
          <p:spPr>
            <a:xfrm flipH="1">
              <a:off x="1636560" y="5943600"/>
              <a:ext cx="1330560" cy="44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70360" y="5943600"/>
              <a:ext cx="1330200" cy="44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2520" y="183240"/>
            <a:ext cx="582948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77904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á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různé definic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různé typ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různé model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. J. Rousea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o dobrovolné konstituční smlouvě mezi státem a občan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. Buchan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mlouva o otroctv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organismické“ pojetí státu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át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vlastní užitkovou funkc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viz 3. postulát tzv. ekonom. blahobytu (welfare economics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299880"/>
            <a:ext cx="58291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Tok důchodů a výdajů a faktorů a produktů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00" y="8312040"/>
            <a:ext cx="6816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ramen: Musgrave, R. A., Musgrave, P. B.: Veřejné finance v teorii a praxi, Management Press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95360" y="1809720"/>
            <a:ext cx="5962680" cy="6414480"/>
            <a:chOff x="495360" y="1809720"/>
            <a:chExt cx="5962680" cy="6414480"/>
          </a:xfrm>
        </p:grpSpPr>
        <p:sp>
          <p:nvSpPr>
            <p:cNvPr id="208" name=""/>
            <p:cNvSpPr/>
            <p:nvPr/>
          </p:nvSpPr>
          <p:spPr>
            <a:xfrm>
              <a:off x="1857240" y="1809720"/>
              <a:ext cx="2181240" cy="64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Domácnost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57240" y="4483080"/>
              <a:ext cx="1484280" cy="64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rm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27400" y="7400880"/>
              <a:ext cx="1822320" cy="823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tátní rozpoče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92520" y="3429000"/>
              <a:ext cx="1608120" cy="823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rh kapitál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30560" y="1886040"/>
              <a:ext cx="2370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91440" y="1887480"/>
              <a:ext cx="0" cy="6246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54040" y="8134200"/>
              <a:ext cx="2227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25600" y="8134200"/>
              <a:ext cx="17985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23800" y="1878120"/>
              <a:ext cx="0" cy="6256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600" y="1886040"/>
              <a:ext cx="1331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54400" y="7858080"/>
              <a:ext cx="1675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838840" y="4278240"/>
              <a:ext cx="0" cy="3579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191200" y="2344680"/>
              <a:ext cx="0" cy="10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030560" y="2343240"/>
              <a:ext cx="116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2880" y="4278240"/>
              <a:ext cx="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344760" y="4619520"/>
              <a:ext cx="161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54480" y="5010120"/>
              <a:ext cx="1846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00560" y="5011560"/>
              <a:ext cx="0" cy="254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154400" y="7562880"/>
              <a:ext cx="1046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05240" y="2344680"/>
              <a:ext cx="0" cy="227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706400" y="4848120"/>
              <a:ext cx="16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696680" y="2371680"/>
              <a:ext cx="16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95600" y="2373480"/>
              <a:ext cx="0" cy="247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10720" y="2019240"/>
              <a:ext cx="1055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20800" y="7858080"/>
              <a:ext cx="1503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9000" y="2021040"/>
              <a:ext cx="0" cy="583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230480" y="7562880"/>
              <a:ext cx="1103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238400" y="2230560"/>
              <a:ext cx="0" cy="53323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30480" y="2228760"/>
              <a:ext cx="626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19160" y="3322800"/>
              <a:ext cx="870120" cy="388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65520" y="4381560"/>
              <a:ext cx="388800" cy="86976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17960" y="5342040"/>
              <a:ext cx="153324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Times New Roman"/>
                </a:rPr>
                <a:t>Trh produktů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81360" y="3203640"/>
              <a:ext cx="13554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Times New Roman"/>
                </a:rPr>
                <a:t>Trh faktorů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28840" y="2685960"/>
              <a:ext cx="314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14680" y="3895560"/>
              <a:ext cx="371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47720" y="4133880"/>
              <a:ext cx="954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5560" y="3638520"/>
              <a:ext cx="371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57720" y="3857760"/>
              <a:ext cx="9504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1440" y="4457880"/>
              <a:ext cx="24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09600" y="2171880"/>
              <a:ext cx="30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5280" y="7000920"/>
              <a:ext cx="30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0280" y="1952640"/>
              <a:ext cx="36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0280" y="7334280"/>
              <a:ext cx="36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5360" y="1847880"/>
              <a:ext cx="323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520" y="7734240"/>
              <a:ext cx="323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4800" y="7134120"/>
              <a:ext cx="409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19680" y="4971960"/>
              <a:ext cx="409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05320" y="7458120"/>
              <a:ext cx="55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4520" y="77151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77000" y="184788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10040" y="2257560"/>
              <a:ext cx="342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0" y="2266920"/>
              <a:ext cx="34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2857680"/>
              <a:ext cx="342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8800" y="4229280"/>
              <a:ext cx="323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principy VF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návratn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ekvival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dobrovolnost (vynucení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vě roviny ekonomické analýzy VF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čistě finanč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vztah mezi příjmy a výdaji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álně finanč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jak příjmy a výdaje působí na reálné ekonomické subjekt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Tři fiskální funkce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okač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distribuč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bilizač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2520" y="393840"/>
            <a:ext cx="582948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Alokační funkce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14440" y="1631520"/>
            <a:ext cx="5829120" cy="64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visí s veřejným zabezpečením V.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 znamená „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řejné zabezpečen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 V.S.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 znamená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fektivní alok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e V.S.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optimální poměr mezi </a:t>
            </a:r>
            <a:r>
              <a:rPr b="1" lang="en-US" sz="2900" spc="-1" strike="noStrike">
                <a:solidFill>
                  <a:srgbClr val="cc0000"/>
                </a:solidFill>
                <a:latin typeface="Times New Roman"/>
              </a:rPr>
              <a:t>P.S.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900" spc="-1" strike="noStrike">
                <a:solidFill>
                  <a:srgbClr val="cc0000"/>
                </a:solidFill>
                <a:latin typeface="Times New Roman"/>
              </a:rPr>
              <a:t>V.S.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optimální množství a struktura </a:t>
            </a:r>
            <a:r>
              <a:rPr b="1" lang="en-US" sz="2900" spc="-1" strike="noStrike">
                <a:solidFill>
                  <a:srgbClr val="cc0000"/>
                </a:solidFill>
                <a:latin typeface="Times New Roman"/>
              </a:rPr>
              <a:t>V.S.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fektivní rozdělení produkčních nákladů </a:t>
            </a:r>
            <a:r>
              <a:rPr b="1" lang="en-US" sz="2900" spc="-1" strike="noStrike">
                <a:solidFill>
                  <a:srgbClr val="cc0000"/>
                </a:solidFill>
                <a:latin typeface="Times New Roman"/>
              </a:rPr>
              <a:t>V.S.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mezi spotřebiteli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23640" y="706320"/>
            <a:ext cx="6048360" cy="775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19000" indent="-2854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Má otázka efektivní alokace V.S význam? (je-li zde rozhodováno politickými procesy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neoklasický ideál VF: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k. analýza </a:t>
            </a:r>
            <a:r>
              <a:rPr b="1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umožňuje najít nejefektivnější ze všech politicky průchodných řeše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36560" y="3156120"/>
            <a:ext cx="5651640" cy="1822320"/>
            <a:chOff x="736560" y="3156120"/>
            <a:chExt cx="5651640" cy="1822320"/>
          </a:xfrm>
        </p:grpSpPr>
        <p:sp>
          <p:nvSpPr>
            <p:cNvPr id="272" name=""/>
            <p:cNvSpPr/>
            <p:nvPr/>
          </p:nvSpPr>
          <p:spPr>
            <a:xfrm>
              <a:off x="1765440" y="3156120"/>
              <a:ext cx="359388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mezní daň jedince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6560" y="4394160"/>
              <a:ext cx="5651640" cy="584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meznímu užitku ze spotřeby V.S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05160" y="3809880"/>
              <a:ext cx="51444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istribuční fiskální funkc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va fiskální přerozdělovací nástroj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příjmové (daňové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výdajov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ransfer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SzPct val="59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záměrně redistribuční charakter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ota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ubve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63864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1765440"/>
            <a:ext cx="5829120" cy="636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v. Pavel v Epištole k Římanům říká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ždému tedy, co jste povinni dávejte! Komu daň, tomu daň; komu clo, tomu clo; komu bázeň, tomu bázeň; komu čest, tomu čest!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4440" y="56016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1263600"/>
            <a:ext cx="5829120" cy="686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ňově transferový mechanismus kombinuj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rogresivní zdanění vysokých příjmů 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otacemi domácnostem s nízkými příjm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b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zdanění luxusního zboží s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otacemi zboží pro obyvatelstvo s nízkými příjmy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Stabilizační fiskální funkc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ástroj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ěnov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vinné rezerv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kontní sazb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ce na volném trhu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skáln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eřejné výdaj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eřejné příjm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způsob financování deficitu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Koordinace fiskálních funkc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ztah nekonzistence“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 x 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 x 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 x 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viz Musgrav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teorie veřejné volb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rozhodovací pravidl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volební parado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rrowův teorém nemožnost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volič - medián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Teorie veřejné volby</a:t>
            </a:r>
            <a:br>
              <a:rPr sz="3800"/>
            </a:b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 (public choice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chumpeter, J.: Capitalism, socialism and Democracy (194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wns, A.: Economic Theory of Democracy (1957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. Arrow, J. Buchanan, G. Tullo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62000" y="1004760"/>
            <a:ext cx="6541920" cy="6166080"/>
            <a:chOff x="162000" y="1004760"/>
            <a:chExt cx="6541920" cy="6166080"/>
          </a:xfrm>
        </p:grpSpPr>
        <p:sp>
          <p:nvSpPr>
            <p:cNvPr id="287" name=""/>
            <p:cNvSpPr/>
            <p:nvPr/>
          </p:nvSpPr>
          <p:spPr>
            <a:xfrm>
              <a:off x="2683440" y="1392120"/>
              <a:ext cx="878040" cy="454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ič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3480" y="1925640"/>
              <a:ext cx="1368360" cy="820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litická h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47880" y="3094200"/>
              <a:ext cx="1292040" cy="454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avid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440" y="4014720"/>
              <a:ext cx="1216080" cy="454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áko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09720" y="4016520"/>
              <a:ext cx="1141560" cy="747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ební syst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8120" y="2629080"/>
              <a:ext cx="1292400" cy="454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liti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56120" y="1722600"/>
              <a:ext cx="1540080" cy="747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ájmové skupi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32440" y="3594240"/>
              <a:ext cx="1596960" cy="454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rokrac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3160" y="1874880"/>
              <a:ext cx="0" cy="7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05080" y="23065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92280" y="2762280"/>
              <a:ext cx="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090440" y="3568680"/>
              <a:ext cx="43848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1040" y="3568680"/>
              <a:ext cx="45072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3561840" y="1595160"/>
              <a:ext cx="1398600" cy="50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065120" y="2111400"/>
              <a:ext cx="88740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34080" y="2484360"/>
              <a:ext cx="0" cy="10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33880" y="3108240"/>
              <a:ext cx="0" cy="150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40000" y="4606920"/>
              <a:ext cx="234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595840" y="4066920"/>
              <a:ext cx="0" cy="54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542960" y="1004760"/>
              <a:ext cx="0" cy="92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49440" y="1011240"/>
              <a:ext cx="4108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57760" y="1011240"/>
              <a:ext cx="0" cy="71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10400" y="4084560"/>
              <a:ext cx="1440" cy="12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49200" y="5278320"/>
              <a:ext cx="546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43080" y="2325600"/>
              <a:ext cx="0" cy="295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4520" y="2325600"/>
              <a:ext cx="59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2000" y="5405400"/>
              <a:ext cx="249552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lektivní rozho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44800" y="5407200"/>
              <a:ext cx="161928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eř. stat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75120" y="5405400"/>
              <a:ext cx="182880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děliteln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880" y="5881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6880" y="5645160"/>
              <a:ext cx="2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2000" y="5645160"/>
              <a:ext cx="2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6240" y="6345360"/>
              <a:ext cx="633384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l. problém: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Jak integrovat individuální preference voličů do kolektivního rozhodnut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2520" y="398520"/>
            <a:ext cx="5829480" cy="10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Kolektivní akc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-1871640" y="1335240"/>
            <a:ext cx="8139240" cy="6663960"/>
            <a:chOff x="-1871640" y="1335240"/>
            <a:chExt cx="8139240" cy="6663960"/>
          </a:xfrm>
        </p:grpSpPr>
        <p:grpSp>
          <p:nvGrpSpPr>
            <p:cNvPr id="322" name=""/>
            <p:cNvGrpSpPr/>
            <p:nvPr/>
          </p:nvGrpSpPr>
          <p:grpSpPr>
            <a:xfrm>
              <a:off x="-1871640" y="1335240"/>
              <a:ext cx="7967520" cy="6663960"/>
              <a:chOff x="-1871640" y="1335240"/>
              <a:chExt cx="7967520" cy="6663960"/>
            </a:xfrm>
          </p:grpSpPr>
          <p:sp>
            <p:nvSpPr>
              <p:cNvPr id="323" name=""/>
              <p:cNvSpPr/>
              <p:nvPr/>
            </p:nvSpPr>
            <p:spPr>
              <a:xfrm>
                <a:off x="2971800" y="5389560"/>
                <a:ext cx="3124080" cy="4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Důchod skupiny 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-1871640" y="1335240"/>
                <a:ext cx="6977160" cy="6663960"/>
                <a:chOff x="-1871640" y="1335240"/>
                <a:chExt cx="6977160" cy="66639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306440" y="5100480"/>
                  <a:ext cx="3799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303200" y="1619280"/>
                  <a:ext cx="0" cy="3481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-1871640" y="2189160"/>
                  <a:ext cx="6387840" cy="581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3" y="0"/>
                      </a:moveTo>
                      <a:arcTo wR="10800" hR="10800" stAng="-5408543" swAng="54085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3" y="0"/>
                      </a:moveTo>
                      <a:arcTo wR="10800" hR="10800" stAng="-5408543" swAng="540854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16200000">
                  <a:off x="-559440" y="2517120"/>
                  <a:ext cx="285264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Times New Roman"/>
                    </a:rPr>
                    <a:t>Důchod skupiny B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3720960" y="1638360"/>
              <a:ext cx="2546640" cy="1708200"/>
              <a:chOff x="3720960" y="1638360"/>
              <a:chExt cx="2546640" cy="1708200"/>
            </a:xfrm>
          </p:grpSpPr>
          <p:sp>
            <p:nvSpPr>
              <p:cNvPr id="330" name=""/>
              <p:cNvSpPr/>
              <p:nvPr/>
            </p:nvSpPr>
            <p:spPr>
              <a:xfrm>
                <a:off x="3720960" y="1638360"/>
                <a:ext cx="2527560" cy="1708200"/>
              </a:xfrm>
              <a:custGeom>
                <a:avLst/>
                <a:gdLst>
                  <a:gd name="textAreaLeft" fmla="*/ 93600 w 2527560"/>
                  <a:gd name="textAreaRight" fmla="*/ 2433960 w 2527560"/>
                  <a:gd name="textAreaTop" fmla="*/ 63000 h 1708200"/>
                  <a:gd name="textAreaBottom" fmla="*/ 1364400 h 170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90" y="0"/>
                    </a:moveTo>
                    <a:arcTo wR="3590" hR="3590" stAng="16200000" swAng="-5400000"/>
                    <a:lnTo>
                      <a:pt x="0" y="14460"/>
                    </a:lnTo>
                    <a:arcTo wR="3590" hR="3590" stAng="10800000" swAng="-5400000"/>
                    <a:lnTo>
                      <a:pt x="1795" y="21600"/>
                    </a:lnTo>
                    <a:lnTo>
                      <a:pt x="5420" y="18050"/>
                    </a:lnTo>
                    <a:lnTo>
                      <a:pt x="18010" y="18050"/>
                    </a:lnTo>
                    <a:arcTo wR="3590" hR="3590" stAng="5400000" swAng="-5400000"/>
                    <a:lnTo>
                      <a:pt x="21600" y="3590"/>
                    </a:lnTo>
                    <a:arcTo wR="3590" hR="359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36880" y="1697040"/>
                <a:ext cx="243072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Důchody dostupné při kolekt. akci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1987560" y="3081240"/>
              <a:ext cx="450720" cy="549360"/>
              <a:chOff x="1987560" y="3081240"/>
              <a:chExt cx="450720" cy="549360"/>
            </a:xfrm>
          </p:grpSpPr>
          <p:sp>
            <p:nvSpPr>
              <p:cNvPr id="333" name=""/>
              <p:cNvSpPr/>
              <p:nvPr/>
            </p:nvSpPr>
            <p:spPr>
              <a:xfrm>
                <a:off x="2057400" y="3081240"/>
                <a:ext cx="3808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87560" y="3379680"/>
                <a:ext cx="63360" cy="60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352520" y="3975120"/>
              <a:ext cx="29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ůchody dostupné bez kolektivní ak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85840" y="5907240"/>
            <a:ext cx="6438960" cy="28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od E: Výsledek čistého laissez f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i kolektivních akcích se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můž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důchod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aždého zvyšovat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s tím, jak se společnost pohybuje z bodu E k hranici důchodových možností.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Hobbes, T.: Leviathan (1651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2743200"/>
            <a:ext cx="601992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kový svět popsal velký filozof 17. století Thomas Hobbes jako svět „kde není místa pro píli, neboť přináší nejisté ovoce; kde neexistuje obdělávání půdy, dovednost navigace, žádné umění; kde panuje neustálý strach z násilné smrti a kde člověku je souzen osamělý, nuzný, ošklivý, surový a krátký život.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317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Tři výsledky kolektivní akc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-1877400" y="1719000"/>
            <a:ext cx="8186040" cy="6409800"/>
            <a:chOff x="-1877400" y="1719000"/>
            <a:chExt cx="8186040" cy="6409800"/>
          </a:xfrm>
        </p:grpSpPr>
        <p:sp>
          <p:nvSpPr>
            <p:cNvPr id="341" name=""/>
            <p:cNvSpPr/>
            <p:nvPr/>
          </p:nvSpPr>
          <p:spPr>
            <a:xfrm>
              <a:off x="2413080" y="5450040"/>
              <a:ext cx="31240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ůchod skupiny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00320" y="5345280"/>
              <a:ext cx="379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97080" y="1995480"/>
              <a:ext cx="0" cy="334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1877400" y="2544840"/>
              <a:ext cx="6387120" cy="558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3" y="0"/>
                  </a:moveTo>
                  <a:arcTo wR="10800" hR="10800" stAng="-5408543" swAng="54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3" y="0"/>
                  </a:moveTo>
                  <a:arcTo wR="10800" hR="10800" stAng="-5408543" swAng="540854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-718200" y="3053520"/>
              <a:ext cx="31575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ůchod skupiny 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3276720" y="1843200"/>
              <a:ext cx="3031920" cy="1339560"/>
              <a:chOff x="3276720" y="1843200"/>
              <a:chExt cx="3031920" cy="1339560"/>
            </a:xfrm>
          </p:grpSpPr>
          <p:sp>
            <p:nvSpPr>
              <p:cNvPr id="347" name=""/>
              <p:cNvSpPr/>
              <p:nvPr/>
            </p:nvSpPr>
            <p:spPr>
              <a:xfrm>
                <a:off x="3276720" y="1843200"/>
                <a:ext cx="3031920" cy="1339560"/>
              </a:xfrm>
              <a:custGeom>
                <a:avLst/>
                <a:gdLst/>
                <a:ahLst/>
                <a:rect l="l" t="t" r="r" b="b"/>
                <a:pathLst>
                  <a:path w="1910" h="844">
                    <a:moveTo>
                      <a:pt x="314" y="0"/>
                    </a:moveTo>
                    <a:lnTo>
                      <a:pt x="250" y="4"/>
                    </a:lnTo>
                    <a:lnTo>
                      <a:pt x="193" y="7"/>
                    </a:lnTo>
                    <a:lnTo>
                      <a:pt x="144" y="19"/>
                    </a:lnTo>
                    <a:lnTo>
                      <a:pt x="93" y="36"/>
                    </a:lnTo>
                    <a:lnTo>
                      <a:pt x="58" y="56"/>
                    </a:lnTo>
                    <a:lnTo>
                      <a:pt x="29" y="76"/>
                    </a:lnTo>
                    <a:lnTo>
                      <a:pt x="7" y="97"/>
                    </a:lnTo>
                    <a:lnTo>
                      <a:pt x="0" y="121"/>
                    </a:lnTo>
                    <a:lnTo>
                      <a:pt x="0" y="429"/>
                    </a:lnTo>
                    <a:lnTo>
                      <a:pt x="0" y="612"/>
                    </a:lnTo>
                    <a:lnTo>
                      <a:pt x="7" y="636"/>
                    </a:lnTo>
                    <a:lnTo>
                      <a:pt x="29" y="660"/>
                    </a:lnTo>
                    <a:lnTo>
                      <a:pt x="58" y="681"/>
                    </a:lnTo>
                    <a:lnTo>
                      <a:pt x="93" y="697"/>
                    </a:lnTo>
                    <a:lnTo>
                      <a:pt x="144" y="713"/>
                    </a:lnTo>
                    <a:lnTo>
                      <a:pt x="193" y="725"/>
                    </a:lnTo>
                    <a:lnTo>
                      <a:pt x="250" y="729"/>
                    </a:lnTo>
                    <a:lnTo>
                      <a:pt x="314" y="733"/>
                    </a:lnTo>
                    <a:lnTo>
                      <a:pt x="58" y="843"/>
                    </a:lnTo>
                    <a:lnTo>
                      <a:pt x="793" y="733"/>
                    </a:lnTo>
                    <a:lnTo>
                      <a:pt x="1587" y="733"/>
                    </a:lnTo>
                    <a:lnTo>
                      <a:pt x="1651" y="729"/>
                    </a:lnTo>
                    <a:lnTo>
                      <a:pt x="1715" y="725"/>
                    </a:lnTo>
                    <a:lnTo>
                      <a:pt x="1766" y="713"/>
                    </a:lnTo>
                    <a:lnTo>
                      <a:pt x="1815" y="697"/>
                    </a:lnTo>
                    <a:lnTo>
                      <a:pt x="1852" y="681"/>
                    </a:lnTo>
                    <a:lnTo>
                      <a:pt x="1887" y="660"/>
                    </a:lnTo>
                    <a:lnTo>
                      <a:pt x="1901" y="636"/>
                    </a:lnTo>
                    <a:lnTo>
                      <a:pt x="1909" y="612"/>
                    </a:lnTo>
                    <a:lnTo>
                      <a:pt x="1909" y="429"/>
                    </a:lnTo>
                    <a:lnTo>
                      <a:pt x="1909" y="121"/>
                    </a:lnTo>
                    <a:lnTo>
                      <a:pt x="1901" y="97"/>
                    </a:lnTo>
                    <a:lnTo>
                      <a:pt x="1887" y="76"/>
                    </a:lnTo>
                    <a:lnTo>
                      <a:pt x="1852" y="56"/>
                    </a:lnTo>
                    <a:lnTo>
                      <a:pt x="1815" y="36"/>
                    </a:lnTo>
                    <a:lnTo>
                      <a:pt x="1766" y="19"/>
                    </a:lnTo>
                    <a:lnTo>
                      <a:pt x="1715" y="7"/>
                    </a:lnTo>
                    <a:lnTo>
                      <a:pt x="1651" y="4"/>
                    </a:lnTo>
                    <a:lnTo>
                      <a:pt x="1587" y="0"/>
                    </a:lnTo>
                    <a:lnTo>
                      <a:pt x="793" y="0"/>
                    </a:lnTo>
                    <a:lnTo>
                      <a:pt x="314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16400" y="1938240"/>
                <a:ext cx="2832120" cy="87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Důchody dostupné </a:t>
                </a:r>
                <a:br>
                  <a:rPr sz="2600"/>
                </a:b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při kolekt. akci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147760" y="4037040"/>
              <a:ext cx="505080" cy="519120"/>
              <a:chOff x="2147760" y="4037040"/>
              <a:chExt cx="505080" cy="519120"/>
            </a:xfrm>
          </p:grpSpPr>
          <p:sp>
            <p:nvSpPr>
              <p:cNvPr id="350" name=""/>
              <p:cNvSpPr/>
              <p:nvPr/>
            </p:nvSpPr>
            <p:spPr>
              <a:xfrm>
                <a:off x="2147760" y="4038480"/>
                <a:ext cx="505080" cy="449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32000" y="4037040"/>
                <a:ext cx="345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459160" y="3137040"/>
              <a:ext cx="504720" cy="523800"/>
              <a:chOff x="2459160" y="3137040"/>
              <a:chExt cx="504720" cy="523800"/>
            </a:xfrm>
          </p:grpSpPr>
          <p:sp>
            <p:nvSpPr>
              <p:cNvPr id="353" name=""/>
              <p:cNvSpPr/>
              <p:nvPr/>
            </p:nvSpPr>
            <p:spPr>
              <a:xfrm>
                <a:off x="2459160" y="3137040"/>
                <a:ext cx="504720" cy="446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535120" y="3141720"/>
                <a:ext cx="419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048120" y="4614840"/>
              <a:ext cx="504720" cy="519120"/>
              <a:chOff x="3048120" y="4614840"/>
              <a:chExt cx="504720" cy="519120"/>
            </a:xfrm>
          </p:grpSpPr>
          <p:sp>
            <p:nvSpPr>
              <p:cNvPr id="356" name=""/>
              <p:cNvSpPr/>
              <p:nvPr/>
            </p:nvSpPr>
            <p:spPr>
              <a:xfrm>
                <a:off x="3048120" y="4621320"/>
                <a:ext cx="504720" cy="447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7320" y="4614840"/>
                <a:ext cx="405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1555920" y="4573440"/>
              <a:ext cx="519120" cy="530280"/>
              <a:chOff x="1555920" y="4573440"/>
              <a:chExt cx="519120" cy="530280"/>
            </a:xfrm>
          </p:grpSpPr>
          <p:sp>
            <p:nvSpPr>
              <p:cNvPr id="359" name=""/>
              <p:cNvSpPr/>
              <p:nvPr/>
            </p:nvSpPr>
            <p:spPr>
              <a:xfrm>
                <a:off x="1555920" y="4573440"/>
                <a:ext cx="504720" cy="447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69960" y="4584600"/>
                <a:ext cx="505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654280" y="4357800"/>
              <a:ext cx="45864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961640" y="4384800"/>
              <a:ext cx="212760" cy="19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459160" y="3589200"/>
              <a:ext cx="176040" cy="44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14480" y="5996160"/>
            <a:ext cx="67053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: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Bod laissez faire.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P: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Každý si polepší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W: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ládní selhání (každý si pohorší).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R: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fekt přerozdělení (odnětí zdrojů </a:t>
            </a:r>
            <a:br>
              <a:rPr sz="2600"/>
            </a:b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kupině B a jejich postoupení skupině 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Kolektivní rozhodován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ednohlasná sho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ětšinov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uralitn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dle počtu získaných bod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85840" y="533160"/>
            <a:ext cx="6362640" cy="78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) Jaké jsou příčiny rozvoje veřejných financí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B) Tyto příčiny jsou totožné s příčinami státních zásahů do ekonomického systému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) Veřejné finance jsou pouze jedním z nástrojů realizace státních zásahů - fiskálním nástrojem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fiscus (lat.) - státní pokladna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) Argumenty standardní ekonomické teorie pro státní zásahy do ekonomického systému - shrnutí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96800" y="1236600"/>
            <a:ext cx="0" cy="628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96800" y="3048120"/>
            <a:ext cx="0" cy="628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96800" y="5486400"/>
            <a:ext cx="0" cy="628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2520" y="329760"/>
            <a:ext cx="582948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Jednohlasná shoda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76480" y="5923080"/>
            <a:ext cx="4199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ůchod skupiny A (větši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-1785960" y="1562040"/>
            <a:ext cx="7275600" cy="6868800"/>
            <a:chOff x="-1785960" y="1562040"/>
            <a:chExt cx="7275600" cy="6868800"/>
          </a:xfrm>
        </p:grpSpPr>
        <p:sp>
          <p:nvSpPr>
            <p:cNvPr id="370" name=""/>
            <p:cNvSpPr/>
            <p:nvPr/>
          </p:nvSpPr>
          <p:spPr>
            <a:xfrm>
              <a:off x="1701720" y="4724280"/>
              <a:ext cx="558720" cy="559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14680" y="4586400"/>
              <a:ext cx="583920" cy="56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33840" y="4991040"/>
              <a:ext cx="1396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40160" y="1903320"/>
              <a:ext cx="2949480" cy="1193760"/>
            </a:xfrm>
            <a:custGeom>
              <a:avLst/>
              <a:gdLst/>
              <a:ahLst/>
              <a:rect l="l" t="t" r="r" b="b"/>
              <a:pathLst>
                <a:path w="1858" h="752">
                  <a:moveTo>
                    <a:pt x="306" y="0"/>
                  </a:moveTo>
                  <a:lnTo>
                    <a:pt x="248" y="3"/>
                  </a:lnTo>
                  <a:lnTo>
                    <a:pt x="191" y="7"/>
                  </a:lnTo>
                  <a:lnTo>
                    <a:pt x="133" y="17"/>
                  </a:lnTo>
                  <a:lnTo>
                    <a:pt x="89" y="27"/>
                  </a:lnTo>
                  <a:lnTo>
                    <a:pt x="50" y="43"/>
                  </a:lnTo>
                  <a:lnTo>
                    <a:pt x="25" y="57"/>
                  </a:lnTo>
                  <a:lnTo>
                    <a:pt x="6" y="77"/>
                  </a:lnTo>
                  <a:lnTo>
                    <a:pt x="0" y="93"/>
                  </a:lnTo>
                  <a:lnTo>
                    <a:pt x="0" y="320"/>
                  </a:lnTo>
                  <a:lnTo>
                    <a:pt x="0" y="454"/>
                  </a:lnTo>
                  <a:lnTo>
                    <a:pt x="6" y="474"/>
                  </a:lnTo>
                  <a:lnTo>
                    <a:pt x="25" y="491"/>
                  </a:lnTo>
                  <a:lnTo>
                    <a:pt x="50" y="504"/>
                  </a:lnTo>
                  <a:lnTo>
                    <a:pt x="89" y="521"/>
                  </a:lnTo>
                  <a:lnTo>
                    <a:pt x="133" y="531"/>
                  </a:lnTo>
                  <a:lnTo>
                    <a:pt x="191" y="541"/>
                  </a:lnTo>
                  <a:lnTo>
                    <a:pt x="248" y="544"/>
                  </a:lnTo>
                  <a:lnTo>
                    <a:pt x="306" y="547"/>
                  </a:lnTo>
                  <a:lnTo>
                    <a:pt x="184" y="751"/>
                  </a:lnTo>
                  <a:lnTo>
                    <a:pt x="772" y="547"/>
                  </a:lnTo>
                  <a:lnTo>
                    <a:pt x="1544" y="547"/>
                  </a:lnTo>
                  <a:lnTo>
                    <a:pt x="1608" y="544"/>
                  </a:lnTo>
                  <a:lnTo>
                    <a:pt x="1665" y="541"/>
                  </a:lnTo>
                  <a:lnTo>
                    <a:pt x="1716" y="531"/>
                  </a:lnTo>
                  <a:lnTo>
                    <a:pt x="1767" y="521"/>
                  </a:lnTo>
                  <a:lnTo>
                    <a:pt x="1806" y="504"/>
                  </a:lnTo>
                  <a:lnTo>
                    <a:pt x="1831" y="491"/>
                  </a:lnTo>
                  <a:lnTo>
                    <a:pt x="1850" y="474"/>
                  </a:lnTo>
                  <a:lnTo>
                    <a:pt x="1857" y="454"/>
                  </a:lnTo>
                  <a:lnTo>
                    <a:pt x="1857" y="320"/>
                  </a:lnTo>
                  <a:lnTo>
                    <a:pt x="1857" y="93"/>
                  </a:lnTo>
                  <a:lnTo>
                    <a:pt x="1850" y="77"/>
                  </a:lnTo>
                  <a:lnTo>
                    <a:pt x="1831" y="57"/>
                  </a:lnTo>
                  <a:lnTo>
                    <a:pt x="1806" y="43"/>
                  </a:lnTo>
                  <a:lnTo>
                    <a:pt x="1767" y="27"/>
                  </a:lnTo>
                  <a:lnTo>
                    <a:pt x="1716" y="17"/>
                  </a:lnTo>
                  <a:lnTo>
                    <a:pt x="1665" y="7"/>
                  </a:lnTo>
                  <a:lnTo>
                    <a:pt x="1608" y="3"/>
                  </a:lnTo>
                  <a:lnTo>
                    <a:pt x="1544" y="0"/>
                  </a:lnTo>
                  <a:lnTo>
                    <a:pt x="772" y="0"/>
                  </a:lnTo>
                  <a:lnTo>
                    <a:pt x="30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28880" y="1954080"/>
              <a:ext cx="23306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ostupné důchod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60840" y="2971800"/>
              <a:ext cx="663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03240" y="23749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13200" y="480060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34960" y="5643720"/>
              <a:ext cx="3849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32080" y="2295360"/>
              <a:ext cx="1440" cy="334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-1312200" y="3513960"/>
              <a:ext cx="43927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ůchod skupiny B (menšina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785960" y="2843280"/>
              <a:ext cx="6473520" cy="558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4" y="0"/>
                  </a:moveTo>
                  <a:arcTo wR="10800" hR="10800" stAng="-5405058" swAng="5405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4" y="0"/>
                  </a:moveTo>
                  <a:arcTo wR="10800" hR="10800" stAng="-5405058" swAng="540505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30320" y="2871720"/>
              <a:ext cx="0" cy="19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676520" y="4776840"/>
              <a:ext cx="507960" cy="519120"/>
              <a:chOff x="1676520" y="4776840"/>
              <a:chExt cx="507960" cy="519120"/>
            </a:xfrm>
          </p:grpSpPr>
          <p:sp>
            <p:nvSpPr>
              <p:cNvPr id="384" name=""/>
              <p:cNvSpPr/>
              <p:nvPr/>
            </p:nvSpPr>
            <p:spPr>
              <a:xfrm>
                <a:off x="1676520" y="4813200"/>
                <a:ext cx="50796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720800" y="4776840"/>
                <a:ext cx="421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198520" y="5068800"/>
              <a:ext cx="239904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36760" y="4368960"/>
              <a:ext cx="165240" cy="164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29080" y="3733920"/>
              <a:ext cx="16488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14880" y="3365640"/>
              <a:ext cx="164880" cy="139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54360" y="28065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122560" y="4548240"/>
              <a:ext cx="23976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452680" y="3912840"/>
              <a:ext cx="17640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795760" y="3506760"/>
              <a:ext cx="480960" cy="23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93840" y="6566040"/>
            <a:ext cx="6121440" cy="22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82760" indent="-4827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ředpoklad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Každá osoba musí souhlasit s každým rozhodnutí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ůsledek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ikdo si nemůže pohoršit. Vyjdeme-li z E, musí všechny výsledky rozhodnutí ležet v oblasti EX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7200" y="299520"/>
            <a:ext cx="582948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Většinové pravidlo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" y="5899320"/>
            <a:ext cx="66484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genda: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ětšinová skupina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de hlasovat pro zlepšení vlastního důchod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apř. EL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- efektivně a spravedlivě EL,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 neefektivně a nespravedlnost,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- kdy bod M přináší skupině 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ejvyšší důc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-1984320" y="926640"/>
            <a:ext cx="8232840" cy="7248240"/>
            <a:chOff x="-1984320" y="926640"/>
            <a:chExt cx="8232840" cy="7248240"/>
          </a:xfrm>
        </p:grpSpPr>
        <p:sp>
          <p:nvSpPr>
            <p:cNvPr id="398" name=""/>
            <p:cNvSpPr/>
            <p:nvPr/>
          </p:nvSpPr>
          <p:spPr>
            <a:xfrm>
              <a:off x="1486080" y="3789360"/>
              <a:ext cx="39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247920" y="1631880"/>
              <a:ext cx="1990800" cy="1251000"/>
              <a:chOff x="3247920" y="1631880"/>
              <a:chExt cx="1990800" cy="1251000"/>
            </a:xfrm>
          </p:grpSpPr>
          <p:sp>
            <p:nvSpPr>
              <p:cNvPr id="400" name=""/>
              <p:cNvSpPr/>
              <p:nvPr/>
            </p:nvSpPr>
            <p:spPr>
              <a:xfrm>
                <a:off x="3247920" y="1631880"/>
                <a:ext cx="1811520" cy="1251000"/>
              </a:xfrm>
              <a:custGeom>
                <a:avLst/>
                <a:gdLst>
                  <a:gd name="textAreaLeft" fmla="*/ 66960 w 1811520"/>
                  <a:gd name="textAreaRight" fmla="*/ 1744560 w 1811520"/>
                  <a:gd name="textAreaTop" fmla="*/ 46080 h 1251000"/>
                  <a:gd name="textAreaBottom" fmla="*/ 999000 h 125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90" y="0"/>
                    </a:moveTo>
                    <a:arcTo wR="3590" hR="3590" stAng="16200000" swAng="-5400000"/>
                    <a:lnTo>
                      <a:pt x="0" y="14460"/>
                    </a:lnTo>
                    <a:arcTo wR="3590" hR="3590" stAng="10800000" swAng="-5400000"/>
                    <a:lnTo>
                      <a:pt x="1795" y="21600"/>
                    </a:lnTo>
                    <a:lnTo>
                      <a:pt x="5420" y="18050"/>
                    </a:lnTo>
                    <a:lnTo>
                      <a:pt x="18010" y="18050"/>
                    </a:lnTo>
                    <a:arcTo wR="3590" hR="3590" stAng="5400000" swAng="-5400000"/>
                    <a:lnTo>
                      <a:pt x="21600" y="3590"/>
                    </a:lnTo>
                    <a:arcTo wR="3590" hR="3590" stAng="0" swAng="-5400000"/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87680" y="1717560"/>
                <a:ext cx="1751040" cy="8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Dostupné důchod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028960" y="45259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14760" y="42210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4760" y="34560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6320" y="5211720"/>
              <a:ext cx="43722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ůchod skupiny A (většina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-1404720" y="2923920"/>
              <a:ext cx="44830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Důchod skupiny B (menšina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-1984320" y="1479600"/>
              <a:ext cx="6977160" cy="6695280"/>
              <a:chOff x="-1984320" y="1479600"/>
              <a:chExt cx="6977160" cy="669528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1190520" y="1479600"/>
                <a:ext cx="3802320" cy="3655800"/>
                <a:chOff x="1190520" y="1479600"/>
                <a:chExt cx="3802320" cy="36558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1190520" y="1479600"/>
                  <a:ext cx="0" cy="3655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93760" y="5135400"/>
                  <a:ext cx="3799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-1984320" y="2079720"/>
                <a:ext cx="6387840" cy="609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43" swAng="54085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43" swAng="540854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959120" y="2165400"/>
              <a:ext cx="677880" cy="2970000"/>
              <a:chOff x="1959120" y="2165400"/>
              <a:chExt cx="677880" cy="2970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959120" y="2165400"/>
                <a:ext cx="63360" cy="2970000"/>
                <a:chOff x="1959120" y="2165400"/>
                <a:chExt cx="63360" cy="2970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986120" y="2165400"/>
                  <a:ext cx="0" cy="2970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959120" y="407196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001960" y="3613320"/>
                <a:ext cx="635040" cy="888840"/>
                <a:chOff x="2001960" y="3613320"/>
                <a:chExt cx="635040" cy="88884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001960" y="3613320"/>
                  <a:ext cx="635040" cy="604800"/>
                  <a:chOff x="2001960" y="3613320"/>
                  <a:chExt cx="635040" cy="60480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2001960" y="3613320"/>
                    <a:ext cx="635040" cy="483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03400" y="4116240"/>
                    <a:ext cx="633600" cy="101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0" name=""/>
                <p:cNvSpPr/>
                <p:nvPr/>
              </p:nvSpPr>
              <p:spPr>
                <a:xfrm>
                  <a:off x="2003400" y="4098960"/>
                  <a:ext cx="54000" cy="403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2813040" y="3195720"/>
              <a:ext cx="347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44720" y="4078440"/>
              <a:ext cx="374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79720" y="4481640"/>
              <a:ext cx="31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yklické hlasování, hlasovací paradox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8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zniká, pokud žádný jednotlivý program nemůže docílit většinu proti všem ostatním programů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. 3 voliči, 3 alternativ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752400" y="5676840"/>
          <a:ext cx="521964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676840"/>
                    <a:ext cx="521964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Kdo vítězí?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4360" y="21160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 A x B - vítěz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hlas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 A x C - vítěz 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hlas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 B x C - vítěz B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hlas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&gt; 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&gt; 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žnost zneužití při postupném hlasování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kolo A x B, 2. kolo A x C - C je vítě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kolo A x C, 2. kolo C x B - B je vítě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kolo B x C, 2. kolo B x A - A je vítě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. A. de Condorcet (18. st) - “hlasovací” parado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. Arrow - theorem nemož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K. Arrow - zákon nemožnosti (Arrowova věta)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xistuje žádná hlasovací metoda na principu většinového pravidla, KTERÁ NEZÁVISÍ NA JEDNACÍM POŘÁDKU, ZARUČUJE EFEKTIVNOST, RESPEKTUJE  INDIVID. PREFER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05040" y="2449440"/>
            <a:ext cx="5735520" cy="4502160"/>
            <a:chOff x="905040" y="2449440"/>
            <a:chExt cx="5735520" cy="4502160"/>
          </a:xfrm>
        </p:grpSpPr>
        <p:sp>
          <p:nvSpPr>
            <p:cNvPr id="435" name=""/>
            <p:cNvSpPr/>
            <p:nvPr/>
          </p:nvSpPr>
          <p:spPr>
            <a:xfrm>
              <a:off x="1973160" y="4391640"/>
              <a:ext cx="1174680" cy="108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149640" y="3222000"/>
              <a:ext cx="1182600" cy="227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3160" y="3247560"/>
              <a:ext cx="2306880" cy="22579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971720" y="3222000"/>
              <a:ext cx="1174680" cy="2270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49640" y="3222000"/>
              <a:ext cx="1157400" cy="116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905040" y="2449440"/>
              <a:ext cx="4485960" cy="3882960"/>
              <a:chOff x="905040" y="2449440"/>
              <a:chExt cx="4485960" cy="3882960"/>
            </a:xfrm>
          </p:grpSpPr>
          <p:sp>
            <p:nvSpPr>
              <p:cNvPr id="441" name=""/>
              <p:cNvSpPr/>
              <p:nvPr/>
            </p:nvSpPr>
            <p:spPr>
              <a:xfrm>
                <a:off x="917640" y="2449440"/>
                <a:ext cx="0" cy="388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905040" y="6321240"/>
                <a:ext cx="4485960" cy="1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1827360" y="3106080"/>
              <a:ext cx="2622240" cy="2513160"/>
              <a:chOff x="1827360" y="3106080"/>
              <a:chExt cx="2622240" cy="2513160"/>
            </a:xfrm>
          </p:grpSpPr>
          <p:sp>
            <p:nvSpPr>
              <p:cNvPr id="444" name=""/>
              <p:cNvSpPr/>
              <p:nvPr/>
            </p:nvSpPr>
            <p:spPr>
              <a:xfrm>
                <a:off x="2990880" y="4269240"/>
                <a:ext cx="262080" cy="24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27360" y="4269240"/>
                <a:ext cx="261720" cy="24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62320" y="4269240"/>
                <a:ext cx="262080" cy="24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90880" y="3106080"/>
                <a:ext cx="262080" cy="2412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90880" y="5378400"/>
                <a:ext cx="262080" cy="24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187880" y="3118680"/>
                <a:ext cx="261720" cy="24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27360" y="3118680"/>
                <a:ext cx="261720" cy="24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39960" y="5378400"/>
                <a:ext cx="261720" cy="24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49720" y="5378400"/>
                <a:ext cx="260280" cy="24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697040" y="6419880"/>
              <a:ext cx="495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87560" y="6407280"/>
              <a:ext cx="470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32360" y="6432480"/>
              <a:ext cx="65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10360" y="6343560"/>
              <a:ext cx="612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70280" y="2928600"/>
              <a:ext cx="1865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) voli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70280" y="4104360"/>
              <a:ext cx="1735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3) voli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70280" y="5258160"/>
              <a:ext cx="1970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1) voli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849240" y="1135080"/>
            <a:ext cx="478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loha voliče - mediá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0280" y="1944720"/>
            <a:ext cx="5651280" cy="4131720"/>
            <a:chOff x="530280" y="1944720"/>
            <a:chExt cx="5651280" cy="4131720"/>
          </a:xfrm>
        </p:grpSpPr>
        <p:sp>
          <p:nvSpPr>
            <p:cNvPr id="462" name=""/>
            <p:cNvSpPr/>
            <p:nvPr/>
          </p:nvSpPr>
          <p:spPr>
            <a:xfrm>
              <a:off x="906480" y="2590560"/>
              <a:ext cx="524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03240" y="1944720"/>
              <a:ext cx="0" cy="354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05040" y="5486040"/>
              <a:ext cx="507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708280" y="2595600"/>
              <a:ext cx="1598760" cy="2889720"/>
              <a:chOff x="2708280" y="2595600"/>
              <a:chExt cx="1598760" cy="2889720"/>
            </a:xfrm>
          </p:grpSpPr>
          <p:sp>
            <p:nvSpPr>
              <p:cNvPr id="466" name=""/>
              <p:cNvSpPr/>
              <p:nvPr/>
            </p:nvSpPr>
            <p:spPr>
              <a:xfrm rot="10800000">
                <a:off x="3128040" y="2595600"/>
                <a:ext cx="839520" cy="153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9" y="12768"/>
                    </a:moveTo>
                    <a:arcTo wR="10800" hR="10800" stAng="629964" swAng="47700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9" y="12768"/>
                    </a:moveTo>
                    <a:arcTo wR="10800" hR="10800" stAng="629964" swAng="477003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0800000">
                <a:off x="3067920" y="2595600"/>
                <a:ext cx="838800" cy="153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9" y="21600"/>
                    </a:moveTo>
                    <a:arcTo wR="10800" hR="10800" stAng="5413049" swAng="47663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9" y="21600"/>
                    </a:moveTo>
                    <a:arcTo wR="10800" hR="10800" stAng="5413049" swAng="476633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708280" y="3205800"/>
                <a:ext cx="417600" cy="225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89440" y="3229560"/>
                <a:ext cx="417600" cy="225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498480" y="2595240"/>
              <a:ext cx="1583280" cy="2878920"/>
              <a:chOff x="3498480" y="2595240"/>
              <a:chExt cx="1583280" cy="2878920"/>
            </a:xfrm>
          </p:grpSpPr>
          <p:sp>
            <p:nvSpPr>
              <p:cNvPr id="471" name=""/>
              <p:cNvSpPr/>
              <p:nvPr/>
            </p:nvSpPr>
            <p:spPr>
              <a:xfrm rot="10800000">
                <a:off x="3913200" y="2595240"/>
                <a:ext cx="829080" cy="152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22" y="12755"/>
                    </a:moveTo>
                    <a:arcTo wR="10800" hR="10800" stAng="625626" swAng="48007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22" y="12755"/>
                    </a:moveTo>
                    <a:arcTo wR="10800" hR="10800" stAng="625626" swAng="4800772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0800000">
                <a:off x="3857760" y="2595240"/>
                <a:ext cx="828360" cy="152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7" y="21600"/>
                    </a:moveTo>
                    <a:arcTo wR="10800" hR="10800" stAng="5426397" swAng="47573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7" y="21600"/>
                    </a:moveTo>
                    <a:arcTo wR="10800" hR="10800" stAng="5426397" swAng="4757368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498480" y="3204000"/>
                <a:ext cx="412920" cy="2248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668840" y="3226320"/>
                <a:ext cx="412920" cy="224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298760" y="2595600"/>
              <a:ext cx="1595520" cy="2889720"/>
              <a:chOff x="4298760" y="2595600"/>
              <a:chExt cx="1595520" cy="2889720"/>
            </a:xfrm>
          </p:grpSpPr>
          <p:sp>
            <p:nvSpPr>
              <p:cNvPr id="476" name=""/>
              <p:cNvSpPr/>
              <p:nvPr/>
            </p:nvSpPr>
            <p:spPr>
              <a:xfrm rot="10800000">
                <a:off x="4717440" y="2595600"/>
                <a:ext cx="835560" cy="153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23" y="12747"/>
                    </a:moveTo>
                    <a:arcTo wR="10800" hR="10800" stAng="623006" swAng="48031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23" y="12747"/>
                    </a:moveTo>
                    <a:arcTo wR="10800" hR="10800" stAng="623006" swAng="480319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0800000">
                <a:off x="4661280" y="2595600"/>
                <a:ext cx="834840" cy="153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8" y="21600"/>
                    </a:moveTo>
                    <a:arcTo wR="10800" hR="10800" stAng="5426196" swAng="47601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8" y="21600"/>
                    </a:moveTo>
                    <a:arcTo wR="10800" hR="10800" stAng="5426196" swAng="4760133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4298760" y="3207240"/>
                <a:ext cx="415800" cy="225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78480" y="3227760"/>
                <a:ext cx="415800" cy="225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910880" y="2595600"/>
              <a:ext cx="1557720" cy="2889720"/>
              <a:chOff x="1910880" y="2595600"/>
              <a:chExt cx="1557720" cy="2889720"/>
            </a:xfrm>
          </p:grpSpPr>
          <p:sp>
            <p:nvSpPr>
              <p:cNvPr id="481" name=""/>
              <p:cNvSpPr/>
              <p:nvPr/>
            </p:nvSpPr>
            <p:spPr>
              <a:xfrm rot="10800000">
                <a:off x="2318760" y="2595600"/>
                <a:ext cx="816840" cy="153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9" y="12769"/>
                    </a:moveTo>
                    <a:arcTo wR="10800" hR="10800" stAng="630288" swAng="4796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9" y="12769"/>
                    </a:moveTo>
                    <a:arcTo wR="10800" hR="10800" stAng="630288" swAng="4796519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0800000">
                <a:off x="2264040" y="2595600"/>
                <a:ext cx="815400" cy="153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6" y="21600"/>
                    </a:moveTo>
                    <a:arcTo wR="10800" hR="10800" stAng="5426808" swAng="47593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6" y="21600"/>
                    </a:moveTo>
                    <a:arcTo wR="10800" hR="10800" stAng="5426808" swAng="4759305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1910880" y="3207240"/>
                <a:ext cx="406440" cy="225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062160" y="3227760"/>
                <a:ext cx="406440" cy="225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098360" y="2603160"/>
              <a:ext cx="1595520" cy="2882160"/>
              <a:chOff x="1098360" y="2603160"/>
              <a:chExt cx="1595520" cy="2882160"/>
            </a:xfrm>
          </p:grpSpPr>
          <p:sp>
            <p:nvSpPr>
              <p:cNvPr id="486" name=""/>
              <p:cNvSpPr/>
              <p:nvPr/>
            </p:nvSpPr>
            <p:spPr>
              <a:xfrm rot="10800000">
                <a:off x="1517040" y="2603160"/>
                <a:ext cx="835560" cy="153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22" y="12750"/>
                    </a:moveTo>
                    <a:arcTo wR="10800" hR="10800" stAng="624268" swAng="48019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22" y="12750"/>
                    </a:moveTo>
                    <a:arcTo wR="10800" hR="10800" stAng="624268" swAng="4801928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0800000">
                <a:off x="1460520" y="2603160"/>
                <a:ext cx="835200" cy="153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8" y="21600"/>
                    </a:moveTo>
                    <a:arcTo wR="10800" hR="10800" stAng="5426196" swAng="47588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8" y="21600"/>
                    </a:moveTo>
                    <a:arcTo wR="10800" hR="10800" stAng="5426196" swAng="475889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1098360" y="3212640"/>
                <a:ext cx="415800" cy="225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78080" y="3233160"/>
                <a:ext cx="415800" cy="225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606680" y="2057040"/>
              <a:ext cx="571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06600" y="2057040"/>
              <a:ext cx="5716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13000" y="2057040"/>
              <a:ext cx="5716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97440" y="2057040"/>
              <a:ext cx="571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09960" y="2057040"/>
              <a:ext cx="5716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0280" y="2031840"/>
              <a:ext cx="31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9920" y="5587920"/>
              <a:ext cx="4316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87800" y="5549760"/>
              <a:ext cx="4665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52280" y="6095880"/>
            <a:ext cx="6648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rozděluje soubor voličů (lichý počet) do dvou stejných podsoubor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Demokracie dvou politických stran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27000" y="3157560"/>
            <a:ext cx="463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54040" y="303372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79800" y="2982960"/>
            <a:ext cx="0" cy="32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7400" y="3008160"/>
            <a:ext cx="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08280" y="300816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87960" y="298296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52640" y="333216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 C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03280" y="3333600"/>
            <a:ext cx="147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G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 C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55720" y="3359160"/>
            <a:ext cx="72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G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82920" y="3382920"/>
            <a:ext cx="65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 C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37040" y="3308400"/>
            <a:ext cx="80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66880" y="4011480"/>
            <a:ext cx="59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G = veřejné výd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26920" y="4888080"/>
            <a:ext cx="4861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CE"/>
              </a:rPr>
              <a:t>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 CE"/>
              </a:rPr>
              <a:t>M </a:t>
            </a:r>
            <a:r>
              <a:rPr b="1" lang="en-US" sz="3600" spc="-1" strike="noStrike">
                <a:solidFill>
                  <a:srgbClr val="000000"/>
                </a:solidFill>
                <a:latin typeface="Times New Roman CE"/>
              </a:rPr>
              <a:t>- preferuje volič medi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Zájmové skupiny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- použití tří mechanizmů síly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oskytování informací voličům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oskytování informací politikům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přímá či nepřímá podplácení politiků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- altruističtí politici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u</a:t>
            </a:r>
            <a:r>
              <a:rPr b="1" lang="en-US" sz="3000" spc="-1" strike="noStrike">
                <a:solidFill>
                  <a:srgbClr val="000000"/>
                </a:solidFill>
                <a:latin typeface="Times New Roman CE"/>
              </a:rPr>
              <a:t>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sný politický systém vede k neefektivnosti a preferenci soukromých zájmů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utnost kontroly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2520" y="46188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Příčiny státních zásahů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2520" y="1973160"/>
            <a:ext cx="58294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konomick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moekonomické (neekonomické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2880" y="4151160"/>
            <a:ext cx="58294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Cílem těchto zásahů je dosažení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2880" y="5880240"/>
            <a:ext cx="58294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ektiv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aved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Širší ekonomický přístup k veřejným financím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23440" y="5676480"/>
            <a:ext cx="5830920" cy="32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o je subjektem veřejné politiky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veřejná správa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2762280" y="7300440"/>
            <a:ext cx="3571920" cy="132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1" marL="646200" indent="-2484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tátní správa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samospráva (např. územní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1000" y="2487600"/>
            <a:ext cx="3474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objektivní příči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54240" y="3097080"/>
            <a:ext cx="3881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potřeba veřejné vol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3786120"/>
            <a:ext cx="3470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veřejné finance jako nástroj této politik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98960" y="4602240"/>
            <a:ext cx="3468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veřejný sektor jako důsledek této politik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6280" y="622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Teorie veřejné ekonomiky x Veřejné finance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eřejná ekonomika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konomika veřejného sektor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rancouzský ekvivalent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conomie publiqu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glický ekvivalent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public sector economic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Tři faktory změn v pojetí veřejných financí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měny ekonomické a sociální struktury společnos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měny v chápání úlohy stá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měny ve fiskální politice vlá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Novodobé dějiny fiskální teorie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 období klasických financí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do 30. let 20. stolet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 období moderních financ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od 30. let 20. stolet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keynesiánci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eoklasici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59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ocialistické fin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14440" y="10224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14440" y="804960"/>
            <a:ext cx="2838240" cy="39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. Raší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inistr financ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918-191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922-192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05320" y="823680"/>
            <a:ext cx="2838240" cy="41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. Engliš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inistr financ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920-192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925-192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uvernér ČN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929-193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1760" y="5211720"/>
            <a:ext cx="60642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* teleologická hospodářská te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on č. 95/1948 Sb. o rozpočtovém provizo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on č. 433/1919 o státním rozpočtu Československé republiky (schválen v červnu 19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12280" y="203040"/>
            <a:ext cx="582948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6240" y="1174680"/>
            <a:ext cx="6705720" cy="781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Hamerníková, B. a kol.: Veřejné finance. Victoria Publishing, Praha 1996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usgrave, R.A. a Musgraveová, P.B.: Veřejné finance v teorii a praxi. Management Press, 1994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tiglitz, J.E.: Economics of the Public Sector. Princenton University, W.W. Norton &amp; com. Nex York - Lond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Brown, C.V., Jackson, P.M.: Public Sector Economics. Blackwell Publisers, 1994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Bénard, J.: Veřejná ekonomika I, II, III. EÚ ČSAV, Praha 1989-1991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5040" y="1123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poručená literatura ke studiu 1. tématu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42800" y="1649160"/>
            <a:ext cx="6243840" cy="692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Hamerníková, B. a kol.: Veřejné finance. Victoria Publishing. Praha 1996 - 1. kap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usgrave, R.A., Musgrave, P.B.: Veřejné finance v teorii a praxi. Management Press, Praha 1994 - 7. kap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amuelson, P.A., Nordhaus, W.D.: Ekonomie. Svoboda, Praha 1991 - 3, 32, 33 kap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Klaus, V.: James Buchanan (Nositel Nobelovy ceny za ekonomii v roce 1986). Ekonomická reforma. Genex, Praha 1991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1360" y="93600"/>
            <a:ext cx="582912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14440" y="838080"/>
            <a:ext cx="5829120" cy="72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Klvačová, E.: Funkce státu v ekonomice. Politická ekonomie, č. 38, 1990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Klvačová, E.: Stát by neměl škodit. Ekonom 1995, č. 14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uček, M.: 50 let veřejných financí v České republice (1945 - 1995). Finance a úvěr, 1995 č. 9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Vencovský, F.: Státní finance v historii Československa - období 1918 - 1947. Finance a úvěr, 1994 č. 8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514440" y="926640"/>
            <a:ext cx="5829120" cy="720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. Tullock: „rent seeking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obb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ranické zájm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40" y="812880"/>
            <a:ext cx="6477120" cy="33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Vzácnost (omezenost) zdrojů a alternativnost jejich použití a klíčové (universální) otázky alokace a rozdělování.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6280" y="4247640"/>
            <a:ext cx="5829120" cy="33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lišné ekonomické přístupy k těmto otázkám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rimitivní společenství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ržní systém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říkazový systém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14440" y="456840"/>
            <a:ext cx="5829120" cy="79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unkčnost ekonomického systém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ritérium - dosažení ekonomického optim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homo economicu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tovské optimum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V. Pareto, lausanská škola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unkčnost tržního systému při dosažení optima - tržní selhání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(market failure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činy tržního selhá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) mikroekonomick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b) makroekonomick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) mimoekonomické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520" y="693720"/>
            <a:ext cx="582948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Mikroekonomické důvody tržního selhání při efektivní alokaci zdrojů: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3611160"/>
            <a:ext cx="582912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dokonalá konkurence - monopol, přirozený monop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terna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eřejné statk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ormace tržních cen - snížení efektivnosti tržní alok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74360"/>
            <a:ext cx="6286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0000"/>
                </a:solidFill>
                <a:uFillTx/>
                <a:latin typeface="Times New Roman"/>
              </a:rPr>
              <a:t>Samuelson, P.A.: „The pure theory of public expenditure“ 1954</a:t>
            </a:r>
            <a:endParaRPr b="1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1000" y="2590920"/>
            <a:ext cx="192420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atky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866960" y="2590920"/>
            <a:ext cx="495288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Times New Roman"/>
              </a:rPr>
              <a:t>privátní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(princip vylučitelnosti a rivality spotřebitele/ů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Times New Roman"/>
              </a:rPr>
              <a:t>veřejné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nedělitelnost spotřeby (nesoutěživost spotřebitele/ů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nevylučitelnost ze spotřeby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nulové mezní náklady na spotřebu každého dalšího spotřebitel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53960" y="3011040"/>
            <a:ext cx="455760" cy="1904040"/>
            <a:chOff x="1353960" y="3011040"/>
            <a:chExt cx="455760" cy="1904040"/>
          </a:xfrm>
        </p:grpSpPr>
        <p:sp>
          <p:nvSpPr>
            <p:cNvPr id="104" name=""/>
            <p:cNvSpPr/>
            <p:nvPr/>
          </p:nvSpPr>
          <p:spPr>
            <a:xfrm flipV="1">
              <a:off x="1353960" y="3011040"/>
              <a:ext cx="454320" cy="9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5760" y="3965400"/>
              <a:ext cx="453960" cy="94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Klazar</dc:creator>
  <dc:description/>
  <dc:language>en-US</dc:language>
  <cp:lastModifiedBy>Petr Ježek</cp:lastModifiedBy>
  <cp:lastPrinted>1999-02-15T12:58:08Z</cp:lastPrinted>
  <dcterms:modified xsi:type="dcterms:W3CDTF">1999-02-15T13:11:24Z</dcterms:modified>
  <cp:revision>67</cp:revision>
  <dc:subject/>
  <dc:title>No Slide Title</dc:title>
</cp:coreProperties>
</file>