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2D5-4311-4710-A2F4-9CDDA29D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BBAB-8E35-4FB8-ADE9-A79D9102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07BB-A211-42ED-829B-BD3D3B83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686-25C8-441A-8A24-2D348820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C9A7-A1B2-46F2-A9CD-7EFEB363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5758-CBD2-4255-853B-C0504131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CCE2-422E-4770-A3CF-71B9568B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F913-0AAF-4171-A870-F8E4DD53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F05C-3733-4CCA-81BA-3B4A360E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EDA3-97B6-4B6C-B55D-944D1290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B694-FFB9-4E32-A092-E1B8EAD1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21E-88DF-408A-9BA4-86D83707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AD3A-0F25-4266-AE71-3601428A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9585-2117-4BE0-A8A1-ED285907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BEC0-4FA0-49BA-B081-98A912CA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B323-9930-4F35-90E6-A2A8D945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CEF6-97BC-4E5B-A26D-B8288697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E53-CF5D-493A-9376-CE145F85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BEB-C7AA-469D-A313-29635B8D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591-3908-4F24-BF9C-7D9A9B16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254-A28C-4E06-8966-D5EA408F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D26-BCCB-4307-9980-281C31A3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704-CA9A-4D6F-BE3B-6A2EBBEE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A12-436B-4575-95AE-26750994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62D1-1665-4A4F-904C-521126607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0E84-6D92-4B5E-AC0B-9BA75DC24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4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75"/>
              </a:spcBef>
              <a:buClr>
                <a:srgbClr val="000000"/>
              </a:buClr>
              <a:buSzPct val="59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2. téma: 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Státní rozpočet, soustava veřejných rozpočtů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507760"/>
            <a:ext cx="7772400" cy="36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 Pojetí a funkce státního rozpočt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Rozpočtová soustava, rozpočtový proces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očtová skladb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3 Veřejné rozpočty v Č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Rozpočtová soustava ČR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3440" y="1496520"/>
            <a:ext cx="8953560" cy="4808520"/>
            <a:chOff x="163440" y="1496520"/>
            <a:chExt cx="8953560" cy="4808520"/>
          </a:xfrm>
        </p:grpSpPr>
        <p:sp>
          <p:nvSpPr>
            <p:cNvPr id="101" name=""/>
            <p:cNvSpPr/>
            <p:nvPr/>
          </p:nvSpPr>
          <p:spPr>
            <a:xfrm flipV="1">
              <a:off x="1509840" y="1496520"/>
              <a:ext cx="647856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06600" y="1496880"/>
              <a:ext cx="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6440" y="1501560"/>
              <a:ext cx="0" cy="22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83360" y="151128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3440" y="1690560"/>
              <a:ext cx="3116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Veřejné rozp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76560" y="1699920"/>
              <a:ext cx="3097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tátní fond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54680" y="1558800"/>
              <a:ext cx="3262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tátní pojistné fond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5400" y="2541600"/>
              <a:ext cx="33656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tátní rozpočet Č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5400" y="3201840"/>
              <a:ext cx="263520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rozpočty obcí a okresních úřadů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5400" y="4174920"/>
              <a:ext cx="284652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rozpočty RO/P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37120" y="2500200"/>
              <a:ext cx="377172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ondy tržní regulace v zemědělství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37120" y="3230280"/>
              <a:ext cx="399888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. životního prostředí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37120" y="3805200"/>
              <a:ext cx="382572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. zúrodnění půd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37120" y="4295520"/>
              <a:ext cx="437832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. pro podporu a rozvoj české kinematografi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37120" y="4995720"/>
              <a:ext cx="27288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. kultur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37120" y="5452920"/>
              <a:ext cx="351468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. národního majetk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37120" y="5895720"/>
              <a:ext cx="35193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pozemkový fon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87840" y="2050920"/>
              <a:ext cx="0" cy="4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954240" y="2469960"/>
              <a:ext cx="633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33720" y="2462040"/>
              <a:ext cx="0" cy="363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41640" y="2714400"/>
              <a:ext cx="15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48120" y="34336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46680" y="40021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8120" y="46069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48120" y="51926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48120" y="56577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27600" y="60912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8920" y="2038320"/>
              <a:ext cx="0" cy="42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4520" y="27432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6600" y="35668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6880" y="437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01560" y="2460600"/>
              <a:ext cx="9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0120" y="2457360"/>
              <a:ext cx="0" cy="191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63840" y="5440320"/>
              <a:ext cx="361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1000" y="885960"/>
            <a:ext cx="3168360" cy="52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PGRLF a.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EGA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ČE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ČMZR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630600" y="885960"/>
            <a:ext cx="5153040" cy="52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18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dpůrný a garanční rolnický a lesnický fo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ortní garanční a pojišťovací společnost, a.s. (r. 199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Česká exportní bank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r. 1994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Českomoravská záruční a rozvojová banka, a.s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r. 199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Orgány rozpočtové soustavy v ČR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F Č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Í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ÚŘADY - 223 (75 OKRESŮ A 12 OBVODŮ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Í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ŘEDITELSTVÍ - 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Í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DBORY MĚST, OBCÍ, RO, P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Rozpočtové zásady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aždoročního sestavování a schvalová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álnosti a pravdivost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úplnosti a jednotnost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louhodobé vyrovnanost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blic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Nová rozpočtová skladba (opatření MF ČR č.j. 111/74200/1997)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etodické změny při zpracování návrhu státního rozpočtu - preference funkčního (programového) přístupu před tzv. organizačním přístupem (od r. 1998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3 způsoby třídění peněžních operací 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apitolní členění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respektuje působnost a odpovědnost subjektu v němž se realizují peněžní operace. Máme 35 kapitol SR. (příloha č. 1 opatření MF ČR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635040"/>
            <a:ext cx="7772400" cy="52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1059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Druhové třídění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- člení peněžní operace na příjmy, výdaje a tzv. financující operace (příloha č. 2 opatření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5984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59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X třídy (1 místný číselný kó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59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XX seskupení položek (2 místný kód; první číslo = třídě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59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XXX podseskupení položek (3 míst. kód; první 2 čísla = seskupení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59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XXXX položky (4 místný kód; první 3 čísla =  podseskupení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296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84280" y="358920"/>
            <a:ext cx="7772400" cy="539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1179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kční členěn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používá se jen pro členění nenávratných výdajů a příjmů (viz §5 odst. 2 a 4 opatření a příloha č. 2, 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79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79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skupina (1 místný číselný kó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79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X oddíly (2 místný kód; první číslo = skupině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79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XX pododdíly (3 místný kód; první 2 č. = oddílu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79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XXX paragrafy (4 míst kód; první 3 č.= pododdílu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79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8476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736200"/>
            <a:ext cx="7772400" cy="53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íloha č. 1: k Zákonu o SR  je tzv. úhrnná bilance příjmů                            a výdajů státního rozpočtu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íloha č. 2: Celkové příjmy SR podle kapit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íloha č. 3: Celkové výdaje SR podle kapit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9440" y="734760"/>
            <a:ext cx="9033120" cy="50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ilance příjmů a výdajů SR podle druhového členění dle rozpočtové skladby, kde rozlišujeme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 (třída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P (seskupení položek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SP (podseskupení položek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 (položka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OD (pododdíly) rozpočtové skladb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ýdaje SR (funkční členění dle rozpočtové skladby), kde rozlišujeme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kupina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oddí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ododdí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aragraf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0" y="284040"/>
            <a:ext cx="91440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V tzv. tabulkové části návrhu SR najdeme:</a:t>
            </a:r>
            <a:br>
              <a:rPr sz="3800"/>
            </a:b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139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83196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0 tis. Kč á 1 000,- Kč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= 2c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mld. Kč á 1 000,- Kč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= 200 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480 mld. Kč á 1 000,- Kč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= 96 k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on č. 90/1995 Sb. o jednacím řádu Poslanecké sněmovn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posé = úřední výkla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Základní východiska pro rozpočtovou politiku vlády na r. 1999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mové prohlášení vlád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konomická situace republik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ědictví“ stavu státních a vůbec veřejných financ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080" y="609120"/>
            <a:ext cx="905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Rekapitulace k hospodaření SR</a:t>
            </a:r>
            <a:br>
              <a:rPr sz="3800"/>
            </a:b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(v mld. Kč)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332080" y="1754280"/>
          <a:ext cx="4629240" cy="481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1754280"/>
                    <a:ext cx="462924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alší rizika </a:t>
            </a:r>
            <a:br>
              <a:rPr sz="3800"/>
            </a:b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alizace záruky za ČS (4,1 mld. Kč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tráta Konsolidační banky z r. 1997 (10,4 mld. Kč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 1. návrhu deficit až ve výši 25,5 mld. K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e 2. návrhu deficit až ve výši 25,3 mld. K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3200" y="4643280"/>
            <a:ext cx="781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1280" y="6091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Hospodaření v rámci veřejných rozpočtů v r. 1998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97000" y="1949400"/>
          <a:ext cx="7135920" cy="51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7000" y="1949400"/>
                    <a:ext cx="713592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62080" y="609120"/>
            <a:ext cx="861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Odhad výsledků jednotlivých součástí veř. rozpočtů na r. 1998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5720" y="1981080"/>
          <a:ext cx="8140680" cy="434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1981080"/>
                    <a:ext cx="8140680" cy="43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ákladní principy a priority rozpočtové politiky vlády r. 1999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1600" y="1819440"/>
            <a:ext cx="8740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R musí působit ve prospěch nastartování ekonomického růst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pora vzdělávání jako dlouhodobá investi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plnění závazků státu v sociální oblast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plnění závazků vyplývajících z mezinár. integrace Č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yšší motivace pracovníků veř. sektor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ysoká míra hospodárnosti v činnosti veř. správ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pora fungování místní správy a samospráv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7600" y="12996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hrnná bilance příjmů a výdajů státního rozpočtu - 1. návrh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3760" y="771480"/>
          <a:ext cx="9120240" cy="31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771480"/>
                    <a:ext cx="912024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50960" y="3465360"/>
          <a:ext cx="7677000" cy="366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0960" y="3465360"/>
                    <a:ext cx="76770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0" y="3886200"/>
          <a:ext cx="9144000" cy="3884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86200"/>
                    <a:ext cx="9144000" cy="38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665280" y="476280"/>
          <a:ext cx="8096040" cy="637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476280"/>
                    <a:ext cx="8096040" cy="63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779400" y="1400040"/>
          <a:ext cx="7937640" cy="47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1400040"/>
                    <a:ext cx="79376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5784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730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ÁTNÍ ROZPOČET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State budget)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EŘEJNÝ ROZPOČET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Public budget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LÁDNÍ ROZPOČET (Government budget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3 opatření v rámci veřejných příjmů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98200"/>
            <a:ext cx="7772400" cy="46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) novelizace zákona o daních z příjmů a zkrácení doby odepisování investičního majetku (odhad dopadu tohoto opatření je   - 3,7 mld. Kč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b) přiblížení sazeb tuzemských spotřebních daní sazbám v EU (dopad cca ve výši 5,9 mld. Kč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) zvýšení sazby pojistného na sociální zabezpečení, konkrétně na důchodové pojištění o 2,4 % bodu (dopad cca 9,1 mld. Kč) - v 1.verzi návrhu zákona o státním rozpočt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Odhad hospodaření jednotlivých součástí veř. rozpočtů na r. 1999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6680" y="2066760"/>
          <a:ext cx="4721040" cy="50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6680" y="2066760"/>
                    <a:ext cx="472104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Makroekonomické ukazatele - odhad na r. 1999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06520" y="2035080"/>
          <a:ext cx="6262560" cy="53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2035080"/>
                    <a:ext cx="626256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Vývoj hospodaření územních orgánů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96880" y="2003400"/>
          <a:ext cx="8021520" cy="44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2003400"/>
                    <a:ext cx="80215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omácí úkol v 5. týdnu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 metodické příručk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 73/7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 74/1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1500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96516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átní rozpoč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řejné rozpoč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řejná rozpočtová soustav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očtový pro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očtové zásad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očtová pravid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očtová skladb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očtové obdob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vý odhad vývoje makroekonomických  veličin  MF ČR a vlivy na rozpočet (1999):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97040" y="2193840"/>
          <a:ext cx="4821480" cy="35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7040" y="2193840"/>
                    <a:ext cx="4821480" cy="35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1360" y="1030320"/>
            <a:ext cx="7721280" cy="15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Zákon o státním rozpočtu České republiky na rok 1999 č. 22/1999 Sb. 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696960" y="1461960"/>
          <a:ext cx="7756560" cy="41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461960"/>
                    <a:ext cx="775656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Různé přístupy k SR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konomick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účet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áv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časov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87444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on o rozpočtovém provizoriu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. 95/1918 Sb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on o státním rozpočtu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. 433/1919 Sb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t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alší hlediska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7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7780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ynamické (Flow-toková veličina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7780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7780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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ické (peněžní fon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7780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7780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hypotetické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skutečno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7780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7780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ěžný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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kapitálov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Rozpočtový proces - 4 fáze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stavová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jednávání a schvále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izace (plnění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ntrola plnění (průběžná nebo následná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396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Základní problémy rozpočtového procesu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9400"/>
            <a:ext cx="7772400" cy="470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Kdo, kdy, na jaké období a podle jakých zásad sestavuje návrh rozpočtu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Kdo projednává a schvaluje návrh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 Jakým otázkám je věnována pozornos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) Kdo odpovídá za realizaci SR? Kdo zabezpečuj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kladní plnění rozpočt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) Kdo projednává a schvaluje státní závěrečný úče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07732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on č. 576/1990 Sb. o pravidlech hospodaření s rozp. prostředky ČR a obcí v ČR (rozpočtová pravidla republiky) v pozdějším znění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 upravují tzv. rozpočtová pravidla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22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vorbu, postavení a funkce státního rozpočtu ČR, státního závěrečného účtu ČR, rozpočtu obcí a okresních úřadů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22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stanoví zásady hospodaření a kontroly s rozpočtovými prostředk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22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příjmy a výdaje SR, rozpočtů obcí a OÚ a hospodaření státních fondů ČR 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>Klazar</dc:creator>
  <dc:description/>
  <dc:language>en-US</dc:language>
  <cp:lastModifiedBy>Petr Ježek</cp:lastModifiedBy>
  <cp:lastPrinted>1999-03-03T11:33:24Z</cp:lastPrinted>
  <dcterms:modified xsi:type="dcterms:W3CDTF">1999-03-03T11:39:34Z</dcterms:modified>
  <cp:revision>64</cp:revision>
  <dc:subject/>
  <dc:title>No Slide Title</dc:title>
</cp:coreProperties>
</file>