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7CA-2396-460A-A825-008132DD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AA4-13E3-41AD-99C1-1218D0DB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722-506A-4B00-A170-DAF40668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276-9949-479C-9175-DDD6C75D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1DCE-BD33-423E-B148-4A9C0DE6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3DC4-B8B6-45D9-B4B9-9F32DD80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BA53-1A06-43CB-95F2-FD9C65C2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0DC1-D438-4BDC-A3E3-4101442B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C99D-76DA-4141-9601-0BD6F65C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3627-94F9-4CF7-865E-299F3127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AD01-E0A3-4228-A92B-F0511933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B54-0AEF-4D59-AEA8-6EFEA9AF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2234-01AB-49D0-826E-AE880E61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EED4-CCCD-49E9-BEAF-EE570427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E232-B005-490C-984A-27C6D97A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F518-0DB7-47F2-A799-BC1624D3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A73E-CB23-4AFE-965E-0F0B252E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546-227D-49D0-BB54-7E69098A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6F2-CA37-470D-B432-025DEBD5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2E6-5BCE-43FA-9BE6-96E832A4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DC1-9479-47D8-9CB8-2732703F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433-BCFA-47F1-A173-4570A0DB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118-7797-4C60-A0D8-922E137D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3FB-086F-400E-9CDB-E33A4659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4A99-17A9-42C6-B08D-BB23939D0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5F67-41B3-40E0-8FCE-EB2896489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46980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7. téma: 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aňový systém v ČR, úvod do problematiky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760" y="2190240"/>
            <a:ext cx="6324480" cy="593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7.1 Cíle a postup daňové reformy v ČR (k 1. 1. 199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7.2 Zákon o soustavě daní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z. 212/1992 Sb.) a soustava daní v Č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7.3 Charakteristika jednotlivých typů daní vybíraných v Č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7.4 Vymezení pojmu celková odvodová povinno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7.5 Charakteristika nedaňových odvodových povinností v Č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(pojištění na sociální zabezpečení, zdravotní pojištění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Zjednodušené schéma výpočtu daně z příjmů fyzických osob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37960" y="2639880"/>
            <a:ext cx="6250320" cy="6232680"/>
            <a:chOff x="237960" y="2639880"/>
            <a:chExt cx="6250320" cy="6232680"/>
          </a:xfrm>
        </p:grpSpPr>
        <p:sp>
          <p:nvSpPr>
            <p:cNvPr id="202" name=""/>
            <p:cNvSpPr/>
            <p:nvPr/>
          </p:nvSpPr>
          <p:spPr>
            <a:xfrm>
              <a:off x="237960" y="2639880"/>
              <a:ext cx="6250320" cy="1360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veškeré příjmy poplatníka</a:t>
              </a:r>
              <a:br>
                <a:rPr sz="2000"/>
              </a:b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příjmy vyňaté ze zdanění</a:t>
              </a:r>
              <a:br>
                <a:rPr sz="2000"/>
              </a:b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příjmy tvořící samostatné daňové základy</a:t>
              </a:r>
              <a:br>
                <a:rPr sz="2000"/>
              </a:b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příjmy osvobozené od daně z příjmů fyzických oso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7960" y="5877000"/>
              <a:ext cx="6250320" cy="468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ZÁKLAD DANĚ z příjmů fyzických oso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37960" y="3992400"/>
              <a:ext cx="6250320" cy="1876320"/>
              <a:chOff x="237960" y="3992400"/>
              <a:chExt cx="6250320" cy="1876320"/>
            </a:xfrm>
          </p:grpSpPr>
          <p:sp>
            <p:nvSpPr>
              <p:cNvPr id="205" name=""/>
              <p:cNvSpPr/>
              <p:nvPr/>
            </p:nvSpPr>
            <p:spPr>
              <a:xfrm>
                <a:off x="237960" y="3992400"/>
                <a:ext cx="6250320" cy="1872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4920" y="4233960"/>
                <a:ext cx="1041120" cy="1387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říjmy ze závislé činnost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59080" y="4233960"/>
                <a:ext cx="1374480" cy="1387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jmy z podnikání a jiné samost. výdělečné činnosti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44800" y="4233960"/>
                <a:ext cx="1230480" cy="1387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říjmy z pronájm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282920" y="4233960"/>
                <a:ext cx="1090800" cy="1387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jmy z kapitá-lového majetk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484960" y="4233960"/>
                <a:ext cx="898200" cy="1387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ostatní příjm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089000" y="5291280"/>
                <a:ext cx="284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f0026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54200" y="5291280"/>
                <a:ext cx="284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f0026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89440" y="5291280"/>
                <a:ext cx="284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f0026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40440" y="5291280"/>
                <a:ext cx="284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f0026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00920" y="5291280"/>
                <a:ext cx="284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f002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820800" y="3992400"/>
                <a:ext cx="5137200" cy="250920"/>
                <a:chOff x="820800" y="3992400"/>
                <a:chExt cx="5137200" cy="2509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820800" y="4102200"/>
                  <a:ext cx="513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20800" y="4106880"/>
                  <a:ext cx="0" cy="13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141640" y="4097160"/>
                  <a:ext cx="0" cy="140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544920" y="3992400"/>
                  <a:ext cx="0" cy="24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840200" y="4097160"/>
                  <a:ext cx="0" cy="146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958000" y="4097160"/>
                  <a:ext cx="0" cy="146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820800" y="5621400"/>
                <a:ext cx="5137200" cy="247320"/>
                <a:chOff x="820800" y="5621400"/>
                <a:chExt cx="5137200" cy="2473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820800" y="5762520"/>
                  <a:ext cx="513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820800" y="5627520"/>
                  <a:ext cx="0" cy="13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2141640" y="5627160"/>
                  <a:ext cx="0" cy="140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3544920" y="5627160"/>
                  <a:ext cx="0" cy="241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4840200" y="5621400"/>
                  <a:ext cx="0" cy="146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5958000" y="5621400"/>
                  <a:ext cx="0" cy="146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237960" y="7458120"/>
              <a:ext cx="6250320" cy="468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DAŇOVÝ ZÁKLAD PO SNÍŽEN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7960" y="7932600"/>
              <a:ext cx="6250320" cy="468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*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ZBA DAN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7960" y="8404200"/>
              <a:ext cx="6250320" cy="468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=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7960" y="6357960"/>
              <a:ext cx="6250320" cy="1085760"/>
              <a:chOff x="237960" y="6357960"/>
              <a:chExt cx="6250320" cy="1085760"/>
            </a:xfrm>
          </p:grpSpPr>
          <p:sp>
            <p:nvSpPr>
              <p:cNvPr id="234" name=""/>
              <p:cNvSpPr/>
              <p:nvPr/>
            </p:nvSpPr>
            <p:spPr>
              <a:xfrm>
                <a:off x="237960" y="6357960"/>
                <a:ext cx="6250320" cy="10857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8040" y="6459480"/>
                <a:ext cx="6050160" cy="392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marL="343080" indent="-34308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f0026"/>
                    </a:solidFill>
                    <a:latin typeface="Times New Roman"/>
                  </a:rPr>
                  <a:t>-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ODČITATELNÉ POLOŽK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8040" y="6958080"/>
                <a:ext cx="6050160" cy="392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marL="343080" indent="-34308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f0026"/>
                    </a:solidFill>
                    <a:latin typeface="Times New Roman"/>
                  </a:rPr>
                  <a:t>-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NEZDANITELNÉ ČÁSTI ZÁKLADU DANĚ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Schéma úpravy základu daně a daně z příjmů fyzických osob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96880" y="2638440"/>
          <a:ext cx="6056280" cy="55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2638440"/>
                    <a:ext cx="6056280" cy="55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198960" y="3143160"/>
            <a:ext cx="0" cy="21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16040" y="3475080"/>
            <a:ext cx="22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2520" y="3468600"/>
            <a:ext cx="292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Přehled nezdanitelných částek základu daně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03040" y="2709720"/>
          <a:ext cx="6578640" cy="593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709720"/>
                    <a:ext cx="6578640" cy="59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Sazba daně z příjmů fyzických osob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3120" y="3586320"/>
          <a:ext cx="6415200" cy="34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586320"/>
                    <a:ext cx="641520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12280" y="52200"/>
            <a:ext cx="582948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040" y="1666800"/>
          <a:ext cx="6288120" cy="70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666800"/>
                    <a:ext cx="6288120" cy="70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293760" y="539640"/>
            <a:ext cx="6267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Členění příjmů fyzických osob podléhajících dani z příj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14440" y="464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Zjednodušené schéma výpočtu daně z příjmů právnických osob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62000" y="2351160"/>
            <a:ext cx="6586560" cy="6342120"/>
            <a:chOff x="162000" y="2351160"/>
            <a:chExt cx="6586560" cy="6342120"/>
          </a:xfrm>
        </p:grpSpPr>
        <p:sp>
          <p:nvSpPr>
            <p:cNvPr id="255" name=""/>
            <p:cNvSpPr/>
            <p:nvPr/>
          </p:nvSpPr>
          <p:spPr>
            <a:xfrm>
              <a:off x="162000" y="2351160"/>
              <a:ext cx="6586560" cy="2251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101520" indent="-10152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bf0026"/>
                  </a:solidFill>
                  <a:latin typeface="Times New Roman"/>
                </a:rPr>
                <a:t>veškeré příjmy právnických oso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1520" indent="-101520">
                <a:lnSpc>
                  <a:spcPct val="9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bf0026"/>
                  </a:solidFill>
                  <a:latin typeface="Times New Roman"/>
                </a:rPr>
                <a:t>-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 příjmy vyňaté ze zdanění </a:t>
              </a:r>
              <a:r>
                <a:rPr b="0" lang="cs-CZ" sz="1900" spc="-1" strike="noStrike">
                  <a:solidFill>
                    <a:srgbClr val="000000"/>
                  </a:solidFill>
                  <a:latin typeface="Times New Roman"/>
                </a:rPr>
                <a:t>(např. příjmy získané nabytím akcií v privatizaci, zděděním nebo darováním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1520" indent="-101520">
                <a:lnSpc>
                  <a:spcPct val="9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bf0026"/>
                  </a:solidFill>
                  <a:latin typeface="Times New Roman"/>
                </a:rPr>
                <a:t>-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 osvobozené příjmy </a:t>
              </a:r>
              <a:r>
                <a:rPr b="0" lang="cs-CZ" sz="1900" spc="-1" strike="noStrike">
                  <a:solidFill>
                    <a:srgbClr val="000000"/>
                  </a:solidFill>
                  <a:latin typeface="Times New Roman"/>
                </a:rPr>
                <a:t>(např. příjmy bytových družstev z nájem-ného za družstevní byty, úrokové výnosy ze st. dluhopisů)</a:t>
              </a:r>
              <a:r>
                <a:rPr b="1" lang="cs-CZ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1520" indent="-10152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bf0026"/>
                  </a:solidFill>
                  <a:latin typeface="Times New Roman"/>
                </a:rPr>
                <a:t>- 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říjmy tvořící samostatné daňové základy a zdaňované srážkou u zdroje příjm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2000" y="4616280"/>
              <a:ext cx="6586560" cy="79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=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danitelné příjm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náklady (výdaje) na dosažení, udržení  a zajištění příjm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2000" y="5421240"/>
              <a:ext cx="6586560" cy="468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ZÁKLAD DAN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2000" y="6899400"/>
              <a:ext cx="6586560" cy="407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*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zba dan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2000" y="7311960"/>
              <a:ext cx="6586560" cy="414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=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2000" y="6375240"/>
              <a:ext cx="6586560" cy="516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=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ÁKLAD DANĚ PO SNÍŽENÍ O ODČIT. POLOŽK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2000" y="5899320"/>
              <a:ext cx="6586560" cy="46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-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DČITATELNÉ POLOŽK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2000" y="8224920"/>
              <a:ext cx="6586560" cy="468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=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Ň PO SLEV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2000" y="7738920"/>
              <a:ext cx="6586560" cy="468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f0026"/>
                  </a:solidFill>
                  <a:latin typeface="Times New Roman"/>
                </a:rPr>
                <a:t>-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LEVY NA DA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Základní schéma odvodu DPH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0200" y="2600280"/>
            <a:ext cx="6573960" cy="5958720"/>
            <a:chOff x="160200" y="2600280"/>
            <a:chExt cx="6573960" cy="5958720"/>
          </a:xfrm>
        </p:grpSpPr>
        <p:grpSp>
          <p:nvGrpSpPr>
            <p:cNvPr id="266" name=""/>
            <p:cNvGrpSpPr/>
            <p:nvPr/>
          </p:nvGrpSpPr>
          <p:grpSpPr>
            <a:xfrm>
              <a:off x="160200" y="2600280"/>
              <a:ext cx="2802240" cy="2665080"/>
              <a:chOff x="160200" y="2600280"/>
              <a:chExt cx="2802240" cy="266508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200" y="2600280"/>
                <a:ext cx="2802240" cy="677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danitelné plnění v tuzemsk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0200" y="3309840"/>
                <a:ext cx="2802240" cy="1955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187200" indent="-187200">
                  <a:lnSpc>
                    <a:spcPct val="80000"/>
                  </a:lnSpc>
                  <a:spcBef>
                    <a:spcPts val="1375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dodání zboží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87200" indent="-187200">
                  <a:lnSpc>
                    <a:spcPct val="80000"/>
                  </a:lnSpc>
                  <a:spcBef>
                    <a:spcPts val="1375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kytování služeb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87200" indent="-187200">
                  <a:lnSpc>
                    <a:spcPct val="80000"/>
                  </a:lnSpc>
                  <a:spcBef>
                    <a:spcPts val="1375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řevod nemovitostí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87200" indent="-187200">
                  <a:lnSpc>
                    <a:spcPct val="80000"/>
                  </a:lnSpc>
                  <a:spcBef>
                    <a:spcPts val="1375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řevod a využití prům. a jiných práv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3186000" y="3041640"/>
              <a:ext cx="1947960" cy="176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odnikatelský subjekt registrovaný jako plátce DP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16480" y="3513240"/>
              <a:ext cx="1417680" cy="82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nanční úř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62440" y="3936960"/>
              <a:ext cx="21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33960" y="3936960"/>
              <a:ext cx="18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200" y="5807160"/>
              <a:ext cx="1886040" cy="38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ovoz zbož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5240" y="5587920"/>
              <a:ext cx="988920" cy="82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elní úř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86000" y="5786280"/>
              <a:ext cx="1349640" cy="427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Dovoz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48040" y="6012000"/>
              <a:ext cx="113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43560" y="6012000"/>
              <a:ext cx="119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0200" y="6859440"/>
              <a:ext cx="2837160" cy="1699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říležitostná autobusová doprava v tuzemsku provozovaná zahraničními provozovatel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45240" y="7299360"/>
              <a:ext cx="988920" cy="82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elní úř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86000" y="7497720"/>
              <a:ext cx="1830600" cy="427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rovozovat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00240" y="7723080"/>
              <a:ext cx="18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19840" y="7723080"/>
              <a:ext cx="723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50940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Přehled roztřídění zdanitelného plnění do jednotlivých sazeb daně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60" y="2290680"/>
            <a:ext cx="6724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SAZBA 22 % SE VZTAHUJE ZEJMÉNA N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zboží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kromě zboží uvedeného v příloze č. 1 zákona, které podléhá 5% sazbě daně)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služby uvedené v příloze č. 2 zákona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např. převážná většina stravovacích a ubytovacích služeb a služby cestovního ruchu, většina oprav zboží, obchodních a zprostředkovatelských služeb atd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operativní pronájem, vyjma pronájmu osobních automobilů, u kterých nebyl uplatněn odpočet dan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SAZBA 5 % SE VZTAHUJE ZEJMÉNA N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zboží uvedené v příloze č. 1 zákona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např. většina potravin, tepelná energie, léky a zdravotnické pomůcky, některé výrobky určené pro handicapované občany, knihy a časopisy atd.)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služby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kromě služeb uvedených v příloze č. 2 zákona)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řevod a využití práv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mimo operativní pronájem)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ronájem nemovitostí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pokud se plátce rozhodne pronajímat plátci s daní a tzv. krátkodobý pronáje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Některé sazby spotřebních daní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4120" y="2736720"/>
          <a:ext cx="634068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2736720"/>
                    <a:ext cx="634068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Pojistné na sociální pojištění a příspěvek na státní politiku zaměstnanosti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4440" y="3071520"/>
            <a:ext cx="5829120" cy="505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koliv daň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le obligatorní odvodová povinnost jednotlivců, zaměstnavatel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platb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3 pojm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ojistně na nemocenské pojištěn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ojistné na důchodové zabezpečen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říspěvek na státní politiku zaměstnanosti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42192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Návaznost předmětů o daních na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8120" y="2036520"/>
            <a:ext cx="5829480" cy="13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kalářském stupni stud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zabezpečuje KVF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640" y="5958000"/>
            <a:ext cx="5829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ženýrském studi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8680" y="3291840"/>
            <a:ext cx="6346800" cy="2413800"/>
            <a:chOff x="328680" y="3291840"/>
            <a:chExt cx="6346800" cy="2413800"/>
          </a:xfrm>
        </p:grpSpPr>
        <p:sp>
          <p:nvSpPr>
            <p:cNvPr id="87" name=""/>
            <p:cNvSpPr/>
            <p:nvPr/>
          </p:nvSpPr>
          <p:spPr>
            <a:xfrm>
              <a:off x="328680" y="3291840"/>
              <a:ext cx="1143000" cy="427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marL="343080" indent="-343080"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F 10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8680" y="4019400"/>
              <a:ext cx="1155600" cy="702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F 224</a:t>
              </a:r>
              <a:br>
                <a:rPr sz="22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 kred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68600" y="5003640"/>
              <a:ext cx="1150920" cy="702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F 327</a:t>
              </a:r>
              <a:br>
                <a:rPr sz="22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 kred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8680" y="5003640"/>
              <a:ext cx="1150920" cy="702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F 325</a:t>
              </a:r>
              <a:br>
                <a:rPr sz="22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 kred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54160" y="5003640"/>
              <a:ext cx="1151280" cy="702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F 328</a:t>
              </a:r>
              <a:br>
                <a:rPr sz="22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 kred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32160" y="5003640"/>
              <a:ext cx="1150920" cy="702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F 329</a:t>
              </a:r>
              <a:br>
                <a:rPr sz="22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 kred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24560" y="5003640"/>
              <a:ext cx="1150920" cy="702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F 309</a:t>
              </a:r>
              <a:br>
                <a:rPr sz="22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 kred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88840" y="373536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8840" y="4746600"/>
              <a:ext cx="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68320" y="4010040"/>
              <a:ext cx="1919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VV, cF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4000" y="6624360"/>
            <a:ext cx="6359400" cy="1757880"/>
            <a:chOff x="324000" y="6624360"/>
            <a:chExt cx="6359400" cy="1757880"/>
          </a:xfrm>
        </p:grpSpPr>
        <p:sp>
          <p:nvSpPr>
            <p:cNvPr id="98" name=""/>
            <p:cNvSpPr/>
            <p:nvPr/>
          </p:nvSpPr>
          <p:spPr>
            <a:xfrm>
              <a:off x="1676520" y="7680240"/>
              <a:ext cx="1150920" cy="702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F 425</a:t>
              </a:r>
              <a:br>
                <a:rPr sz="22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 kred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4000" y="7680240"/>
              <a:ext cx="1150920" cy="702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F 414</a:t>
              </a:r>
              <a:br>
                <a:rPr sz="22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 kred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62440" y="7680240"/>
              <a:ext cx="1150920" cy="702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F 527</a:t>
              </a:r>
              <a:br>
                <a:rPr sz="22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 kred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40080" y="7680240"/>
              <a:ext cx="1150920" cy="702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F 326</a:t>
              </a:r>
              <a:br>
                <a:rPr sz="22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 kred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2480" y="7680240"/>
              <a:ext cx="1150920" cy="702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F 405</a:t>
              </a:r>
              <a:br>
                <a:rPr sz="22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 kred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4000" y="6624360"/>
              <a:ext cx="1155600" cy="702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F 418</a:t>
              </a:r>
              <a:br>
                <a:rPr sz="22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 kred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4800" y="7356600"/>
              <a:ext cx="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4760" y="411120"/>
            <a:ext cx="582948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Sociální zabezpečení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9640" y="1765440"/>
            <a:ext cx="5770800" cy="16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 zaměstnavatel - 26%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26,25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- zaměstnanec   -   8%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8,75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4%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35 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81160" y="1278000"/>
            <a:ext cx="27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</a:rPr>
              <a:t>r. 1996   r.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0120" y="3306600"/>
            <a:ext cx="57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vyměř. základ = objem vyplacených mez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796000"/>
            <a:ext cx="616104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vyměřovací zákl. - od DDZ u DP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r. 1996</a:t>
            </a: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    r.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sazba</a:t>
            </a: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34% DDZ</a:t>
            </a: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  35% DD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bez nemocenské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29,6% DDZ</a:t>
            </a: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 CE"/>
              </a:rPr>
              <a:t>  30,2% DD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7200" y="3882960"/>
            <a:ext cx="63928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u OSVČ </a:t>
            </a:r>
            <a:r>
              <a:rPr b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 pojistné na důchodové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zabezpeč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příspěvek na politiku zaměstna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- příspěvek na nemocenské pojištění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 CE"/>
              </a:rPr>
              <a:t> dobrovoln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Pojistné na všeobecné zdravotní pojištění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učást celkové odvodové povinnos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zba - 13,5 % vyměřovacího základ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z toho: 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zaměstnanec - 4,5 %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zaměstnavatel - 9 %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 OSVČ - 13,5 % vyměřovacího základu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omácí úkol v 7. týdnu výuky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 metodické příručky (Hamerníková a kol.) odpovědi na otázky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 90 /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 91 / 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36180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17520" y="482760"/>
            <a:ext cx="6222960" cy="23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 /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ypočtěte velikost daně v systému klouzavě progresivní osobní důchodové daně. Důchod poplatníka činí 200 000 Kč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00160" y="3157560"/>
          <a:ext cx="6492600" cy="356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157560"/>
                    <a:ext cx="6492600" cy="35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694224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</a:rPr>
              <a:t>Nezdanitelná částka činí 26 400 Kč, sleva na dani (nikoli odčitatelná položka) 3 000 Kč, pojistné na zdravotní a sociální pojištění je u dané osoby 26 000 Kč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440" y="54900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9840" y="307800"/>
            <a:ext cx="617832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1 / 7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 lineární důchodovou daň platí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) s růstem důchodu sazba daně rost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) s růstem důchodu sazba daně klesá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) s růstem důchodu je sazba daně konstantní 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) částka daně s růstem důchodu klesá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) částka daně s růstem důchodu rost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) částka daně se s růstem důchodu nemění (je konstantní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aňová kvóta se má snižov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95120" y="2959200"/>
          <a:ext cx="649944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" y="2959200"/>
                    <a:ext cx="649944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0" name=""/>
          <p:cNvGrpSpPr/>
          <p:nvPr/>
        </p:nvGrpSpPr>
        <p:grpSpPr>
          <a:xfrm>
            <a:off x="485640" y="1747800"/>
            <a:ext cx="5481720" cy="1116360"/>
            <a:chOff x="485640" y="1747800"/>
            <a:chExt cx="5481720" cy="1116360"/>
          </a:xfrm>
        </p:grpSpPr>
        <p:sp>
          <p:nvSpPr>
            <p:cNvPr id="311" name=""/>
            <p:cNvSpPr/>
            <p:nvPr/>
          </p:nvSpPr>
          <p:spPr>
            <a:xfrm>
              <a:off x="485640" y="2047680"/>
              <a:ext cx="256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ňová kvóta =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79640" y="1747800"/>
              <a:ext cx="308772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ňové výnos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D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11480" y="2309760"/>
              <a:ext cx="271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0" y="6165720"/>
            <a:ext cx="68565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le ministra financí Ivana Kočárníka (ODS) dojde příští rok k výraznějšímu snížení daňového břemene. Např. sazba daně z příjmů právnických osob má klesnout z nynějších 41 % na 39 % až 38 %. U fyzických osob vzroste nezdanitelné minimum z 24 000 na 26 400 Kč ročně. Dále má být rozšířeno nejnižší pásmo zdanění 15 % až do 84 000 Kč základu daně (dosud do 60 000 Kč). Maximální sazba daně z příjmů fyzických osob, která se týká lidí se zdanitelnými příjmy nad 1 080 000 Kč, se má snížit ze 43 na 41 až 40 %. O něco klesne i sazba pojistného na sociální zabezpečen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Sazba daně z příjmu PO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2%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1%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9%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9%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5%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5960" y="2998800"/>
            <a:ext cx="5583240" cy="25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nčurová, A. a kol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ňový systém ČR aneb učebnice daňového prá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X, Praha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760" y="31680"/>
            <a:ext cx="6362640" cy="9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aně, které lze vybírat v ČR 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7680" y="1501920"/>
          <a:ext cx="6618240" cy="69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501920"/>
                    <a:ext cx="6618240" cy="69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44440" y="849240"/>
            <a:ext cx="6289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on č. 212/1992 Sb. o soustavě da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412120"/>
            <a:ext cx="6856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*Zákon č. 337/1992 Sb. o správě daní a poplatků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37960"/>
            <a:ext cx="68565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aňové a daním podobné příjmy státního rozpočtu ČR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3240" y="1801800"/>
            <a:ext cx="345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daňové příjm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3240" y="5170320"/>
            <a:ext cx="149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ňov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373480"/>
            <a:ext cx="632304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ojistné na soc. pojištění a příspěvek na politiku zaměstnanos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ovinné příspěvky do státních fond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l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18960" y="3772080"/>
            <a:ext cx="6537600" cy="5236920"/>
            <a:chOff x="318960" y="3772080"/>
            <a:chExt cx="6537600" cy="5236920"/>
          </a:xfrm>
        </p:grpSpPr>
        <p:sp>
          <p:nvSpPr>
            <p:cNvPr id="117" name=""/>
            <p:cNvSpPr/>
            <p:nvPr/>
          </p:nvSpPr>
          <p:spPr>
            <a:xfrm>
              <a:off x="438120" y="4221000"/>
              <a:ext cx="1990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římé dan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8960" y="7450200"/>
              <a:ext cx="2308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přímé dan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84520" y="3808440"/>
              <a:ext cx="281304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z příjmů</a:t>
              </a:r>
              <a:br>
                <a:rPr sz="2600"/>
              </a:b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84520" y="4789440"/>
              <a:ext cx="18684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majetkové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84520" y="7194600"/>
              <a:ext cx="41068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všeobecné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z přidané hodnot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91120" y="7878600"/>
              <a:ext cx="2633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663480"/>
                  <a:tab algn="l" pos="1327320"/>
                  <a:tab algn="l" pos="1990800"/>
                  <a:tab algn="l" pos="2654280"/>
                  <a:tab algn="l" pos="3317760"/>
                  <a:tab algn="l" pos="3981600"/>
                  <a:tab algn="l" pos="4645080"/>
                  <a:tab algn="l" pos="5308560"/>
                  <a:tab algn="l" pos="5972040"/>
                  <a:tab algn="l" pos="6635880"/>
                  <a:tab algn="l" pos="7299360"/>
                  <a:tab algn="l" pos="7962840"/>
                  <a:tab algn="l" pos="8626320"/>
                  <a:tab algn="l" pos="9290160"/>
                  <a:tab algn="l" pos="9953640"/>
                  <a:tab algn="l" pos="1061712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spotřební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663480"/>
                  <a:tab algn="l" pos="1327320"/>
                  <a:tab algn="l" pos="1990800"/>
                  <a:tab algn="l" pos="2654280"/>
                  <a:tab algn="l" pos="3317760"/>
                  <a:tab algn="l" pos="3981600"/>
                  <a:tab algn="l" pos="4645080"/>
                  <a:tab algn="l" pos="5308560"/>
                  <a:tab algn="l" pos="5972040"/>
                  <a:tab algn="l" pos="6635880"/>
                  <a:tab algn="l" pos="7299360"/>
                  <a:tab algn="l" pos="7962840"/>
                  <a:tab algn="l" pos="8626320"/>
                  <a:tab algn="l" pos="9290160"/>
                  <a:tab algn="l" pos="9953640"/>
                  <a:tab algn="l" pos="1061712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k ochraně život. prostředí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563840" y="4808160"/>
              <a:ext cx="318960" cy="2665800"/>
              <a:chOff x="1563840" y="4808160"/>
              <a:chExt cx="318960" cy="266580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1565280" y="4808160"/>
                <a:ext cx="317520" cy="1328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563840" y="6145200"/>
                <a:ext cx="317520" cy="1328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370240" y="4043520"/>
              <a:ext cx="230040" cy="919080"/>
              <a:chOff x="2370240" y="4043520"/>
              <a:chExt cx="230040" cy="919080"/>
            </a:xfrm>
          </p:grpSpPr>
          <p:sp>
            <p:nvSpPr>
              <p:cNvPr id="127" name=""/>
              <p:cNvSpPr/>
              <p:nvPr/>
            </p:nvSpPr>
            <p:spPr>
              <a:xfrm flipV="1">
                <a:off x="2371680" y="404352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370240" y="4503600"/>
                <a:ext cx="228600" cy="4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579760" y="7345440"/>
              <a:ext cx="182520" cy="731880"/>
              <a:chOff x="2579760" y="7345440"/>
              <a:chExt cx="182520" cy="731880"/>
            </a:xfrm>
          </p:grpSpPr>
          <p:sp>
            <p:nvSpPr>
              <p:cNvPr id="130" name=""/>
              <p:cNvSpPr/>
              <p:nvPr/>
            </p:nvSpPr>
            <p:spPr>
              <a:xfrm flipV="1">
                <a:off x="2581200" y="7345440"/>
                <a:ext cx="181080" cy="36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79760" y="7711920"/>
                <a:ext cx="18108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4191120" y="3772080"/>
              <a:ext cx="26654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yzických osob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právnických osob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91120" y="4762440"/>
              <a:ext cx="2627280" cy="23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z nemovitostí </a:t>
              </a:r>
              <a:br>
                <a:rPr sz="2600"/>
              </a:b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z pozemků</a:t>
              </a:r>
              <a:br>
                <a:rPr sz="2600"/>
              </a:b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ze staveb</a:t>
              </a:r>
              <a:br>
                <a:rPr sz="2600"/>
              </a:b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silniční</a:t>
              </a:r>
              <a:br>
                <a:rPr sz="2600"/>
              </a:b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dědická</a:t>
              </a:r>
              <a:br>
                <a:rPr sz="2600"/>
              </a:b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darovací</a:t>
              </a:r>
              <a:br>
                <a:rPr sz="2600"/>
              </a:b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z převodu nemov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84520" y="7772400"/>
              <a:ext cx="15238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výběrové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85760" y="3070080"/>
            <a:ext cx="491508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uhlovodíkových paliv a maziv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lihovin a destilátů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vín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piv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abákových výrobk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440" y="2533680"/>
            <a:ext cx="287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spotřební daně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488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Schéma daňových a odvodových toků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1000" y="2317680"/>
            <a:ext cx="6651720" cy="6373800"/>
            <a:chOff x="81000" y="2317680"/>
            <a:chExt cx="6651720" cy="6373800"/>
          </a:xfrm>
        </p:grpSpPr>
        <p:sp>
          <p:nvSpPr>
            <p:cNvPr id="140" name=""/>
            <p:cNvSpPr/>
            <p:nvPr/>
          </p:nvSpPr>
          <p:spPr>
            <a:xfrm>
              <a:off x="2309760" y="2349000"/>
              <a:ext cx="2108160" cy="823320"/>
            </a:xfrm>
            <a:prstGeom prst="rect">
              <a:avLst/>
            </a:prstGeom>
            <a:noFill/>
            <a:ln w="25560">
              <a:solidFill>
                <a:srgbClr val="bf0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zdravotní pojišťovn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5760" y="2317680"/>
              <a:ext cx="1649520" cy="1003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zdravotní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ojistn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83200" y="2317680"/>
              <a:ext cx="1649520" cy="1003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zdravotní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ojistn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89520" y="3803760"/>
              <a:ext cx="1832040" cy="677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polečnost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76600" y="5442120"/>
              <a:ext cx="1503360" cy="1157040"/>
            </a:xfrm>
            <a:prstGeom prst="rect">
              <a:avLst/>
            </a:prstGeom>
            <a:noFill/>
            <a:ln w="25560">
              <a:solidFill>
                <a:srgbClr val="bf0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tátní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ozpoče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3600" y="7662960"/>
              <a:ext cx="1446120" cy="1028520"/>
            </a:xfrm>
            <a:prstGeom prst="rect">
              <a:avLst/>
            </a:prstGeom>
            <a:noFill/>
            <a:ln w="25560">
              <a:solidFill>
                <a:srgbClr val="bf0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místní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ozpočt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000" y="3822840"/>
              <a:ext cx="1906560" cy="628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omácnost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080" y="4565520"/>
              <a:ext cx="1200240" cy="654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daně ze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potřeb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59280" y="4832280"/>
              <a:ext cx="1187640" cy="72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daně z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příjmů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080" y="6753240"/>
              <a:ext cx="1187640" cy="749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daně z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příjmů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59280" y="6507000"/>
              <a:ext cx="1187640" cy="63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majet.</a:t>
              </a:r>
              <a:br>
                <a:rPr sz="2600"/>
              </a:b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daně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59280" y="5724360"/>
              <a:ext cx="1187640" cy="63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soc. </a:t>
              </a:r>
              <a:br>
                <a:rPr sz="2600"/>
              </a:b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pojistné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4080" y="5300640"/>
              <a:ext cx="1187640" cy="63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soc. </a:t>
              </a:r>
              <a:br>
                <a:rPr sz="2600"/>
              </a:b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pojistné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4080" y="6010200"/>
              <a:ext cx="1187640" cy="63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majet.</a:t>
              </a:r>
              <a:br>
                <a:rPr sz="2600"/>
              </a:b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daně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38160" y="2895480"/>
              <a:ext cx="466920" cy="0"/>
            </a:xfrm>
            <a:prstGeom prst="line">
              <a:avLst/>
            </a:prstGeom>
            <a:ln w="25560">
              <a:solidFill>
                <a:srgbClr val="bf002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57880" y="2876400"/>
              <a:ext cx="628560" cy="9720"/>
            </a:xfrm>
            <a:prstGeom prst="line">
              <a:avLst/>
            </a:prstGeom>
            <a:ln w="25560">
              <a:solidFill>
                <a:srgbClr val="bf002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4880" y="3324240"/>
              <a:ext cx="0" cy="485640"/>
            </a:xfrm>
            <a:prstGeom prst="line">
              <a:avLst/>
            </a:prstGeom>
            <a:ln w="25560">
              <a:solidFill>
                <a:srgbClr val="bf002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19920" y="3324240"/>
              <a:ext cx="0" cy="476280"/>
            </a:xfrm>
            <a:prstGeom prst="line">
              <a:avLst/>
            </a:prstGeom>
            <a:ln w="25560">
              <a:solidFill>
                <a:srgbClr val="bf002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4440" y="4467240"/>
              <a:ext cx="0" cy="268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4440" y="7153200"/>
              <a:ext cx="266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4440" y="6343560"/>
              <a:ext cx="266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4440" y="5638680"/>
              <a:ext cx="266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4440" y="4933800"/>
              <a:ext cx="266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50040" y="4497480"/>
              <a:ext cx="0" cy="234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063840" y="6837480"/>
              <a:ext cx="27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063840" y="6032520"/>
              <a:ext cx="27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063840" y="5207040"/>
              <a:ext cx="27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191120" y="6021360"/>
              <a:ext cx="666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835440" y="520704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855600" y="6831000"/>
              <a:ext cx="99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006640" y="4929120"/>
              <a:ext cx="100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78200" y="7147080"/>
              <a:ext cx="995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984320" y="5635800"/>
              <a:ext cx="68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976400" y="6327720"/>
              <a:ext cx="69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16080" y="4927680"/>
              <a:ext cx="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984400" y="6603480"/>
              <a:ext cx="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41920" y="5200560"/>
              <a:ext cx="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52720" y="6597720"/>
              <a:ext cx="0" cy="23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55920" y="7505640"/>
              <a:ext cx="0" cy="723960"/>
            </a:xfrm>
            <a:prstGeom prst="line">
              <a:avLst/>
            </a:prstGeom>
            <a:ln w="25560">
              <a:solidFill>
                <a:srgbClr val="bf0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49440" y="8223120"/>
              <a:ext cx="1149480" cy="0"/>
            </a:xfrm>
            <a:prstGeom prst="line">
              <a:avLst/>
            </a:prstGeom>
            <a:ln w="25560">
              <a:solidFill>
                <a:srgbClr val="bf002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52960" y="8217000"/>
              <a:ext cx="1149120" cy="0"/>
            </a:xfrm>
            <a:prstGeom prst="line">
              <a:avLst/>
            </a:prstGeom>
            <a:ln w="25560">
              <a:solidFill>
                <a:srgbClr val="bf002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302080" y="7149960"/>
              <a:ext cx="0" cy="1067040"/>
            </a:xfrm>
            <a:prstGeom prst="line">
              <a:avLst/>
            </a:prstGeom>
            <a:ln w="25560">
              <a:solidFill>
                <a:srgbClr val="bf0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0440" y="6330960"/>
              <a:ext cx="0" cy="156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54320" y="7893000"/>
              <a:ext cx="4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aňové určení jednotlivých daní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0200" y="1725480"/>
            <a:ext cx="6535800" cy="4468680"/>
            <a:chOff x="160200" y="1725480"/>
            <a:chExt cx="6535800" cy="4468680"/>
          </a:xfrm>
        </p:grpSpPr>
        <p:sp>
          <p:nvSpPr>
            <p:cNvPr id="186" name=""/>
            <p:cNvSpPr/>
            <p:nvPr/>
          </p:nvSpPr>
          <p:spPr>
            <a:xfrm>
              <a:off x="160200" y="1725480"/>
              <a:ext cx="3081600" cy="5526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tátní rozpoč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14760" y="1725480"/>
              <a:ext cx="3081240" cy="5526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municipál. rozpoč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60200" y="2574720"/>
              <a:ext cx="3081600" cy="2241720"/>
              <a:chOff x="160200" y="2574720"/>
              <a:chExt cx="3081600" cy="2241720"/>
            </a:xfrm>
          </p:grpSpPr>
          <p:sp>
            <p:nvSpPr>
              <p:cNvPr id="189" name=""/>
              <p:cNvSpPr/>
              <p:nvPr/>
            </p:nvSpPr>
            <p:spPr>
              <a:xfrm>
                <a:off x="160200" y="2574720"/>
                <a:ext cx="3081600" cy="55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marL="343080" indent="-343080"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P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0200" y="3138480"/>
                <a:ext cx="3081600" cy="552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marL="343080" indent="-343080"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potřební daně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60200" y="3701880"/>
                <a:ext cx="3081600" cy="55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marL="343080" indent="-343080"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aň silniční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60200" y="4263840"/>
                <a:ext cx="3081600" cy="55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marL="343080" indent="-343080"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aně převodové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614760" y="2574720"/>
              <a:ext cx="3081240" cy="552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ň z nemovitost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749160" y="5084640"/>
              <a:ext cx="5334120" cy="1109520"/>
              <a:chOff x="749160" y="5084640"/>
              <a:chExt cx="5334120" cy="1109520"/>
            </a:xfrm>
          </p:grpSpPr>
          <p:sp>
            <p:nvSpPr>
              <p:cNvPr id="195" name=""/>
              <p:cNvSpPr/>
              <p:nvPr/>
            </p:nvSpPr>
            <p:spPr>
              <a:xfrm>
                <a:off x="749160" y="5084640"/>
                <a:ext cx="5334120" cy="552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marL="343080" indent="-343080"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aň z příjmů fyzických oso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9160" y="5641920"/>
                <a:ext cx="5334120" cy="552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marL="343080" indent="-343080"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aň z příjmů právnických oso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-1440" y="6310440"/>
            <a:ext cx="68562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k vyplývá ze schématu, daně ze spotřeby, převodové daně i daň silniční plynou výhradně do centrálního rozpočtu. Naproti tomu výnos daně z nemovitostí je výhradním příjmem rozpočtů obcí. Nejsložitější je rozpočtové určení daní z příjmů. Státní rozpočet má převažující podíl na dani z příjmů právnických osob, její malá část však plyne do rozpočtů obcí. U daně z příjmů fyzických osob je tomu naopak. O převážnou část výnosu se dělí okresní rozpočty s rozpočty obcí a jen velmi malá část výnosu směřuje do státního rozpoč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Správce daně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440" y="2114640"/>
            <a:ext cx="5829120" cy="60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ÚFO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územní finanční orgán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iné státní orgány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lní orgány (např. u DPH a spotřební daně při dovozu zboží, u cel, poplatků a dalších dávek, malou část silniční daně apod.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orgány vyměřující sankční poplatky (např. Policie ČR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územní orgány (místní a správní poplatky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>Klazar</dc:creator>
  <dc:description/>
  <dc:language>en-US</dc:language>
  <cp:lastModifiedBy>KVF</cp:lastModifiedBy>
  <cp:lastPrinted>1998-12-01T08:40:33Z</cp:lastPrinted>
  <dcterms:modified xsi:type="dcterms:W3CDTF">1998-12-01T08:42:29Z</dcterms:modified>
  <cp:revision>64</cp:revision>
  <dc:subject/>
  <dc:title>No Slide Title</dc:title>
</cp:coreProperties>
</file>